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16/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se performance degrading 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/etc/passwd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magic script usage; explain strict locking, reference items such as MS Access file locking and similar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al notes on the abundance of user/developer feedback, describe personal experiences on questions and answer sessions, direct developer su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80B5-A207-46BD-9E80-ABA70242D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64C4-654B-4A48-A9D3-E883C222E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9C68-8608-4304-855B-30DF1D7B7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C6FB-5526-4B32-A3B6-94576D896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C5D1E-1B3E-4AF8-9753-D6240F34D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CDD3D-A016-42F8-B3AF-0FDD2DC34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B9475-8EF2-41C6-91A3-0AAABA3A1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97C43-6146-4BB8-965C-58A37E681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B0C02-CD91-446D-B3B8-1C7A38CC6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08090-EC6D-402C-90C3-7E50BB63B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85E14-E52E-416D-A7BC-D028C163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4CEA-1AFC-43D1-821C-BA5210E7D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64E1F-6C9D-472D-81A8-9AD790A4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254AE-A3E1-449A-8148-AACAB1D5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D16A1-E18E-4834-A203-C44C6A635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B0C0A-9EF6-4219-8BD5-A61DA12BB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34D06-2941-4590-A8C2-2FBCD4C83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FC18-2561-42DB-8231-97FF51A36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6007-31FF-4820-9C85-3D468FC59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74AE-413D-4694-B756-EB093252B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0ADC-3ADE-44AE-8D27-636156FC5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76EB-863D-42B0-A1F0-C27D58F6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C37D-8F4C-4F39-B859-F3584239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0BB2-02B9-4AD9-B6CB-34D004B1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1735B-1E49-4927-93B7-AFE97E4F04D2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33DBE-BD34-4E6D-83D3-349F4D19FD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3DEC-0643-4903-9507-605492DAE430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E8EDB-5259-400B-9ABC-CE3055E965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amba Integr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ian Robers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LUG meeting, April 1999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952E3DBC-C2C8-494D-AF92-A7C60325B76E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DFBBC0-0AE5-435E-9ACB-3C635274B9D6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erv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another SMB server for authentic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query fails, reverts to security = 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encrypted passwords were negotiated, will not revert to use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BAA4EE-417E-4D1E-9828-5D33D9B2E9D9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FA38D2-58AF-4170-B0F9-C0E889D05A7A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domai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ill only work if `smbpasswd` was used to add machine to a 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nly accepts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alidates users exactly the same as NT does, against a PDC or BD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urrent problem with multi-byte character set usernam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374CE2-169A-4DA4-A45A-6CC88FF784E1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figuration File Layou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pecial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ice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8067D0-04D7-4540-90F1-A3413ECB0ED1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pecial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global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home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printer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D034D5-78AB-46F4-85ED-CD47B759F7D2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global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ptions apply to server as a who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ny service parameter can be specified in the global section, they will serve as the ‘default’ for all servic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ad time &amp; keep alive, widelinks &amp; getwd cache, socket options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FBA722-2EBB-46BF-AEC7-3C523DFA80DC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home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en connection request is made, If no match is found, its treated as a username and looked up in the local /etc/password file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guest access is specified, all home directories are visi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A78AAD-96F8-427C-A709-57846E84521F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printer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nection sequence; scan existing sections, if [homes] section exists, used as previously described, request then treated as printer name and appropriate printcap file is scanned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e to use `lpstat` in place of /etc/printcap ( SYSV / LPRng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562553-6DF9-48A8-BFA3-CC704E5BD5D2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rdinary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E94F5B-3837-41C6-9AFE-795337BB49EC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egration Of Samb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uthentication schem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figuration File Layou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s ( Services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1B0D06-033B-4C2F-BA08-EB28F65C8EE7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whatever you want to show up as a comment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synonym for “guest ok” ( allow this share to be readable by other than valid users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blic = no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se people are allowed to read (open)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name1, name 2, @group2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these people are in @group2 but we don’t want to give them acces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valid users = name3, name5, @group1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llow this service to be written to, by valid 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is is not a printable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who is allowed to write to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e list = name1, @group2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 next two options are to change the Unix modes when files/directories are made.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file creation ( we want the group to be able to edit it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create mode = 0660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directory made in this share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( we want the group to be able to get it/change it, and world `cd`abl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directory mode = 077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06E40D-5FA5-4E6E-908C-02C9EE243F80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2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servicename2, put you want he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uest ok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@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fter mapping from DOS modes to UNIX permissions, bit-wise `AND`ed  the permissions with these valu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default create mask is: 0744 , default directory create mask is: 075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 e.g. we want these to be read/written/viewed by user only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irectory 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04725C-CEA4-46CE-BED8-B08C12750D8D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lete readonl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eto fil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styp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magic scrip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trict lock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D4B36E-6F3F-41AE-B1C7-81B822AFA8C7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QUESTIONS &amp; ANSW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 are your frien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enty of online document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y the best user/developer suppor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83ACC5-ABC2-4D69-8E5E-844495423C7C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ttp://www.samba.or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cumentation in the source cod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60E1E9-3574-49B4-A45F-179F1CE3A699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3C9BA6-B1C3-413E-87F7-DB669D7DB596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2C43ED-BE3D-446A-9CF4-C80E7E70D1FE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har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evious versions, this was defaul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amba always uses a valid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ral techniques to determine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user cant be determined, the “guest” account if supplied gets us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0FEC37-5473-4D83-9E04-371EC5FA5099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ED8D0A-3612-4A08-B78B-B96BD1A0B3DF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us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fault selection in 2.0.x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 must “logon” to gain access to a 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ncrypted passwords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ee next two slid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39BDDF-13C9-4465-8CC2-13392881CCD5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eparate password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ssword storage is not one way crypt like standard UNIX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95 OSR2, NT4sp3 &amp; up, default’s to only send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ain text passwords are never sent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4D02E8-D527-425A-B7C8-13E732F57605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pecial registry entry on client (win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/etc/passwd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nds plain text passwords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sure if future win-X will support this fea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C0D55B-6557-47F0-A5CA-0FC2577C4784}" type="datetime1">
              <a:rPr lang="en-US"/>
              <a:t>07/31/26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7T08:14:35Z</dcterms:created>
  <dc:creator>Brian Roberson</dc:creator>
  <dc:description/>
  <cp:keywords>Brief Samba Presentation</cp:keywords>
  <dc:language>en-US</dc:language>
  <cp:lastModifiedBy>Brian Roberson</cp:lastModifiedBy>
  <dcterms:modified xsi:type="dcterms:W3CDTF">1999-04-19T01:16:12Z</dcterms:modified>
  <cp:revision>13</cp:revision>
  <dc:subject>Overview of Options</dc:subject>
  <dc:title>Samba Integ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bstc.net/~brian</vt:lpwstr>
  </property>
  <property fmtid="{D5CDD505-2E9C-101B-9397-08002B2CF9AE}" pid="9" name="LinkColor">
    <vt:r8>16711782</vt:r8>
  </property>
  <property fmtid="{D5CDD505-2E9C-101B-9397-08002B2CF9AE}" pid="10" name="MailAddress">
    <vt:lpwstr>brian@bstc.net</vt:lpwstr>
  </property>
  <property fmtid="{D5CDD505-2E9C-101B-9397-08002B2CF9AE}" pid="11" name="NavBtnPos">
    <vt:r8>3</vt:r8>
  </property>
  <property fmtid="{D5CDD505-2E9C-101B-9397-08002B2CF9AE}" pid="12" name="Other">
    <vt:lpwstr>OLUG presentation</vt:lpwstr>
  </property>
  <property fmtid="{D5CDD505-2E9C-101B-9397-08002B2CF9AE}" pid="13" name="OutputDir">
    <vt:lpwstr>\\Beast\html\slides</vt:lpwstr>
  </property>
  <property fmtid="{D5CDD505-2E9C-101B-9397-08002B2CF9AE}" pid="14" name="Owner">
    <vt:lpwstr>PUBLIC-GNU-GPL</vt:lpwstr>
  </property>
  <property fmtid="{D5CDD505-2E9C-101B-9397-08002B2CF9AE}" pid="15" name="Purpose">
    <vt:lpwstr>OLUG Meeting, April 1999</vt:lpwstr>
  </property>
  <property fmtid="{D5CDD505-2E9C-101B-9397-08002B2CF9AE}" pid="16" name="Reference">
    <vt:lpwstr>Man Pages, source code</vt:lpwstr>
  </property>
  <property fmtid="{D5CDD505-2E9C-101B-9397-08002B2CF9AE}" pid="17" name="ScreenSize">
    <vt:r8>1</vt:r8>
  </property>
  <property fmtid="{D5CDD505-2E9C-101B-9397-08002B2CF9AE}" pid="18" name="ScreenUsage">
    <vt:r8>1</vt:r8>
  </property>
  <property fmtid="{D5CDD505-2E9C-101B-9397-08002B2CF9AE}" pid="19" name="ShowNotes">
    <vt:bool>0</vt:bool>
  </property>
  <property fmtid="{D5CDD505-2E9C-101B-9397-08002B2CF9AE}" pid="20" name="Source">
    <vt:lpwstr>Samba Man Pages, and various other documentation included in the samba source code</vt:lpwstr>
  </property>
  <property fmtid="{D5CDD505-2E9C-101B-9397-08002B2CF9AE}" pid="21" name="TemplateType">
    <vt:r8>1</vt:r8>
  </property>
  <property fmtid="{D5CDD505-2E9C-101B-9397-08002B2CF9AE}" pid="22" name="TextColor">
    <vt:r8>0</vt:r8>
  </property>
  <property fmtid="{D5CDD505-2E9C-101B-9397-08002B2CF9AE}" pid="23" name="TransparentButton">
    <vt:r8>0</vt:r8>
  </property>
  <property fmtid="{D5CDD505-2E9C-101B-9397-08002B2CF9AE}" pid="24" name="UseBrowserColor">
    <vt:bool>1</vt:bool>
  </property>
  <property fmtid="{D5CDD505-2E9C-101B-9397-08002B2CF9AE}" pid="25" name="VisitedColor">
    <vt:r8>10040268</vt:r8>
  </property>
</Properties>
</file>