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AB837-B112-44AB-8DDD-3F2C60FEF8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5B8E-586D-4C42-B241-B63554F1A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B02F-5A20-42C2-A293-DE738BFF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F0A-7D40-49F3-8843-F34EEF9C4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C58E-3D3A-4CF2-AA4A-2F7CA3A1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7330-D88C-40C5-B1A9-B86FB7BCB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8283-474B-4F11-A417-8CDB7B2A5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2E9A-D720-4FC3-A2F5-8AE03D866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362A-59F9-47FC-9AED-0A20733C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B122D-6B24-477B-B9B3-1D48B71C2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6251-B929-45C6-BD1A-1292962D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CFD-E6C5-49CA-80E8-1B9E0AF8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B967C45-3BE1-41BE-86B4-FEC47D8E29A0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260280" y="6511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F494E-D2E2-4E50-AA73-5257A85AE805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" name=""/>
          <p:cNvGraphicFramePr/>
          <p:nvPr/>
        </p:nvGraphicFramePr>
        <p:xfrm>
          <a:off x="7219800" y="6480"/>
          <a:ext cx="1851120" cy="601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219800" y="6480"/>
                    <a:ext cx="18511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" name=""/>
          <p:cNvSpPr/>
          <p:nvPr/>
        </p:nvSpPr>
        <p:spPr>
          <a:xfrm>
            <a:off x="7467480" y="6613560"/>
            <a:ext cx="15958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SEM08-14 rev.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Mar</a:t>
            </a:r>
            <a:r>
              <a:rPr b="0" lang="en-GB" sz="1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d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d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afd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fafd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Specialist</a:t>
            </a:r>
            <a:r>
              <a:rPr b="1" lang="fr-F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Task Forces (STFs)</a:t>
            </a: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Alberto BERRINI</a:t>
            </a:r>
            <a:br>
              <a:rPr sz="3600"/>
            </a:b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CPM department</a:t>
            </a:r>
            <a:br>
              <a:rPr sz="2800"/>
            </a:br>
            <a:r>
              <a:rPr b="1" i="1" lang="en-GB" sz="2000" spc="-1" strike="noStrike">
                <a:solidFill>
                  <a:srgbClr val="fafd00"/>
                </a:solidFill>
                <a:latin typeface="Arial"/>
              </a:rPr>
              <a:t>Specialist Task Forces - Project Manager</a:t>
            </a:r>
            <a:endParaRPr b="1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transition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1600200" y="3886200"/>
            <a:ext cx="518148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GA endorsemen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35268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ard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600200" y="281952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s negoti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00200" y="2286000"/>
            <a:ext cx="30481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Member’s consult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15200" y="30481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071880" y="1389240"/>
            <a:ext cx="1903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Preparation of the STF Work Programme 200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315200" y="2133720"/>
            <a:ext cx="15238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C/EF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315200" y="1219320"/>
            <a:ext cx="1444680" cy="609480"/>
          </a:xfrm>
          <a:prstGeom prst="ellipse">
            <a:avLst/>
          </a:prstGeom>
          <a:solidFill>
            <a:srgbClr val="baba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ET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00200" y="175248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proposals (To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1143000"/>
            <a:ext cx="1828800" cy="266688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600200" y="1219320"/>
            <a:ext cx="302580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i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18520" y="3429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4-25 O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2680" y="289548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Oc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6720" y="228600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Sept 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600200" y="5105520"/>
            <a:ext cx="2971800" cy="11430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Work Program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2002 in pl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05520"/>
            <a:ext cx="1828800" cy="114300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ing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or new STF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in 200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91320" y="4343400"/>
            <a:ext cx="0" cy="609480"/>
          </a:xfrm>
          <a:prstGeom prst="line">
            <a:avLst/>
          </a:prstGeom>
          <a:ln w="76320">
            <a:solidFill>
              <a:srgbClr val="fafd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92960" y="396252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-21 No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858000" y="1600200"/>
            <a:ext cx="457200" cy="22860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6858000" y="2438280"/>
            <a:ext cx="45720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 flipV="1">
            <a:off x="6858000" y="3124080"/>
            <a:ext cx="457200" cy="15264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0880" y="13716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Se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880" y="5257800"/>
            <a:ext cx="914400" cy="609480"/>
          </a:xfrm>
          <a:prstGeom prst="wedgeRoundRectCallout">
            <a:avLst>
              <a:gd name="adj1" fmla="val 49652"/>
              <a:gd name="adj2" fmla="val 74740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 Jan</a:t>
            </a:r>
            <a:br>
              <a:rPr sz="1800"/>
            </a:b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1981080" y="44956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perts’ avail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981080" y="3505320"/>
            <a:ext cx="6019920" cy="914400"/>
            <a:chOff x="1981080" y="3505320"/>
            <a:chExt cx="6019920" cy="914400"/>
          </a:xfrm>
        </p:grpSpPr>
        <p:sp>
          <p:nvSpPr>
            <p:cNvPr id="453" name=""/>
            <p:cNvSpPr/>
            <p:nvPr/>
          </p:nvSpPr>
          <p:spPr>
            <a:xfrm>
              <a:off x="1981080" y="3962520"/>
              <a:ext cx="205740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Experts Selec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38480" y="3962520"/>
              <a:ext cx="198144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STF work pla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019920" y="3962520"/>
              <a:ext cx="198108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600" spc="-1" strike="noStrike">
                  <a:solidFill>
                    <a:srgbClr val="fafd00"/>
                  </a:solidFill>
                  <a:latin typeface="Arial"/>
                </a:rPr>
                <a:t>Contrac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981080" y="3505320"/>
              <a:ext cx="6019920" cy="4572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Preparatory Mee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1981080" y="297180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Revie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981080" y="243828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ndidatures from ETSI Memb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1981080" y="1905120"/>
            <a:ext cx="6019920" cy="45720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all for Experts (Collective Lett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cruitment and set-up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57800" y="838080"/>
            <a:ext cx="27432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Funding availab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59720" y="3048120"/>
            <a:ext cx="132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1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88320" y="243828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6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981080" y="838080"/>
            <a:ext cx="2971800" cy="8384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oR approv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81080" y="5181480"/>
            <a:ext cx="6019920" cy="1067040"/>
          </a:xfrm>
          <a:prstGeom prst="rect">
            <a:avLst/>
          </a:prstGeom>
          <a:solidFill>
            <a:srgbClr val="baba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at wor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83040" y="449568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0 - 2 week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5800" y="1295280"/>
            <a:ext cx="914400" cy="609840"/>
          </a:xfrm>
          <a:prstGeom prst="wedgeRoundRectCallout">
            <a:avLst>
              <a:gd name="adj1" fmla="val 61805"/>
              <a:gd name="adj2" fmla="val 88282"/>
              <a:gd name="adj3" fmla="val 16667"/>
            </a:avLst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</a:t>
            </a:r>
            <a:r>
              <a:rPr b="1" lang="fr-FR" sz="20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762120" y="388620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5562720"/>
            <a:ext cx="914400" cy="380880"/>
          </a:xfrm>
          <a:custGeom>
            <a:avLst/>
            <a:gdLst>
              <a:gd name="textAreaLeft" fmla="*/ 0 w 914400"/>
              <a:gd name="textAreaRight" fmla="*/ 914760 w 91440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60800" y="5943600"/>
            <a:ext cx="141984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(7–10 weeks </a:t>
            </a:r>
            <a:br>
              <a:rPr sz="1600"/>
            </a:b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from T</a:t>
            </a:r>
            <a:r>
              <a:rPr b="1" lang="fr-FR" sz="1600" spc="-1" strike="noStrike" baseline="-25000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457200" y="914400"/>
            <a:ext cx="8034480" cy="703800"/>
          </a:xfrm>
          <a:prstGeom prst="rect">
            <a:avLst/>
          </a:prstGeom>
          <a:noFill/>
          <a:ln w="284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STF home page on the ETSI WEB:   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tp://www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etsi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org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/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stfs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.</a:t>
            </a:r>
            <a:r>
              <a:rPr b="1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57200" y="1447920"/>
            <a:ext cx="73152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Example of information available on the site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create an STF</a:t>
            </a:r>
            <a:r>
              <a:rPr b="0" lang="en-GB" sz="2000" spc="-1" strike="noStrike">
                <a:solidFill>
                  <a:srgbClr val="8cf4ea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ToRs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templ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How to join an ST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ffff"/>
                </a:solidFill>
                <a:uFillTx/>
                <a:latin typeface="Arial"/>
              </a:rPr>
              <a:t>Open Call for Experts (vacanci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STF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ontractual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 condi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List of active ST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B addresses for more information on ST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57200" y="4800600"/>
            <a:ext cx="746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Contac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STF Manager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Alberto Berrin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8cf4ea"/>
                </a:solidFill>
                <a:latin typeface="Arial"/>
              </a:rPr>
              <a:t>Recruitment Assistant: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Christine </a:t>
            </a:r>
            <a:r>
              <a:rPr b="0" lang="fr-FR" sz="2000" spc="-1" strike="noStrike" u="sng">
                <a:solidFill>
                  <a:srgbClr val="00ffff"/>
                </a:solidFill>
                <a:uFillTx/>
                <a:latin typeface="Arial"/>
              </a:rPr>
              <a:t>Voulg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5" name=""/>
          <p:cNvGrpSpPr/>
          <p:nvPr/>
        </p:nvGrpSpPr>
        <p:grpSpPr>
          <a:xfrm>
            <a:off x="6014880" y="615960"/>
            <a:ext cx="2927520" cy="3492360"/>
            <a:chOff x="6014880" y="615960"/>
            <a:chExt cx="2927520" cy="3492360"/>
          </a:xfrm>
        </p:grpSpPr>
        <p:sp>
          <p:nvSpPr>
            <p:cNvPr id="476" name=""/>
            <p:cNvSpPr/>
            <p:nvPr/>
          </p:nvSpPr>
          <p:spPr>
            <a:xfrm>
              <a:off x="6014880" y="615960"/>
              <a:ext cx="2927520" cy="34923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60000">
              <a:off x="6834240" y="1095480"/>
              <a:ext cx="1090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st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1380000">
              <a:off x="7143120" y="2925720"/>
              <a:ext cx="13996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Valid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20280000">
              <a:off x="6066720" y="2315880"/>
              <a:ext cx="1980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ethodolog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491520" y="1630440"/>
              <a:ext cx="8647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TC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14320" y="2316240"/>
              <a:ext cx="6940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D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763040" y="1630440"/>
              <a:ext cx="934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SN.1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794640" y="3382920"/>
              <a:ext cx="10476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Qual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71280" y="5091120"/>
            <a:ext cx="2671920" cy="12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ETSI STFs 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working are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5884920" y="3892680"/>
            <a:ext cx="2860560" cy="2577960"/>
            <a:chOff x="5884920" y="3892680"/>
            <a:chExt cx="2860560" cy="2577960"/>
          </a:xfrm>
        </p:grpSpPr>
        <p:sp>
          <p:nvSpPr>
            <p:cNvPr id="486" name=""/>
            <p:cNvSpPr/>
            <p:nvPr/>
          </p:nvSpPr>
          <p:spPr>
            <a:xfrm>
              <a:off x="5884920" y="3892680"/>
              <a:ext cx="2860560" cy="25779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20100000">
              <a:off x="7467840" y="4602240"/>
              <a:ext cx="7488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VoI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20700000">
              <a:off x="6889320" y="5744880"/>
              <a:ext cx="15123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0940000">
              <a:off x="6298200" y="4371480"/>
              <a:ext cx="1386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rminal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480000">
              <a:off x="6035400" y="5135400"/>
              <a:ext cx="16542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VideoPhon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909920" y="5135400"/>
              <a:ext cx="509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V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333360" y="235080"/>
            <a:ext cx="3122640" cy="4559040"/>
            <a:chOff x="333360" y="235080"/>
            <a:chExt cx="3122640" cy="4559040"/>
          </a:xfrm>
        </p:grpSpPr>
        <p:sp>
          <p:nvSpPr>
            <p:cNvPr id="493" name=""/>
            <p:cNvSpPr/>
            <p:nvPr/>
          </p:nvSpPr>
          <p:spPr>
            <a:xfrm>
              <a:off x="333360" y="235080"/>
              <a:ext cx="3122640" cy="455904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19800000">
              <a:off x="795600" y="867960"/>
              <a:ext cx="764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GS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2100000">
              <a:off x="517680" y="2239560"/>
              <a:ext cx="9057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UM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1380000">
              <a:off x="2043360" y="1553760"/>
              <a:ext cx="8784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480000">
              <a:off x="1442880" y="2010960"/>
              <a:ext cx="10339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ETR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00480" y="1554120"/>
              <a:ext cx="128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HiperLa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2700000">
              <a:off x="2215800" y="2772360"/>
              <a:ext cx="10886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RM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840000">
              <a:off x="1566720" y="639720"/>
              <a:ext cx="131580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Euro-Rail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di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80000">
              <a:off x="900720" y="3306600"/>
              <a:ext cx="1727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eronautic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1480000">
              <a:off x="1179360" y="3936960"/>
              <a:ext cx="133200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atellit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19800000">
              <a:off x="1356840" y="2696760"/>
              <a:ext cx="86328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GPP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4" name=""/>
          <p:cNvGrpSpPr/>
          <p:nvPr/>
        </p:nvGrpSpPr>
        <p:grpSpPr>
          <a:xfrm>
            <a:off x="2357280" y="3206880"/>
            <a:ext cx="3645000" cy="3340080"/>
            <a:chOff x="2357280" y="3206880"/>
            <a:chExt cx="3645000" cy="3340080"/>
          </a:xfrm>
        </p:grpSpPr>
        <p:grpSp>
          <p:nvGrpSpPr>
            <p:cNvPr id="505" name=""/>
            <p:cNvGrpSpPr/>
            <p:nvPr/>
          </p:nvGrpSpPr>
          <p:grpSpPr>
            <a:xfrm>
              <a:off x="2357280" y="3206880"/>
              <a:ext cx="3645000" cy="3340080"/>
              <a:chOff x="2357280" y="3206880"/>
              <a:chExt cx="3645000" cy="3340080"/>
            </a:xfrm>
          </p:grpSpPr>
          <p:grpSp>
            <p:nvGrpSpPr>
              <p:cNvPr id="506" name=""/>
              <p:cNvGrpSpPr/>
              <p:nvPr/>
            </p:nvGrpSpPr>
            <p:grpSpPr>
              <a:xfrm>
                <a:off x="2357280" y="3206880"/>
                <a:ext cx="3645000" cy="3340080"/>
                <a:chOff x="2357280" y="3206880"/>
                <a:chExt cx="3645000" cy="33400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357280" y="3206880"/>
                  <a:ext cx="3645000" cy="3340080"/>
                </a:xfrm>
                <a:prstGeom prst="ellipse">
                  <a:avLst/>
                </a:prstGeom>
                <a:solidFill>
                  <a:srgbClr val="8cf4ea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 rot="20220000">
                  <a:off x="2805480" y="4449240"/>
                  <a:ext cx="793080" cy="397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ISDN</a:t>
                  </a:r>
                  <a:endParaRPr b="0" lang="en-US" sz="2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09" name=""/>
              <p:cNvSpPr/>
              <p:nvPr/>
            </p:nvSpPr>
            <p:spPr>
              <a:xfrm rot="20160000">
                <a:off x="2999160" y="4982760"/>
                <a:ext cx="133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rivate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Network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 rot="20220000">
                <a:off x="4445280" y="5362200"/>
                <a:ext cx="90576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Q-SIG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 rot="720000">
                <a:off x="4436640" y="4297320"/>
                <a:ext cx="1062720" cy="702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eased</a:t>
                </a:r>
                <a:br>
                  <a:rPr sz="2000"/>
                </a:b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Lin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 rot="21540000">
                <a:off x="3702960" y="3840120"/>
                <a:ext cx="694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UPT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rot="780000">
                <a:off x="3864960" y="5821200"/>
                <a:ext cx="892080" cy="39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PABX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 rot="20280000">
              <a:off x="3656520" y="4343400"/>
              <a:ext cx="8510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TB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3276720" y="393840"/>
            <a:ext cx="2927160" cy="3035160"/>
            <a:chOff x="3276720" y="393840"/>
            <a:chExt cx="2927160" cy="3035160"/>
          </a:xfrm>
        </p:grpSpPr>
        <p:sp>
          <p:nvSpPr>
            <p:cNvPr id="516" name=""/>
            <p:cNvSpPr/>
            <p:nvPr/>
          </p:nvSpPr>
          <p:spPr>
            <a:xfrm>
              <a:off x="3276720" y="393840"/>
              <a:ext cx="2927160" cy="3035160"/>
            </a:xfrm>
            <a:prstGeom prst="ellipse">
              <a:avLst/>
            </a:prstGeom>
            <a:solidFill>
              <a:srgbClr val="8cf4e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20820000">
              <a:off x="3907800" y="569880"/>
              <a:ext cx="1189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curit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21000000">
              <a:off x="3983760" y="2170080"/>
              <a:ext cx="20383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Human Factor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600000">
              <a:off x="4288320" y="1103400"/>
              <a:ext cx="18385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Design for Al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18900000">
              <a:off x="4595760" y="1636200"/>
              <a:ext cx="7635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Qo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2700000">
              <a:off x="3322440" y="1230840"/>
              <a:ext cx="15703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Speech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recogni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600000">
              <a:off x="3526560" y="2779560"/>
              <a:ext cx="200916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Arial"/>
                </a:rPr>
                <a:t>Unique User ID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4520" y="171360"/>
            <a:ext cx="445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845820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normal working method to produce ETSI standards is by voluntary contribution of the Members in the Committees,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however, ETSI can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contract expert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o set-up STF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s ar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unded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from the ETSI budget, EC/EFTA Vouchers, voluntary contributions from Member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STF experts normally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work together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in sessions in the ETSI premises of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Sophia Antipoli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reference TB has the technical responsibility for the STF </a:t>
            </a:r>
            <a:br>
              <a:rPr sz="2000"/>
            </a:b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and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approves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their deliverabl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  <a:p>
            <a:pPr marL="376200" indent="-376200">
              <a:lnSpc>
                <a:spcPct val="100000"/>
              </a:lnSpc>
              <a:spcAft>
                <a:spcPts val="1250"/>
              </a:spcAft>
              <a:buClr>
                <a:srgbClr val="fafd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The </a:t>
            </a:r>
            <a:r>
              <a:rPr b="1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ETSI Secretariat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provides management support, technical supervision and office facilities</a:t>
            </a:r>
            <a:endParaRPr b="0" lang="en-US" sz="20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0880" y="838080"/>
            <a:ext cx="8534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An STF is a group of experts working together to draft urgent deliverables or to perform special tasks on behalf of an ETSI Technical Bod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04920" y="152280"/>
            <a:ext cx="7086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e STF role in the ETSI standards produ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914400"/>
            <a:ext cx="2895480" cy="6094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Technical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4267080" y="4572000"/>
            <a:ext cx="2743200" cy="1905120"/>
            <a:chOff x="4267080" y="4572000"/>
            <a:chExt cx="2743200" cy="1905120"/>
          </a:xfrm>
        </p:grpSpPr>
        <p:sp>
          <p:nvSpPr>
            <p:cNvPr id="52" name=""/>
            <p:cNvSpPr/>
            <p:nvPr/>
          </p:nvSpPr>
          <p:spPr>
            <a:xfrm>
              <a:off x="4267080" y="5334120"/>
              <a:ext cx="274320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STF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(contracted </a:t>
              </a:r>
              <a:br>
                <a:rPr sz="2000"/>
              </a:b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experts)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5943600" y="4572000"/>
              <a:ext cx="53352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5791320" y="3429000"/>
            <a:ext cx="1447560" cy="1295280"/>
            <a:chOff x="5791320" y="3429000"/>
            <a:chExt cx="1447560" cy="1295280"/>
          </a:xfrm>
        </p:grpSpPr>
        <p:sp>
          <p:nvSpPr>
            <p:cNvPr id="55" name=""/>
            <p:cNvSpPr/>
            <p:nvPr/>
          </p:nvSpPr>
          <p:spPr>
            <a:xfrm>
              <a:off x="5791320" y="4038480"/>
              <a:ext cx="129528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Funding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6781680" y="3429000"/>
              <a:ext cx="457200" cy="53352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781680" y="2286000"/>
            <a:ext cx="1295640" cy="1219320"/>
            <a:chOff x="6781680" y="2286000"/>
            <a:chExt cx="1295640" cy="1219320"/>
          </a:xfrm>
        </p:grpSpPr>
        <p:sp>
          <p:nvSpPr>
            <p:cNvPr id="58" name=""/>
            <p:cNvSpPr/>
            <p:nvPr/>
          </p:nvSpPr>
          <p:spPr>
            <a:xfrm>
              <a:off x="6781680" y="2819520"/>
              <a:ext cx="1295640" cy="685800"/>
            </a:xfrm>
            <a:prstGeom prst="ellipse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afd00"/>
                  </a:solidFill>
                  <a:latin typeface="Arial"/>
                </a:rPr>
                <a:t>Bo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approva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7695720" y="2286000"/>
              <a:ext cx="38124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7467480" y="1905120"/>
            <a:ext cx="1219320" cy="38088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afd00"/>
                </a:solidFill>
                <a:latin typeface="Arial"/>
              </a:rPr>
              <a:t>STF T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38080" y="4419720"/>
            <a:ext cx="1524240" cy="2133360"/>
            <a:chOff x="838080" y="4419720"/>
            <a:chExt cx="1524240" cy="2133360"/>
          </a:xfrm>
        </p:grpSpPr>
        <p:sp>
          <p:nvSpPr>
            <p:cNvPr id="62" name=""/>
            <p:cNvSpPr/>
            <p:nvPr/>
          </p:nvSpPr>
          <p:spPr>
            <a:xfrm>
              <a:off x="838080" y="5029200"/>
              <a:ext cx="152424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Published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676520" y="4419720"/>
              <a:ext cx="0" cy="60948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533520" y="3809880"/>
            <a:ext cx="2209680" cy="60984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afd00"/>
                </a:solidFill>
                <a:latin typeface="Arial"/>
              </a:rPr>
              <a:t>TB approv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819520" y="4114800"/>
            <a:ext cx="838080" cy="0"/>
          </a:xfrm>
          <a:prstGeom prst="line">
            <a:avLst/>
          </a:prstGeom>
          <a:ln w="57240">
            <a:solidFill>
              <a:srgbClr val="fafd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3429000" y="3200400"/>
            <a:ext cx="1752480" cy="1981080"/>
            <a:chOff x="3429000" y="3200400"/>
            <a:chExt cx="1752480" cy="1981080"/>
          </a:xfrm>
        </p:grpSpPr>
        <p:sp>
          <p:nvSpPr>
            <p:cNvPr id="67" name=""/>
            <p:cNvSpPr/>
            <p:nvPr/>
          </p:nvSpPr>
          <p:spPr>
            <a:xfrm flipH="1" flipV="1">
              <a:off x="4800600" y="4724280"/>
              <a:ext cx="380880" cy="457200"/>
            </a:xfrm>
            <a:prstGeom prst="line">
              <a:avLst/>
            </a:prstGeom>
            <a:ln w="57240">
              <a:solidFill>
                <a:srgbClr val="ff99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429000" y="3200400"/>
              <a:ext cx="1523880" cy="1523880"/>
            </a:xfrm>
            <a:prstGeom prst="verticalScroll">
              <a:avLst>
                <a:gd name="adj" fmla="val 12500"/>
              </a:avLst>
            </a:prstGeom>
            <a:solidFill>
              <a:srgbClr val="fafd00"/>
            </a:solidFill>
            <a:ln w="1260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Draft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ETSI</a:t>
              </a:r>
              <a:br>
                <a:rPr sz="1600"/>
              </a:br>
              <a:r>
                <a:rPr b="1" lang="fr-FR" sz="1600" spc="-1" strike="noStrike">
                  <a:solidFill>
                    <a:srgbClr val="000000"/>
                  </a:solidFill>
                  <a:latin typeface="Arial"/>
                </a:rPr>
                <a:t>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7238880" y="3733920"/>
            <a:ext cx="1676520" cy="533160"/>
            <a:chOff x="7238880" y="3733920"/>
            <a:chExt cx="1676520" cy="533160"/>
          </a:xfrm>
        </p:grpSpPr>
        <p:sp>
          <p:nvSpPr>
            <p:cNvPr id="70" name=""/>
            <p:cNvSpPr/>
            <p:nvPr/>
          </p:nvSpPr>
          <p:spPr>
            <a:xfrm>
              <a:off x="7696080" y="373392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7238880" y="4038480"/>
              <a:ext cx="457200" cy="2286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7238520" y="4343040"/>
            <a:ext cx="1667520" cy="457560"/>
            <a:chOff x="7238520" y="4343040"/>
            <a:chExt cx="1667520" cy="457560"/>
          </a:xfrm>
        </p:grpSpPr>
        <p:sp>
          <p:nvSpPr>
            <p:cNvPr id="73" name=""/>
            <p:cNvSpPr/>
            <p:nvPr/>
          </p:nvSpPr>
          <p:spPr>
            <a:xfrm>
              <a:off x="7620120" y="4343400"/>
              <a:ext cx="12859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EC/EF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7238520" y="4343040"/>
              <a:ext cx="381240" cy="1522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7162920" y="4419360"/>
            <a:ext cx="1523880" cy="990720"/>
            <a:chOff x="7162920" y="4419360"/>
            <a:chExt cx="1523880" cy="990720"/>
          </a:xfrm>
        </p:grpSpPr>
        <p:sp>
          <p:nvSpPr>
            <p:cNvPr id="76" name=""/>
            <p:cNvSpPr/>
            <p:nvPr/>
          </p:nvSpPr>
          <p:spPr>
            <a:xfrm>
              <a:off x="7467480" y="4952880"/>
              <a:ext cx="1219320" cy="457200"/>
            </a:xfrm>
            <a:prstGeom prst="ellipse">
              <a:avLst/>
            </a:prstGeom>
            <a:solidFill>
              <a:srgbClr val="baba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Arial"/>
                </a:rPr>
                <a:t>Member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flipV="1">
              <a:off x="7162920" y="4419360"/>
              <a:ext cx="380880" cy="685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533520" y="814320"/>
            <a:ext cx="2742840" cy="2386080"/>
            <a:chOff x="533520" y="814320"/>
            <a:chExt cx="2742840" cy="2386080"/>
          </a:xfrm>
        </p:grpSpPr>
        <p:sp>
          <p:nvSpPr>
            <p:cNvPr id="79" name=""/>
            <p:cNvSpPr/>
            <p:nvPr/>
          </p:nvSpPr>
          <p:spPr>
            <a:xfrm>
              <a:off x="533520" y="2057400"/>
              <a:ext cx="2209680" cy="1143000"/>
            </a:xfrm>
            <a:prstGeom prst="rect">
              <a:avLst/>
            </a:prstGeom>
            <a:solidFill>
              <a:srgbClr val="ff9900"/>
            </a:solidFill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Aft>
                  <a:spcPts val="4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Committee</a:t>
              </a:r>
              <a:br>
                <a:rPr sz="2000"/>
              </a:br>
              <a:r>
                <a:rPr b="1" lang="en-GB" sz="2000" spc="-1" strike="noStrike">
                  <a:solidFill>
                    <a:srgbClr val="fafd00"/>
                  </a:solidFill>
                  <a:latin typeface="Arial"/>
                </a:rPr>
                <a:t> voluntary</a:t>
              </a:r>
              <a:r>
                <a:rPr b="1" lang="fr-FR" sz="2000" spc="-1" strike="noStrike">
                  <a:solidFill>
                    <a:srgbClr val="fafd00"/>
                  </a:solidFill>
                  <a:latin typeface="Arial"/>
                </a:rPr>
                <a:t> work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676160" y="1219320"/>
              <a:ext cx="160020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76520" y="1219320"/>
              <a:ext cx="0" cy="6858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02000" y="814320"/>
              <a:ext cx="156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Normal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6248160" y="838080"/>
            <a:ext cx="1905120" cy="990720"/>
            <a:chOff x="6248160" y="838080"/>
            <a:chExt cx="1905120" cy="990720"/>
          </a:xfrm>
        </p:grpSpPr>
        <p:sp>
          <p:nvSpPr>
            <p:cNvPr id="84" name=""/>
            <p:cNvSpPr/>
            <p:nvPr/>
          </p:nvSpPr>
          <p:spPr>
            <a:xfrm flipH="1">
              <a:off x="6248160" y="1219320"/>
              <a:ext cx="1904760" cy="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153280" y="1219320"/>
              <a:ext cx="0" cy="60948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02600" y="838080"/>
              <a:ext cx="1514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Urgent wor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752480" y="3200400"/>
            <a:ext cx="1645200" cy="457200"/>
            <a:chOff x="1752480" y="3200400"/>
            <a:chExt cx="1645200" cy="457200"/>
          </a:xfrm>
        </p:grpSpPr>
        <p:sp>
          <p:nvSpPr>
            <p:cNvPr id="88" name=""/>
            <p:cNvSpPr/>
            <p:nvPr/>
          </p:nvSpPr>
          <p:spPr>
            <a:xfrm>
              <a:off x="1752480" y="3200400"/>
              <a:ext cx="0" cy="45720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833120" y="3276720"/>
              <a:ext cx="156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afd00"/>
                  </a:solidFill>
                  <a:latin typeface="Arial"/>
                </a:rPr>
                <a:t>Draft standar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36720" y="1397160"/>
            <a:ext cx="1309680" cy="1015920"/>
          </a:xfrm>
          <a:prstGeom prst="rect">
            <a:avLst/>
          </a:prstGeom>
          <a:solidFill>
            <a:srgbClr val="ff996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afd00"/>
                </a:solidFill>
                <a:latin typeface="Arial"/>
              </a:rPr>
              <a:t>T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95120" y="3733920"/>
            <a:ext cx="1239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Technical</a:t>
            </a:r>
            <a:br>
              <a:rPr sz="1800"/>
            </a:b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guid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2000" y="4724280"/>
            <a:ext cx="4876200" cy="1676520"/>
            <a:chOff x="3582000" y="4724280"/>
            <a:chExt cx="4876200" cy="1676520"/>
          </a:xfrm>
        </p:grpSpPr>
        <p:grpSp>
          <p:nvGrpSpPr>
            <p:cNvPr id="93" name=""/>
            <p:cNvGrpSpPr/>
            <p:nvPr/>
          </p:nvGrpSpPr>
          <p:grpSpPr>
            <a:xfrm>
              <a:off x="4952880" y="4724280"/>
              <a:ext cx="3505320" cy="1676520"/>
              <a:chOff x="4952880" y="4724280"/>
              <a:chExt cx="3505320" cy="1676520"/>
            </a:xfrm>
          </p:grpSpPr>
          <p:sp>
            <p:nvSpPr>
              <p:cNvPr id="94" name=""/>
              <p:cNvSpPr/>
              <p:nvPr/>
            </p:nvSpPr>
            <p:spPr>
              <a:xfrm>
                <a:off x="4952880" y="4724280"/>
                <a:ext cx="3505320" cy="1676520"/>
              </a:xfrm>
              <a:prstGeom prst="rect">
                <a:avLst/>
              </a:prstGeom>
              <a:solidFill>
                <a:srgbClr val="ff9966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aphicFrame>
            <p:nvGraphicFramePr>
              <p:cNvPr id="95" name=""/>
              <p:cNvGraphicFramePr/>
              <p:nvPr/>
            </p:nvGraphicFramePr>
            <p:xfrm>
              <a:off x="5013360" y="4762440"/>
              <a:ext cx="3413160" cy="16128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5013360" y="4762440"/>
                        <a:ext cx="3413160" cy="1612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sp>
          <p:nvSpPr>
            <p:cNvPr id="97" name=""/>
            <p:cNvSpPr/>
            <p:nvPr/>
          </p:nvSpPr>
          <p:spPr>
            <a:xfrm>
              <a:off x="3582000" y="5562720"/>
              <a:ext cx="13021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xpert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595440" y="214200"/>
            <a:ext cx="47386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Organization of an ST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936720" y="2514600"/>
            <a:ext cx="1309680" cy="1555920"/>
            <a:chOff x="936720" y="2514600"/>
            <a:chExt cx="1309680" cy="1555920"/>
          </a:xfrm>
        </p:grpSpPr>
        <p:sp>
          <p:nvSpPr>
            <p:cNvPr id="100" name=""/>
            <p:cNvSpPr/>
            <p:nvPr/>
          </p:nvSpPr>
          <p:spPr>
            <a:xfrm>
              <a:off x="936720" y="3054240"/>
              <a:ext cx="1309680" cy="101628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afd00"/>
                  </a:solidFill>
                  <a:latin typeface="Arial"/>
                </a:rPr>
                <a:t>WG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371600" y="251460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920880" y="4191120"/>
            <a:ext cx="1309680" cy="1631880"/>
            <a:chOff x="920880" y="4191120"/>
            <a:chExt cx="1309680" cy="1631880"/>
          </a:xfrm>
        </p:grpSpPr>
        <p:sp>
          <p:nvSpPr>
            <p:cNvPr id="103" name=""/>
            <p:cNvSpPr/>
            <p:nvPr/>
          </p:nvSpPr>
          <p:spPr>
            <a:xfrm>
              <a:off x="920880" y="4807080"/>
              <a:ext cx="1309680" cy="10159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teering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Group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71600" y="4191120"/>
              <a:ext cx="533520" cy="45720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fafd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2514600" y="3505320"/>
            <a:ext cx="3276720" cy="0"/>
          </a:xfrm>
          <a:prstGeom prst="line">
            <a:avLst/>
          </a:prstGeom>
          <a:ln w="38160">
            <a:solidFill>
              <a:srgbClr val="fafd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2514240" y="1980720"/>
            <a:ext cx="3352680" cy="1143000"/>
          </a:xfrm>
          <a:prstGeom prst="line">
            <a:avLst/>
          </a:prstGeom>
          <a:ln w="38160">
            <a:solidFill>
              <a:srgbClr val="fafd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437920" y="3886200"/>
            <a:ext cx="3429000" cy="1371600"/>
          </a:xfrm>
          <a:prstGeom prst="line">
            <a:avLst/>
          </a:prstGeom>
          <a:ln w="76320">
            <a:solidFill>
              <a:srgbClr val="fafd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6095880" y="2895480"/>
            <a:ext cx="2479320" cy="1752840"/>
            <a:chOff x="6095880" y="2895480"/>
            <a:chExt cx="2479320" cy="1752840"/>
          </a:xfrm>
        </p:grpSpPr>
        <p:sp>
          <p:nvSpPr>
            <p:cNvPr id="109" name=""/>
            <p:cNvSpPr/>
            <p:nvPr/>
          </p:nvSpPr>
          <p:spPr>
            <a:xfrm>
              <a:off x="7391880" y="2895480"/>
              <a:ext cx="11833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Team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Lea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6095880" y="2895480"/>
              <a:ext cx="1143000" cy="1752840"/>
              <a:chOff x="6095880" y="2895480"/>
              <a:chExt cx="1143000" cy="175284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6095880" y="2895480"/>
                <a:ext cx="1143000" cy="1244880"/>
                <a:chOff x="6095880" y="2895480"/>
                <a:chExt cx="1143000" cy="12448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6095880" y="2895480"/>
                  <a:ext cx="1143000" cy="1244880"/>
                </a:xfrm>
                <a:prstGeom prst="rect">
                  <a:avLst/>
                </a:prstGeom>
                <a:solidFill>
                  <a:srgbClr val="ff9966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113" name=""/>
                <p:cNvGraphicFramePr/>
                <p:nvPr/>
              </p:nvGraphicFramePr>
              <p:xfrm>
                <a:off x="6171840" y="2971800"/>
                <a:ext cx="963720" cy="113364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114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6171840" y="2971800"/>
                          <a:ext cx="963720" cy="113364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  <p:sp>
            <p:nvSpPr>
              <p:cNvPr id="115" name=""/>
              <p:cNvSpPr/>
              <p:nvPr/>
            </p:nvSpPr>
            <p:spPr>
              <a:xfrm>
                <a:off x="6705720" y="4191120"/>
                <a:ext cx="0" cy="457200"/>
              </a:xfrm>
              <a:prstGeom prst="line">
                <a:avLst/>
              </a:prstGeom>
              <a:ln w="38160">
                <a:solidFill>
                  <a:srgbClr val="fafd00"/>
                </a:solidFill>
                <a:miter/>
                <a:headEnd len="med" type="stealth" w="sm"/>
                <a:tailEnd len="med" type="stealth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5791320" y="838080"/>
            <a:ext cx="2952720" cy="1981440"/>
            <a:chOff x="5791320" y="838080"/>
            <a:chExt cx="2952720" cy="1981440"/>
          </a:xfrm>
        </p:grpSpPr>
        <p:sp>
          <p:nvSpPr>
            <p:cNvPr id="117" name=""/>
            <p:cNvSpPr/>
            <p:nvPr/>
          </p:nvSpPr>
          <p:spPr>
            <a:xfrm>
              <a:off x="5791320" y="838080"/>
              <a:ext cx="1770120" cy="1111320"/>
            </a:xfrm>
            <a:prstGeom prst="rect">
              <a:avLst/>
            </a:prstGeom>
            <a:solidFill>
              <a:srgbClr val="ff996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ETSI</a:t>
              </a:r>
              <a:br>
                <a:rPr sz="2400"/>
              </a:b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Secretaria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62920" y="1981080"/>
              <a:ext cx="15811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fr-FR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fafd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705720" y="2057400"/>
              <a:ext cx="0" cy="762120"/>
            </a:xfrm>
            <a:prstGeom prst="line">
              <a:avLst/>
            </a:prstGeom>
            <a:ln w="7632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228600" y="2590920"/>
            <a:ext cx="2438280" cy="1718280"/>
            <a:chOff x="228600" y="2590920"/>
            <a:chExt cx="2438280" cy="1718280"/>
          </a:xfrm>
        </p:grpSpPr>
        <p:sp>
          <p:nvSpPr>
            <p:cNvPr id="121" name=""/>
            <p:cNvSpPr/>
            <p:nvPr/>
          </p:nvSpPr>
          <p:spPr>
            <a:xfrm>
              <a:off x="380880" y="3390480"/>
              <a:ext cx="2133720" cy="918720"/>
            </a:xfrm>
            <a:custGeom>
              <a:avLst/>
              <a:gdLst>
                <a:gd name="textAreaLeft" fmla="*/ 266760 w 2133720"/>
                <a:gd name="textAreaRight" fmla="*/ 1867320 w 213372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CPM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28600" y="2590920"/>
              <a:ext cx="2438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Administration,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Project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M</a:t>
              </a: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anag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em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2781360" y="2666880"/>
            <a:ext cx="3048120" cy="3429000"/>
          </a:xfrm>
          <a:prstGeom prst="rect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857680" y="2819520"/>
            <a:ext cx="2895480" cy="53316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unded Projec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57680" y="3352680"/>
            <a:ext cx="2895480" cy="2667240"/>
          </a:xfrm>
          <a:prstGeom prst="rect">
            <a:avLst/>
          </a:prstGeom>
          <a:noFill/>
          <a:ln w="381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857680" y="33526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Fs (Experts Team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857680" y="38862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ub-Contrac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857680" y="4419720"/>
            <a:ext cx="2895480" cy="53316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Studies, Experimen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57680" y="495288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afd00"/>
                </a:solidFill>
                <a:latin typeface="Arial"/>
              </a:rPr>
              <a:t>Valid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57680" y="5486400"/>
            <a:ext cx="2895480" cy="5335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afd00"/>
                </a:solidFill>
                <a:latin typeface="Arial"/>
              </a:rPr>
              <a:t>Research</a:t>
            </a:r>
            <a:r>
              <a:rPr b="1" i="1" lang="fr-FR" sz="1800" spc="-1" strike="noStrike">
                <a:solidFill>
                  <a:srgbClr val="fafd00"/>
                </a:solidFill>
                <a:latin typeface="Arial"/>
              </a:rPr>
              <a:t>, etc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228600" y="4495680"/>
            <a:ext cx="2284560" cy="1490040"/>
            <a:chOff x="228600" y="4495680"/>
            <a:chExt cx="2284560" cy="1490040"/>
          </a:xfrm>
        </p:grpSpPr>
        <p:sp>
          <p:nvSpPr>
            <p:cNvPr id="132" name=""/>
            <p:cNvSpPr/>
            <p:nvPr/>
          </p:nvSpPr>
          <p:spPr>
            <a:xfrm>
              <a:off x="228600" y="5067000"/>
              <a:ext cx="2284560" cy="918720"/>
            </a:xfrm>
            <a:custGeom>
              <a:avLst/>
              <a:gdLst>
                <a:gd name="textAreaLeft" fmla="*/ 285480 w 2284560"/>
                <a:gd name="textAreaRight" fmla="*/ 1999080 w 2284560"/>
                <a:gd name="textAreaTop" fmla="*/ 229680 h 918720"/>
                <a:gd name="textAreaBottom" fmla="*/ 689040 h 918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0" y="16200"/>
                  </a:lnTo>
                  <a:lnTo>
                    <a:pt x="2700" y="108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fafd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63de8"/>
                  </a:solidFill>
                  <a:latin typeface="Arial"/>
                </a:rPr>
                <a:t>PEX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" y="4495680"/>
              <a:ext cx="1447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Technical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Sup</a:t>
              </a: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5943240" y="2743200"/>
            <a:ext cx="2817720" cy="1794240"/>
            <a:chOff x="5943240" y="2743200"/>
            <a:chExt cx="2817720" cy="1794240"/>
          </a:xfrm>
        </p:grpSpPr>
        <p:sp>
          <p:nvSpPr>
            <p:cNvPr id="135" name=""/>
            <p:cNvSpPr/>
            <p:nvPr/>
          </p:nvSpPr>
          <p:spPr>
            <a:xfrm rot="5400000">
              <a:off x="6623280" y="2399400"/>
              <a:ext cx="1457640" cy="2817720"/>
            </a:xfrm>
            <a:prstGeom prst="downArrow">
              <a:avLst>
                <a:gd name="adj1" fmla="val 50000"/>
                <a:gd name="adj2" fmla="val 48327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PTCC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testing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en-GB" sz="1800" spc="-1" strike="noStrike">
                  <a:solidFill>
                    <a:srgbClr val="063de8"/>
                  </a:solidFill>
                  <a:latin typeface="Arial"/>
                </a:rPr>
                <a:t>FWP</a:t>
              </a: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  </a:t>
              </a:r>
              <a:r>
                <a:rPr b="1" lang="fr-FR" sz="1400" spc="-1" strike="noStrike">
                  <a:solidFill>
                    <a:srgbClr val="063de8"/>
                  </a:solidFill>
                  <a:latin typeface="Arial"/>
                </a:rPr>
                <a:t>(system projects)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400800" y="2743200"/>
              <a:ext cx="228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ETSI TB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743200" y="1066680"/>
            <a:ext cx="3124080" cy="762120"/>
          </a:xfrm>
          <a:prstGeom prst="ellipse">
            <a:avLst/>
          </a:prstGeom>
          <a:solidFill>
            <a:srgbClr val="ff9900"/>
          </a:solidFill>
          <a:ln w="1908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afd00"/>
                </a:solidFill>
                <a:latin typeface="Arial"/>
              </a:rPr>
              <a:t>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21466800">
            <a:off x="3963600" y="1904760"/>
            <a:ext cx="68580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afd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228600"/>
            <a:ext cx="67816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Beyond STFs: the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‘toolkit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" y="1828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Project Sup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248520" y="18288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Technical Contro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943240" y="4572000"/>
            <a:ext cx="3048480" cy="1366560"/>
            <a:chOff x="5943240" y="4572000"/>
            <a:chExt cx="3048480" cy="1366560"/>
          </a:xfrm>
        </p:grpSpPr>
        <p:sp>
          <p:nvSpPr>
            <p:cNvPr id="143" name=""/>
            <p:cNvSpPr/>
            <p:nvPr/>
          </p:nvSpPr>
          <p:spPr>
            <a:xfrm rot="5400000">
              <a:off x="6896880" y="4075920"/>
              <a:ext cx="909000" cy="2816280"/>
            </a:xfrm>
            <a:prstGeom prst="downArrow">
              <a:avLst>
                <a:gd name="adj1" fmla="val 50000"/>
                <a:gd name="adj2" fmla="val 77455"/>
              </a:avLst>
            </a:prstGeom>
            <a:solidFill>
              <a:srgbClr val="ffff00"/>
            </a:solidFill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 vert="eaVert" rot="10800000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63de8"/>
                  </a:solidFill>
                  <a:latin typeface="Arial"/>
                </a:rPr>
                <a:t>e.g. MCC ‘Tasks’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172200" y="4572000"/>
              <a:ext cx="281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afd00"/>
                  </a:solidFill>
                  <a:latin typeface="Arial"/>
                </a:rPr>
                <a:t>Partnership Projec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066680" y="1219320"/>
            <a:ext cx="73915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kEUR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FWP STF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1 7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PTCC STFs *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93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Tasks * 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85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buClr>
                <a:srgbClr val="fafd00"/>
              </a:buClr>
              <a:buFont typeface="Arial"/>
              <a:buChar char="•"/>
              <a:tabLst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MCC subcontracts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56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_____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85920" indent="-38592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00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Total ‘Funded Projects’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800" spc="-1" strike="noStrike">
                <a:solidFill>
                  <a:srgbClr val="fafd00"/>
                </a:solidFill>
                <a:latin typeface="Arial"/>
              </a:rPr>
              <a:t>4 04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678204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Funded Projects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esources in 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2000 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7560" y="6019920"/>
            <a:ext cx="390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afd00"/>
                </a:solidFill>
                <a:latin typeface="Arial"/>
              </a:rPr>
              <a:t>* not including PTCC staff suppor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214200"/>
            <a:ext cx="655308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TF c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ontribution to ETSI delivera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2960" y="754200"/>
            <a:ext cx="838512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0" y="132"/>
                </a:moveTo>
                <a:lnTo>
                  <a:pt x="223" y="0"/>
                </a:lnTo>
                <a:lnTo>
                  <a:pt x="4708" y="0"/>
                </a:lnTo>
                <a:lnTo>
                  <a:pt x="4486" y="132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solidFill>
            <a:srgbClr val="e3e3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79640" y="506268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79640" y="457992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79640" y="4097160"/>
            <a:ext cx="7473960" cy="20988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79640" y="361332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79640" y="313056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79640" y="2647800"/>
            <a:ext cx="7473960" cy="2113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79640" y="2165400"/>
            <a:ext cx="7473960" cy="21096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079640" y="16826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9640" y="1200240"/>
            <a:ext cx="7473960" cy="209520"/>
          </a:xfrm>
          <a:custGeom>
            <a:avLst/>
            <a:gdLst/>
            <a:ahLst/>
            <a:rect l="l" t="t" r="r" b="b"/>
            <a:pathLst>
              <a:path w="550" h="17">
                <a:moveTo>
                  <a:pt x="0" y="17"/>
                </a:moveTo>
                <a:lnTo>
                  <a:pt x="26" y="0"/>
                </a:lnTo>
                <a:lnTo>
                  <a:pt x="550" y="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9640" y="5545080"/>
            <a:ext cx="7473960" cy="209520"/>
          </a:xfrm>
          <a:custGeom>
            <a:avLst/>
            <a:gdLst/>
            <a:ahLst/>
            <a:rect l="l" t="t" r="r" b="b"/>
            <a:pathLst>
              <a:path w="4708" h="132">
                <a:moveTo>
                  <a:pt x="4708" y="0"/>
                </a:moveTo>
                <a:lnTo>
                  <a:pt x="4486" y="132"/>
                </a:lnTo>
                <a:lnTo>
                  <a:pt x="0" y="132"/>
                </a:lnTo>
                <a:lnTo>
                  <a:pt x="223" y="0"/>
                </a:lnTo>
                <a:lnTo>
                  <a:pt x="4708" y="0"/>
                </a:lnTo>
                <a:close/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9640" y="1200240"/>
            <a:ext cx="353880" cy="4554360"/>
          </a:xfrm>
          <a:custGeom>
            <a:avLst/>
            <a:gdLst/>
            <a:ahLst/>
            <a:rect l="l" t="t" r="r" b="b"/>
            <a:pathLst>
              <a:path w="223" h="2869">
                <a:moveTo>
                  <a:pt x="0" y="2869"/>
                </a:moveTo>
                <a:lnTo>
                  <a:pt x="0" y="132"/>
                </a:lnTo>
                <a:lnTo>
                  <a:pt x="223" y="0"/>
                </a:lnTo>
                <a:lnTo>
                  <a:pt x="223" y="2737"/>
                </a:lnTo>
                <a:lnTo>
                  <a:pt x="0" y="2869"/>
                </a:lnTo>
                <a:close/>
              </a:path>
            </a:pathLst>
          </a:custGeom>
          <a:noFill/>
          <a:ln w="144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33520" y="1200240"/>
            <a:ext cx="7120080" cy="4344840"/>
          </a:xfrm>
          <a:prstGeom prst="rect">
            <a:avLst/>
          </a:prstGeom>
          <a:noFill/>
          <a:ln w="144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49520" y="5519880"/>
            <a:ext cx="341280" cy="234720"/>
          </a:xfrm>
          <a:custGeom>
            <a:avLst/>
            <a:gdLst/>
            <a:ahLst/>
            <a:rect l="l" t="t" r="r" b="b"/>
            <a:pathLst>
              <a:path w="215" h="148">
                <a:moveTo>
                  <a:pt x="0" y="148"/>
                </a:moveTo>
                <a:lnTo>
                  <a:pt x="0" y="125"/>
                </a:lnTo>
                <a:lnTo>
                  <a:pt x="215" y="0"/>
                </a:lnTo>
                <a:lnTo>
                  <a:pt x="215" y="16"/>
                </a:lnTo>
                <a:lnTo>
                  <a:pt x="0" y="14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06640" y="5718240"/>
            <a:ext cx="542880" cy="363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0099b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106640" y="551988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2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2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48392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35240" y="5272200"/>
            <a:ext cx="352440" cy="482400"/>
          </a:xfrm>
          <a:custGeom>
            <a:avLst/>
            <a:gdLst/>
            <a:ahLst/>
            <a:rect l="l" t="t" r="r" b="b"/>
            <a:pathLst>
              <a:path w="222" h="304">
                <a:moveTo>
                  <a:pt x="0" y="304"/>
                </a:moveTo>
                <a:lnTo>
                  <a:pt x="0" y="125"/>
                </a:lnTo>
                <a:lnTo>
                  <a:pt x="222" y="0"/>
                </a:lnTo>
                <a:lnTo>
                  <a:pt x="222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04960" y="5470560"/>
            <a:ext cx="530280" cy="28404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35240" y="5248440"/>
            <a:ext cx="352440" cy="222120"/>
          </a:xfrm>
          <a:custGeom>
            <a:avLst/>
            <a:gdLst/>
            <a:ahLst/>
            <a:rect l="l" t="t" r="r" b="b"/>
            <a:pathLst>
              <a:path w="222" h="140">
                <a:moveTo>
                  <a:pt x="0" y="140"/>
                </a:moveTo>
                <a:lnTo>
                  <a:pt x="0" y="125"/>
                </a:lnTo>
                <a:lnTo>
                  <a:pt x="222" y="0"/>
                </a:lnTo>
                <a:lnTo>
                  <a:pt x="222" y="15"/>
                </a:lnTo>
                <a:lnTo>
                  <a:pt x="0" y="14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704960" y="5446800"/>
            <a:ext cx="5302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704960" y="5248440"/>
            <a:ext cx="882720" cy="19836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879200" y="55198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082600" y="52610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32120" y="5346720"/>
            <a:ext cx="353880" cy="407880"/>
          </a:xfrm>
          <a:custGeom>
            <a:avLst/>
            <a:gdLst/>
            <a:ahLst/>
            <a:rect l="l" t="t" r="r" b="b"/>
            <a:pathLst>
              <a:path w="223" h="257">
                <a:moveTo>
                  <a:pt x="0" y="257"/>
                </a:moveTo>
                <a:lnTo>
                  <a:pt x="0" y="125"/>
                </a:lnTo>
                <a:lnTo>
                  <a:pt x="223" y="0"/>
                </a:lnTo>
                <a:lnTo>
                  <a:pt x="223" y="125"/>
                </a:lnTo>
                <a:lnTo>
                  <a:pt x="0" y="257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9240" y="5545080"/>
            <a:ext cx="542880" cy="2095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32120" y="5334120"/>
            <a:ext cx="353880" cy="210960"/>
          </a:xfrm>
          <a:custGeom>
            <a:avLst/>
            <a:gdLst/>
            <a:ahLst/>
            <a:rect l="l" t="t" r="r" b="b"/>
            <a:pathLst>
              <a:path w="223" h="133">
                <a:moveTo>
                  <a:pt x="0" y="133"/>
                </a:moveTo>
                <a:lnTo>
                  <a:pt x="0" y="125"/>
                </a:lnTo>
                <a:lnTo>
                  <a:pt x="223" y="0"/>
                </a:lnTo>
                <a:lnTo>
                  <a:pt x="223" y="8"/>
                </a:lnTo>
                <a:lnTo>
                  <a:pt x="0" y="133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9240" y="5532480"/>
            <a:ext cx="542880" cy="126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32120" y="5297400"/>
            <a:ext cx="353880" cy="235080"/>
          </a:xfrm>
          <a:custGeom>
            <a:avLst/>
            <a:gdLst/>
            <a:ahLst/>
            <a:rect l="l" t="t" r="r" b="b"/>
            <a:pathLst>
              <a:path w="223" h="148">
                <a:moveTo>
                  <a:pt x="0" y="148"/>
                </a:moveTo>
                <a:lnTo>
                  <a:pt x="0" y="133"/>
                </a:lnTo>
                <a:lnTo>
                  <a:pt x="223" y="0"/>
                </a:lnTo>
                <a:lnTo>
                  <a:pt x="223" y="23"/>
                </a:lnTo>
                <a:lnTo>
                  <a:pt x="0" y="14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89240" y="5508720"/>
            <a:ext cx="542880" cy="237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9240" y="5297400"/>
            <a:ext cx="896760" cy="211320"/>
          </a:xfrm>
          <a:custGeom>
            <a:avLst/>
            <a:gdLst/>
            <a:ahLst/>
            <a:rect l="l" t="t" r="r" b="b"/>
            <a:pathLst>
              <a:path w="565" h="133">
                <a:moveTo>
                  <a:pt x="342" y="133"/>
                </a:moveTo>
                <a:lnTo>
                  <a:pt x="565" y="0"/>
                </a:lnTo>
                <a:lnTo>
                  <a:pt x="222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517480" y="5557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53840" y="54468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39880" y="5322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0440" y="5160960"/>
            <a:ext cx="339840" cy="593640"/>
          </a:xfrm>
          <a:custGeom>
            <a:avLst/>
            <a:gdLst/>
            <a:ahLst/>
            <a:rect l="l" t="t" r="r" b="b"/>
            <a:pathLst>
              <a:path w="214" h="374">
                <a:moveTo>
                  <a:pt x="0" y="374"/>
                </a:moveTo>
                <a:lnTo>
                  <a:pt x="0" y="133"/>
                </a:lnTo>
                <a:lnTo>
                  <a:pt x="214" y="0"/>
                </a:lnTo>
                <a:lnTo>
                  <a:pt x="214" y="242"/>
                </a:lnTo>
                <a:lnTo>
                  <a:pt x="0" y="37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886120" y="5372280"/>
            <a:ext cx="544320" cy="3823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30440" y="5148360"/>
            <a:ext cx="339840" cy="223920"/>
          </a:xfrm>
          <a:custGeom>
            <a:avLst/>
            <a:gdLst/>
            <a:ahLst/>
            <a:rect l="l" t="t" r="r" b="b"/>
            <a:pathLst>
              <a:path w="214" h="141">
                <a:moveTo>
                  <a:pt x="0" y="141"/>
                </a:moveTo>
                <a:lnTo>
                  <a:pt x="0" y="133"/>
                </a:lnTo>
                <a:lnTo>
                  <a:pt x="214" y="0"/>
                </a:lnTo>
                <a:lnTo>
                  <a:pt x="214" y="8"/>
                </a:lnTo>
                <a:lnTo>
                  <a:pt x="0" y="14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86120" y="5359320"/>
            <a:ext cx="544320" cy="129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430440" y="5024520"/>
            <a:ext cx="339840" cy="334800"/>
          </a:xfrm>
          <a:custGeom>
            <a:avLst/>
            <a:gdLst/>
            <a:ahLst/>
            <a:rect l="l" t="t" r="r" b="b"/>
            <a:pathLst>
              <a:path w="214" h="211">
                <a:moveTo>
                  <a:pt x="0" y="211"/>
                </a:moveTo>
                <a:lnTo>
                  <a:pt x="0" y="125"/>
                </a:lnTo>
                <a:lnTo>
                  <a:pt x="214" y="0"/>
                </a:lnTo>
                <a:lnTo>
                  <a:pt x="214" y="78"/>
                </a:lnTo>
                <a:lnTo>
                  <a:pt x="0" y="211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86120" y="5222880"/>
            <a:ext cx="544320" cy="1364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86120" y="5024520"/>
            <a:ext cx="884160" cy="198360"/>
          </a:xfrm>
          <a:custGeom>
            <a:avLst/>
            <a:gdLst/>
            <a:ahLst/>
            <a:rect l="l" t="t" r="r" b="b"/>
            <a:pathLst>
              <a:path w="557" h="125">
                <a:moveTo>
                  <a:pt x="343" y="125"/>
                </a:moveTo>
                <a:lnTo>
                  <a:pt x="557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76200" y="5470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152520" y="5272200"/>
            <a:ext cx="78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65200" y="506268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29120" y="5199120"/>
            <a:ext cx="339840" cy="555480"/>
          </a:xfrm>
          <a:custGeom>
            <a:avLst/>
            <a:gdLst/>
            <a:ahLst/>
            <a:rect l="l" t="t" r="r" b="b"/>
            <a:pathLst>
              <a:path w="214" h="350">
                <a:moveTo>
                  <a:pt x="0" y="350"/>
                </a:moveTo>
                <a:lnTo>
                  <a:pt x="0" y="132"/>
                </a:lnTo>
                <a:lnTo>
                  <a:pt x="214" y="0"/>
                </a:lnTo>
                <a:lnTo>
                  <a:pt x="214" y="218"/>
                </a:lnTo>
                <a:lnTo>
                  <a:pt x="0" y="350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484440" y="5408640"/>
            <a:ext cx="544680" cy="345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29120" y="4925880"/>
            <a:ext cx="339840" cy="482760"/>
          </a:xfrm>
          <a:custGeom>
            <a:avLst/>
            <a:gdLst/>
            <a:ahLst/>
            <a:rect l="l" t="t" r="r" b="b"/>
            <a:pathLst>
              <a:path w="214" h="304">
                <a:moveTo>
                  <a:pt x="0" y="304"/>
                </a:moveTo>
                <a:lnTo>
                  <a:pt x="0" y="133"/>
                </a:lnTo>
                <a:lnTo>
                  <a:pt x="214" y="0"/>
                </a:lnTo>
                <a:lnTo>
                  <a:pt x="214" y="172"/>
                </a:lnTo>
                <a:lnTo>
                  <a:pt x="0" y="304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484440" y="5137200"/>
            <a:ext cx="544680" cy="271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029120" y="4776840"/>
            <a:ext cx="339840" cy="360360"/>
          </a:xfrm>
          <a:custGeom>
            <a:avLst/>
            <a:gdLst/>
            <a:ahLst/>
            <a:rect l="l" t="t" r="r" b="b"/>
            <a:pathLst>
              <a:path w="214" h="227">
                <a:moveTo>
                  <a:pt x="0" y="227"/>
                </a:moveTo>
                <a:lnTo>
                  <a:pt x="0" y="133"/>
                </a:lnTo>
                <a:lnTo>
                  <a:pt x="214" y="0"/>
                </a:lnTo>
                <a:lnTo>
                  <a:pt x="214" y="94"/>
                </a:lnTo>
                <a:lnTo>
                  <a:pt x="0" y="2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84440" y="4987800"/>
            <a:ext cx="544680" cy="149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84440" y="4776840"/>
            <a:ext cx="884520" cy="21096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43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43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73080" y="54831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73080" y="5173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20680" y="478944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613400" y="5086440"/>
            <a:ext cx="352440" cy="668160"/>
          </a:xfrm>
          <a:custGeom>
            <a:avLst/>
            <a:gdLst/>
            <a:ahLst/>
            <a:rect l="l" t="t" r="r" b="b"/>
            <a:pathLst>
              <a:path w="222" h="421">
                <a:moveTo>
                  <a:pt x="0" y="421"/>
                </a:moveTo>
                <a:lnTo>
                  <a:pt x="0" y="133"/>
                </a:lnTo>
                <a:lnTo>
                  <a:pt x="222" y="0"/>
                </a:lnTo>
                <a:lnTo>
                  <a:pt x="222" y="289"/>
                </a:lnTo>
                <a:lnTo>
                  <a:pt x="0" y="421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083120" y="5297400"/>
            <a:ext cx="530280" cy="4572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613400" y="5000760"/>
            <a:ext cx="352440" cy="296640"/>
          </a:xfrm>
          <a:custGeom>
            <a:avLst/>
            <a:gdLst/>
            <a:ahLst/>
            <a:rect l="l" t="t" r="r" b="b"/>
            <a:pathLst>
              <a:path w="222" h="187">
                <a:moveTo>
                  <a:pt x="0" y="187"/>
                </a:moveTo>
                <a:lnTo>
                  <a:pt x="0" y="132"/>
                </a:lnTo>
                <a:lnTo>
                  <a:pt x="222" y="0"/>
                </a:lnTo>
                <a:lnTo>
                  <a:pt x="222" y="54"/>
                </a:lnTo>
                <a:lnTo>
                  <a:pt x="0" y="18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083120" y="5210280"/>
            <a:ext cx="530280" cy="871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13400" y="4691160"/>
            <a:ext cx="352440" cy="519120"/>
          </a:xfrm>
          <a:custGeom>
            <a:avLst/>
            <a:gdLst/>
            <a:ahLst/>
            <a:rect l="l" t="t" r="r" b="b"/>
            <a:pathLst>
              <a:path w="222" h="327">
                <a:moveTo>
                  <a:pt x="0" y="327"/>
                </a:moveTo>
                <a:lnTo>
                  <a:pt x="0" y="132"/>
                </a:lnTo>
                <a:lnTo>
                  <a:pt x="222" y="0"/>
                </a:lnTo>
                <a:lnTo>
                  <a:pt x="222" y="195"/>
                </a:lnTo>
                <a:lnTo>
                  <a:pt x="0" y="327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83120" y="4900680"/>
            <a:ext cx="530280" cy="3096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083120" y="4691160"/>
            <a:ext cx="882720" cy="20952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34" y="132"/>
                </a:moveTo>
                <a:lnTo>
                  <a:pt x="556" y="0"/>
                </a:lnTo>
                <a:lnTo>
                  <a:pt x="214" y="0"/>
                </a:lnTo>
                <a:lnTo>
                  <a:pt x="0" y="132"/>
                </a:lnTo>
                <a:lnTo>
                  <a:pt x="334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257360" y="54338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96960" y="5160960"/>
            <a:ext cx="1562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57360" y="4962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210280" y="4900680"/>
            <a:ext cx="339480" cy="853920"/>
          </a:xfrm>
          <a:custGeom>
            <a:avLst/>
            <a:gdLst/>
            <a:ahLst/>
            <a:rect l="l" t="t" r="r" b="b"/>
            <a:pathLst>
              <a:path w="214" h="538">
                <a:moveTo>
                  <a:pt x="0" y="538"/>
                </a:moveTo>
                <a:lnTo>
                  <a:pt x="0" y="133"/>
                </a:lnTo>
                <a:lnTo>
                  <a:pt x="214" y="0"/>
                </a:lnTo>
                <a:lnTo>
                  <a:pt x="214" y="406"/>
                </a:lnTo>
                <a:lnTo>
                  <a:pt x="0" y="53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67400" y="5111640"/>
            <a:ext cx="542880" cy="6429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10280" y="4529160"/>
            <a:ext cx="339480" cy="582480"/>
          </a:xfrm>
          <a:custGeom>
            <a:avLst/>
            <a:gdLst/>
            <a:ahLst/>
            <a:rect l="l" t="t" r="r" b="b"/>
            <a:pathLst>
              <a:path w="214" h="367">
                <a:moveTo>
                  <a:pt x="0" y="367"/>
                </a:moveTo>
                <a:lnTo>
                  <a:pt x="0" y="133"/>
                </a:lnTo>
                <a:lnTo>
                  <a:pt x="214" y="0"/>
                </a:lnTo>
                <a:lnTo>
                  <a:pt x="214" y="234"/>
                </a:lnTo>
                <a:lnTo>
                  <a:pt x="0" y="367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667400" y="4740120"/>
            <a:ext cx="542880" cy="3715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210280" y="4159080"/>
            <a:ext cx="339480" cy="581040"/>
          </a:xfrm>
          <a:custGeom>
            <a:avLst/>
            <a:gdLst/>
            <a:ahLst/>
            <a:rect l="l" t="t" r="r" b="b"/>
            <a:pathLst>
              <a:path w="214" h="366">
                <a:moveTo>
                  <a:pt x="0" y="366"/>
                </a:moveTo>
                <a:lnTo>
                  <a:pt x="0" y="132"/>
                </a:lnTo>
                <a:lnTo>
                  <a:pt x="214" y="0"/>
                </a:lnTo>
                <a:lnTo>
                  <a:pt x="214" y="233"/>
                </a:lnTo>
                <a:lnTo>
                  <a:pt x="0" y="366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67400" y="4368960"/>
            <a:ext cx="542880" cy="37116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67400" y="4159080"/>
            <a:ext cx="882360" cy="209880"/>
          </a:xfrm>
          <a:custGeom>
            <a:avLst/>
            <a:gdLst/>
            <a:ahLst/>
            <a:rect l="l" t="t" r="r" b="b"/>
            <a:pathLst>
              <a:path w="556" h="132">
                <a:moveTo>
                  <a:pt x="342" y="132"/>
                </a:moveTo>
                <a:lnTo>
                  <a:pt x="556" y="0"/>
                </a:lnTo>
                <a:lnTo>
                  <a:pt x="222" y="0"/>
                </a:lnTo>
                <a:lnTo>
                  <a:pt x="0" y="132"/>
                </a:lnTo>
                <a:lnTo>
                  <a:pt x="342" y="132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4308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67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43080" y="48276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153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43080" y="44560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808600" y="4815000"/>
            <a:ext cx="339840" cy="93960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65720" y="5024520"/>
            <a:ext cx="542880" cy="7300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808600" y="4084560"/>
            <a:ext cx="339840" cy="939960"/>
          </a:xfrm>
          <a:custGeom>
            <a:avLst/>
            <a:gdLst/>
            <a:ahLst/>
            <a:rect l="l" t="t" r="r" b="b"/>
            <a:pathLst>
              <a:path w="214" h="592">
                <a:moveTo>
                  <a:pt x="0" y="592"/>
                </a:moveTo>
                <a:lnTo>
                  <a:pt x="0" y="132"/>
                </a:lnTo>
                <a:lnTo>
                  <a:pt x="214" y="0"/>
                </a:lnTo>
                <a:lnTo>
                  <a:pt x="214" y="460"/>
                </a:lnTo>
                <a:lnTo>
                  <a:pt x="0" y="592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265720" y="4294080"/>
            <a:ext cx="542880" cy="7304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808600" y="3726000"/>
            <a:ext cx="339840" cy="568080"/>
          </a:xfrm>
          <a:custGeom>
            <a:avLst/>
            <a:gdLst/>
            <a:ahLst/>
            <a:rect l="l" t="t" r="r" b="b"/>
            <a:pathLst>
              <a:path w="214" h="358">
                <a:moveTo>
                  <a:pt x="0" y="358"/>
                </a:moveTo>
                <a:lnTo>
                  <a:pt x="0" y="124"/>
                </a:lnTo>
                <a:lnTo>
                  <a:pt x="214" y="0"/>
                </a:lnTo>
                <a:lnTo>
                  <a:pt x="214" y="226"/>
                </a:lnTo>
                <a:lnTo>
                  <a:pt x="0" y="358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265720" y="3922560"/>
            <a:ext cx="54288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265720" y="3726000"/>
            <a:ext cx="882720" cy="196560"/>
          </a:xfrm>
          <a:custGeom>
            <a:avLst/>
            <a:gdLst/>
            <a:ahLst/>
            <a:rect l="l" t="t" r="r" b="b"/>
            <a:pathLst>
              <a:path w="556" h="124">
                <a:moveTo>
                  <a:pt x="342" y="124"/>
                </a:moveTo>
                <a:lnTo>
                  <a:pt x="556" y="0"/>
                </a:lnTo>
                <a:lnTo>
                  <a:pt x="214" y="0"/>
                </a:lnTo>
                <a:lnTo>
                  <a:pt x="0" y="124"/>
                </a:lnTo>
                <a:lnTo>
                  <a:pt x="342" y="124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439960" y="52974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39960" y="45673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04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439960" y="40100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92880" y="4703760"/>
            <a:ext cx="353880" cy="1050840"/>
          </a:xfrm>
          <a:custGeom>
            <a:avLst/>
            <a:gdLst/>
            <a:ahLst/>
            <a:rect l="l" t="t" r="r" b="b"/>
            <a:pathLst>
              <a:path w="223" h="662">
                <a:moveTo>
                  <a:pt x="0" y="662"/>
                </a:moveTo>
                <a:lnTo>
                  <a:pt x="0" y="124"/>
                </a:lnTo>
                <a:lnTo>
                  <a:pt x="223" y="0"/>
                </a:lnTo>
                <a:lnTo>
                  <a:pt x="223" y="530"/>
                </a:lnTo>
                <a:lnTo>
                  <a:pt x="0" y="662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862600" y="4900680"/>
            <a:ext cx="530280" cy="85392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92880" y="4108320"/>
            <a:ext cx="353880" cy="792360"/>
          </a:xfrm>
          <a:custGeom>
            <a:avLst/>
            <a:gdLst/>
            <a:ahLst/>
            <a:rect l="l" t="t" r="r" b="b"/>
            <a:pathLst>
              <a:path w="223" h="499">
                <a:moveTo>
                  <a:pt x="0" y="499"/>
                </a:moveTo>
                <a:lnTo>
                  <a:pt x="0" y="125"/>
                </a:lnTo>
                <a:lnTo>
                  <a:pt x="223" y="0"/>
                </a:lnTo>
                <a:lnTo>
                  <a:pt x="223" y="375"/>
                </a:lnTo>
                <a:lnTo>
                  <a:pt x="0" y="499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862600" y="4307040"/>
            <a:ext cx="530280" cy="59364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392880" y="3798720"/>
            <a:ext cx="353880" cy="508320"/>
          </a:xfrm>
          <a:custGeom>
            <a:avLst/>
            <a:gdLst/>
            <a:ahLst/>
            <a:rect l="l" t="t" r="r" b="b"/>
            <a:pathLst>
              <a:path w="223" h="320">
                <a:moveTo>
                  <a:pt x="0" y="320"/>
                </a:moveTo>
                <a:lnTo>
                  <a:pt x="0" y="133"/>
                </a:lnTo>
                <a:lnTo>
                  <a:pt x="223" y="0"/>
                </a:lnTo>
                <a:lnTo>
                  <a:pt x="223" y="195"/>
                </a:lnTo>
                <a:lnTo>
                  <a:pt x="0" y="320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862600" y="4010040"/>
            <a:ext cx="530280" cy="2970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862600" y="3798720"/>
            <a:ext cx="884160" cy="211320"/>
          </a:xfrm>
          <a:custGeom>
            <a:avLst/>
            <a:gdLst/>
            <a:ahLst/>
            <a:rect l="l" t="t" r="r" b="b"/>
            <a:pathLst>
              <a:path w="557" h="133">
                <a:moveTo>
                  <a:pt x="334" y="133"/>
                </a:moveTo>
                <a:lnTo>
                  <a:pt x="557" y="0"/>
                </a:lnTo>
                <a:lnTo>
                  <a:pt x="214" y="0"/>
                </a:lnTo>
                <a:lnTo>
                  <a:pt x="0" y="133"/>
                </a:lnTo>
                <a:lnTo>
                  <a:pt x="334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38640" y="5235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35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38640" y="4518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4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38640" y="40719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91200" y="5049720"/>
            <a:ext cx="352440" cy="704880"/>
          </a:xfrm>
          <a:custGeom>
            <a:avLst/>
            <a:gdLst/>
            <a:ahLst/>
            <a:rect l="l" t="t" r="r" b="b"/>
            <a:pathLst>
              <a:path w="222" h="444">
                <a:moveTo>
                  <a:pt x="0" y="444"/>
                </a:moveTo>
                <a:lnTo>
                  <a:pt x="0" y="133"/>
                </a:lnTo>
                <a:lnTo>
                  <a:pt x="222" y="0"/>
                </a:lnTo>
                <a:lnTo>
                  <a:pt x="222" y="312"/>
                </a:lnTo>
                <a:lnTo>
                  <a:pt x="0" y="444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446880" y="5261040"/>
            <a:ext cx="544320" cy="493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91200" y="4356000"/>
            <a:ext cx="352440" cy="905040"/>
          </a:xfrm>
          <a:custGeom>
            <a:avLst/>
            <a:gdLst/>
            <a:ahLst/>
            <a:rect l="l" t="t" r="r" b="b"/>
            <a:pathLst>
              <a:path w="222" h="570">
                <a:moveTo>
                  <a:pt x="0" y="570"/>
                </a:moveTo>
                <a:lnTo>
                  <a:pt x="0" y="133"/>
                </a:lnTo>
                <a:lnTo>
                  <a:pt x="222" y="0"/>
                </a:lnTo>
                <a:lnTo>
                  <a:pt x="222" y="437"/>
                </a:lnTo>
                <a:lnTo>
                  <a:pt x="0" y="57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446880" y="4567320"/>
            <a:ext cx="544320" cy="69372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991200" y="3997440"/>
            <a:ext cx="352440" cy="569880"/>
          </a:xfrm>
          <a:custGeom>
            <a:avLst/>
            <a:gdLst/>
            <a:ahLst/>
            <a:rect l="l" t="t" r="r" b="b"/>
            <a:pathLst>
              <a:path w="222" h="359">
                <a:moveTo>
                  <a:pt x="0" y="359"/>
                </a:moveTo>
                <a:lnTo>
                  <a:pt x="0" y="125"/>
                </a:lnTo>
                <a:lnTo>
                  <a:pt x="222" y="0"/>
                </a:lnTo>
                <a:lnTo>
                  <a:pt x="222" y="226"/>
                </a:lnTo>
                <a:lnTo>
                  <a:pt x="0" y="35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46880" y="4195800"/>
            <a:ext cx="544320" cy="37152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46880" y="3997440"/>
            <a:ext cx="896760" cy="198360"/>
          </a:xfrm>
          <a:custGeom>
            <a:avLst/>
            <a:gdLst/>
            <a:ahLst/>
            <a:rect l="l" t="t" r="r" b="b"/>
            <a:pathLst>
              <a:path w="565" h="125">
                <a:moveTo>
                  <a:pt x="343" y="125"/>
                </a:moveTo>
                <a:lnTo>
                  <a:pt x="565" y="0"/>
                </a:lnTo>
                <a:lnTo>
                  <a:pt x="223" y="0"/>
                </a:lnTo>
                <a:lnTo>
                  <a:pt x="0" y="125"/>
                </a:lnTo>
                <a:lnTo>
                  <a:pt x="343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636960" y="54086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0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36960" y="481500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88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36960" y="428148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5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588080" y="4889520"/>
            <a:ext cx="339840" cy="865080"/>
          </a:xfrm>
          <a:custGeom>
            <a:avLst/>
            <a:gdLst/>
            <a:ahLst/>
            <a:rect l="l" t="t" r="r" b="b"/>
            <a:pathLst>
              <a:path w="214" h="545">
                <a:moveTo>
                  <a:pt x="0" y="545"/>
                </a:moveTo>
                <a:lnTo>
                  <a:pt x="0" y="132"/>
                </a:lnTo>
                <a:lnTo>
                  <a:pt x="214" y="0"/>
                </a:lnTo>
                <a:lnTo>
                  <a:pt x="214" y="413"/>
                </a:lnTo>
                <a:lnTo>
                  <a:pt x="0" y="545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45200" y="5099040"/>
            <a:ext cx="542880" cy="65556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588080" y="3638520"/>
            <a:ext cx="339840" cy="1460520"/>
          </a:xfrm>
          <a:custGeom>
            <a:avLst/>
            <a:gdLst/>
            <a:ahLst/>
            <a:rect l="l" t="t" r="r" b="b"/>
            <a:pathLst>
              <a:path w="214" h="920">
                <a:moveTo>
                  <a:pt x="0" y="920"/>
                </a:moveTo>
                <a:lnTo>
                  <a:pt x="0" y="125"/>
                </a:lnTo>
                <a:lnTo>
                  <a:pt x="214" y="0"/>
                </a:lnTo>
                <a:lnTo>
                  <a:pt x="214" y="788"/>
                </a:lnTo>
                <a:lnTo>
                  <a:pt x="0" y="920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45200" y="3836880"/>
            <a:ext cx="542880" cy="126216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588080" y="3179880"/>
            <a:ext cx="339840" cy="657000"/>
          </a:xfrm>
          <a:custGeom>
            <a:avLst/>
            <a:gdLst/>
            <a:ahLst/>
            <a:rect l="l" t="t" r="r" b="b"/>
            <a:pathLst>
              <a:path w="214" h="414">
                <a:moveTo>
                  <a:pt x="0" y="414"/>
                </a:moveTo>
                <a:lnTo>
                  <a:pt x="0" y="133"/>
                </a:lnTo>
                <a:lnTo>
                  <a:pt x="214" y="0"/>
                </a:lnTo>
                <a:lnTo>
                  <a:pt x="214" y="289"/>
                </a:lnTo>
                <a:lnTo>
                  <a:pt x="0" y="414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045200" y="3390840"/>
            <a:ext cx="542880" cy="44604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45200" y="3179880"/>
            <a:ext cx="882720" cy="210960"/>
          </a:xfrm>
          <a:custGeom>
            <a:avLst/>
            <a:gdLst/>
            <a:ahLst/>
            <a:rect l="l" t="t" r="r" b="b"/>
            <a:pathLst>
              <a:path w="556" h="133">
                <a:moveTo>
                  <a:pt x="342" y="133"/>
                </a:moveTo>
                <a:lnTo>
                  <a:pt x="556" y="0"/>
                </a:lnTo>
                <a:lnTo>
                  <a:pt x="223" y="0"/>
                </a:lnTo>
                <a:lnTo>
                  <a:pt x="0" y="133"/>
                </a:lnTo>
                <a:lnTo>
                  <a:pt x="342" y="133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3840" y="533412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271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33840" y="438156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248240" y="3540240"/>
            <a:ext cx="234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18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174160" y="4281480"/>
            <a:ext cx="352440" cy="1473120"/>
          </a:xfrm>
          <a:custGeom>
            <a:avLst/>
            <a:gdLst/>
            <a:ahLst/>
            <a:rect l="l" t="t" r="r" b="b"/>
            <a:pathLst>
              <a:path w="222" h="928">
                <a:moveTo>
                  <a:pt x="0" y="928"/>
                </a:moveTo>
                <a:lnTo>
                  <a:pt x="0" y="133"/>
                </a:lnTo>
                <a:lnTo>
                  <a:pt x="222" y="0"/>
                </a:lnTo>
                <a:lnTo>
                  <a:pt x="222" y="796"/>
                </a:lnTo>
                <a:lnTo>
                  <a:pt x="0" y="928"/>
                </a:lnTo>
                <a:close/>
              </a:path>
            </a:pathLst>
          </a:custGeom>
          <a:solidFill>
            <a:srgbClr val="00668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643880" y="4492800"/>
            <a:ext cx="530280" cy="126180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174160" y="1967040"/>
            <a:ext cx="352440" cy="2525760"/>
          </a:xfrm>
          <a:custGeom>
            <a:avLst/>
            <a:gdLst/>
            <a:ahLst/>
            <a:rect l="l" t="t" r="r" b="b"/>
            <a:pathLst>
              <a:path w="222" h="1591">
                <a:moveTo>
                  <a:pt x="0" y="1591"/>
                </a:moveTo>
                <a:lnTo>
                  <a:pt x="0" y="133"/>
                </a:lnTo>
                <a:lnTo>
                  <a:pt x="222" y="0"/>
                </a:lnTo>
                <a:lnTo>
                  <a:pt x="222" y="1458"/>
                </a:lnTo>
                <a:lnTo>
                  <a:pt x="0" y="1591"/>
                </a:lnTo>
                <a:close/>
              </a:path>
            </a:pathLst>
          </a:custGeom>
          <a:solidFill>
            <a:srgbClr val="8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43880" y="2178000"/>
            <a:ext cx="530280" cy="231480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174160" y="1496880"/>
            <a:ext cx="352440" cy="681120"/>
          </a:xfrm>
          <a:custGeom>
            <a:avLst/>
            <a:gdLst/>
            <a:ahLst/>
            <a:rect l="l" t="t" r="r" b="b"/>
            <a:pathLst>
              <a:path w="222" h="429">
                <a:moveTo>
                  <a:pt x="0" y="429"/>
                </a:moveTo>
                <a:lnTo>
                  <a:pt x="0" y="125"/>
                </a:lnTo>
                <a:lnTo>
                  <a:pt x="222" y="0"/>
                </a:lnTo>
                <a:lnTo>
                  <a:pt x="222" y="296"/>
                </a:lnTo>
                <a:lnTo>
                  <a:pt x="0" y="429"/>
                </a:lnTo>
                <a:close/>
              </a:path>
            </a:pathLst>
          </a:custGeom>
          <a:solidFill>
            <a:srgbClr val="808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43880" y="1695600"/>
            <a:ext cx="530280" cy="48240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43880" y="1496880"/>
            <a:ext cx="882720" cy="198720"/>
          </a:xfrm>
          <a:custGeom>
            <a:avLst/>
            <a:gdLst/>
            <a:ahLst/>
            <a:rect l="l" t="t" r="r" b="b"/>
            <a:pathLst>
              <a:path w="556" h="125">
                <a:moveTo>
                  <a:pt x="334" y="125"/>
                </a:moveTo>
                <a:lnTo>
                  <a:pt x="556" y="0"/>
                </a:lnTo>
                <a:lnTo>
                  <a:pt x="214" y="0"/>
                </a:lnTo>
                <a:lnTo>
                  <a:pt x="0" y="125"/>
                </a:lnTo>
                <a:lnTo>
                  <a:pt x="334" y="125"/>
                </a:lnTo>
                <a:close/>
              </a:path>
            </a:pathLst>
          </a:custGeom>
          <a:solidFill>
            <a:srgbClr val="bfbf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86800" y="502452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786800" y="32418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6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6800" y="18432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066680" y="1371240"/>
            <a:ext cx="1800" cy="43448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922320" y="573732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922320" y="525456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922320" y="477216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922320" y="42894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922320" y="380700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922320" y="332424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922320" y="284148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922320" y="23590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922320" y="1874880"/>
            <a:ext cx="684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922320" y="1392120"/>
            <a:ext cx="684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4040" y="563868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1920" y="515628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1920" y="46735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01920" y="419112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1920" y="3708360"/>
            <a:ext cx="38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91400" y="32241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91400" y="274176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2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1400" y="225900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4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400" y="17762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6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1400" y="129384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8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079640" y="5754600"/>
            <a:ext cx="7121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73732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6779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6224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859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45744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05612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64040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2372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356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419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8200" y="5754600"/>
            <a:ext cx="180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1688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201160" y="5754600"/>
            <a:ext cx="1440" cy="61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1642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8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629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347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455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5442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12812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72500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3236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9079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0628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8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0316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199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701840" y="5854680"/>
            <a:ext cx="50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44560" y="1682640"/>
            <a:ext cx="4037040" cy="8906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9240" y="1793880"/>
            <a:ext cx="108000" cy="98280"/>
          </a:xfrm>
          <a:prstGeom prst="rect">
            <a:avLst/>
          </a:prstGeom>
          <a:solidFill>
            <a:srgbClr val="ffff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526120" y="1731960"/>
            <a:ext cx="1262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TF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89240" y="2077920"/>
            <a:ext cx="108000" cy="100080"/>
          </a:xfrm>
          <a:prstGeom prst="rect">
            <a:avLst/>
          </a:prstGeom>
          <a:solidFill>
            <a:srgbClr val="ff0000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56360" y="2016000"/>
            <a:ext cx="171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SMG/3GPP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9240" y="2363760"/>
            <a:ext cx="108000" cy="98280"/>
          </a:xfrm>
          <a:prstGeom prst="rect">
            <a:avLst/>
          </a:prstGeom>
          <a:solidFill>
            <a:srgbClr val="00cc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591640" y="2301840"/>
            <a:ext cx="2615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rafted by other TBs without STF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8360" y="828720"/>
            <a:ext cx="93672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21920" y="700200"/>
            <a:ext cx="369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TB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7240" y="914400"/>
            <a:ext cx="1029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pprov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6476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STF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cost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to draft a deliverable</a:t>
            </a:r>
            <a:br>
              <a:rPr sz="2400"/>
            </a:br>
            <a:r>
              <a:rPr b="1" i="1" lang="en-GB" sz="1600" spc="-1" strike="noStrike">
                <a:solidFill>
                  <a:srgbClr val="ffffff"/>
                </a:solidFill>
                <a:latin typeface="Arial"/>
              </a:rPr>
              <a:t>(management STFs are excluded)</a:t>
            </a:r>
            <a:br>
              <a:rPr sz="1600"/>
            </a:br>
            <a:endParaRPr b="1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762120" y="1447920"/>
            <a:ext cx="7613640" cy="4694040"/>
            <a:chOff x="762120" y="1447920"/>
            <a:chExt cx="7613640" cy="4694040"/>
          </a:xfrm>
        </p:grpSpPr>
        <p:sp>
          <p:nvSpPr>
            <p:cNvPr id="338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0" y="137"/>
                  </a:moveTo>
                  <a:lnTo>
                    <a:pt x="209" y="0"/>
                  </a:lnTo>
                  <a:lnTo>
                    <a:pt x="4479" y="0"/>
                  </a:lnTo>
                  <a:lnTo>
                    <a:pt x="4270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solidFill>
              <a:srgbClr val="e3e3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65400" y="51418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65400" y="4729320"/>
              <a:ext cx="7110360" cy="21888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65400" y="4305240"/>
              <a:ext cx="7110360" cy="23040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265400" y="3894120"/>
              <a:ext cx="7110360" cy="2192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265400" y="348300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265400" y="3059280"/>
              <a:ext cx="7110360" cy="230040"/>
            </a:xfrm>
            <a:custGeom>
              <a:avLst/>
              <a:gdLst/>
              <a:ahLst/>
              <a:rect l="l" t="t" r="r" b="b"/>
              <a:pathLst>
                <a:path w="514" h="19">
                  <a:moveTo>
                    <a:pt x="0" y="19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1265400" y="2647800"/>
              <a:ext cx="7110360" cy="21780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265400" y="223668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265400" y="1825560"/>
              <a:ext cx="7110360" cy="217440"/>
            </a:xfrm>
            <a:custGeom>
              <a:avLst/>
              <a:gdLst/>
              <a:ahLst/>
              <a:rect l="l" t="t" r="r" b="b"/>
              <a:pathLst>
                <a:path w="514" h="18">
                  <a:moveTo>
                    <a:pt x="0" y="18"/>
                  </a:moveTo>
                  <a:lnTo>
                    <a:pt x="24" y="0"/>
                  </a:lnTo>
                  <a:lnTo>
                    <a:pt x="514" y="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265400" y="5553000"/>
              <a:ext cx="7110360" cy="217440"/>
            </a:xfrm>
            <a:custGeom>
              <a:avLst/>
              <a:gdLst/>
              <a:ahLst/>
              <a:rect l="l" t="t" r="r" b="b"/>
              <a:pathLst>
                <a:path w="4479" h="137">
                  <a:moveTo>
                    <a:pt x="4479" y="0"/>
                  </a:moveTo>
                  <a:lnTo>
                    <a:pt x="4270" y="137"/>
                  </a:lnTo>
                  <a:lnTo>
                    <a:pt x="0" y="137"/>
                  </a:lnTo>
                  <a:lnTo>
                    <a:pt x="209" y="0"/>
                  </a:lnTo>
                  <a:lnTo>
                    <a:pt x="4479" y="0"/>
                  </a:ln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265400" y="1825560"/>
              <a:ext cx="331560" cy="3944880"/>
            </a:xfrm>
            <a:custGeom>
              <a:avLst/>
              <a:gdLst/>
              <a:ahLst/>
              <a:rect l="l" t="t" r="r" b="b"/>
              <a:pathLst>
                <a:path w="209" h="2485">
                  <a:moveTo>
                    <a:pt x="0" y="2485"/>
                  </a:moveTo>
                  <a:lnTo>
                    <a:pt x="0" y="137"/>
                  </a:lnTo>
                  <a:lnTo>
                    <a:pt x="209" y="0"/>
                  </a:lnTo>
                  <a:lnTo>
                    <a:pt x="209" y="2348"/>
                  </a:lnTo>
                  <a:lnTo>
                    <a:pt x="0" y="2485"/>
                  </a:lnTo>
                  <a:close/>
                </a:path>
              </a:pathLst>
            </a:custGeom>
            <a:noFill/>
            <a:ln w="144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6960" y="1825560"/>
              <a:ext cx="6778800" cy="3727440"/>
            </a:xfrm>
            <a:prstGeom prst="rect">
              <a:avLst/>
            </a:prstGeom>
            <a:noFill/>
            <a:ln w="144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1998720" y="2066760"/>
              <a:ext cx="318960" cy="3703680"/>
            </a:xfrm>
            <a:custGeom>
              <a:avLst/>
              <a:gdLst/>
              <a:ahLst/>
              <a:rect l="l" t="t" r="r" b="b"/>
              <a:pathLst>
                <a:path w="201" h="2333">
                  <a:moveTo>
                    <a:pt x="0" y="2333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2196"/>
                  </a:lnTo>
                  <a:lnTo>
                    <a:pt x="0" y="233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514520" y="2284560"/>
              <a:ext cx="484200" cy="348588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514520" y="2066760"/>
              <a:ext cx="803160" cy="21780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51200" y="18367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42,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67120" y="2975040"/>
              <a:ext cx="318960" cy="2795400"/>
            </a:xfrm>
            <a:custGeom>
              <a:avLst/>
              <a:gdLst/>
              <a:ahLst/>
              <a:rect l="l" t="t" r="r" b="b"/>
              <a:pathLst>
                <a:path w="201" h="1761">
                  <a:moveTo>
                    <a:pt x="0" y="176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624"/>
                  </a:lnTo>
                  <a:lnTo>
                    <a:pt x="0" y="176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482920" y="3192480"/>
              <a:ext cx="484200" cy="257796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482920" y="297504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835360" y="26971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1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2720880"/>
              <a:ext cx="318960" cy="3049560"/>
            </a:xfrm>
            <a:custGeom>
              <a:avLst/>
              <a:gdLst/>
              <a:ahLst/>
              <a:rect l="l" t="t" r="r" b="b"/>
              <a:pathLst>
                <a:path w="201" h="1921">
                  <a:moveTo>
                    <a:pt x="0" y="1921"/>
                  </a:moveTo>
                  <a:lnTo>
                    <a:pt x="0" y="137"/>
                  </a:lnTo>
                  <a:lnTo>
                    <a:pt x="201" y="0"/>
                  </a:lnTo>
                  <a:lnTo>
                    <a:pt x="201" y="1784"/>
                  </a:lnTo>
                  <a:lnTo>
                    <a:pt x="0" y="1921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451320" y="2938320"/>
              <a:ext cx="484200" cy="28321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51320" y="2720880"/>
              <a:ext cx="803160" cy="217440"/>
            </a:xfrm>
            <a:custGeom>
              <a:avLst/>
              <a:gdLst/>
              <a:ahLst/>
              <a:rect l="l" t="t" r="r" b="b"/>
              <a:pathLst>
                <a:path w="506" h="137">
                  <a:moveTo>
                    <a:pt x="305" y="137"/>
                  </a:moveTo>
                  <a:lnTo>
                    <a:pt x="506" y="0"/>
                  </a:lnTo>
                  <a:lnTo>
                    <a:pt x="201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09880" y="236232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34,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903920" y="3616200"/>
              <a:ext cx="317520" cy="2154240"/>
            </a:xfrm>
            <a:custGeom>
              <a:avLst/>
              <a:gdLst/>
              <a:ahLst/>
              <a:rect l="l" t="t" r="r" b="b"/>
              <a:pathLst>
                <a:path w="200" h="1357">
                  <a:moveTo>
                    <a:pt x="0" y="1357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20"/>
                  </a:lnTo>
                  <a:lnTo>
                    <a:pt x="0" y="1357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419720" y="3833640"/>
              <a:ext cx="484200" cy="19368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419720" y="36162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8006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3,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872320" y="3556080"/>
              <a:ext cx="317520" cy="2214360"/>
            </a:xfrm>
            <a:custGeom>
              <a:avLst/>
              <a:gdLst/>
              <a:ahLst/>
              <a:rect l="l" t="t" r="r" b="b"/>
              <a:pathLst>
                <a:path w="200" h="1395">
                  <a:moveTo>
                    <a:pt x="0" y="1395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1258"/>
                  </a:lnTo>
                  <a:lnTo>
                    <a:pt x="0" y="1395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388120" y="3773520"/>
              <a:ext cx="484200" cy="199692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388120" y="355608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783400" y="31240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24,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840360" y="4003560"/>
              <a:ext cx="317520" cy="1766880"/>
            </a:xfrm>
            <a:custGeom>
              <a:avLst/>
              <a:gdLst/>
              <a:ahLst/>
              <a:rect l="l" t="t" r="r" b="b"/>
              <a:pathLst>
                <a:path w="200" h="1113">
                  <a:moveTo>
                    <a:pt x="0" y="1113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76"/>
                  </a:lnTo>
                  <a:lnTo>
                    <a:pt x="0" y="1113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6356520" y="4221000"/>
              <a:ext cx="483840" cy="154944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356520" y="4003560"/>
              <a:ext cx="80136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629400" y="358128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8,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8760" y="4100400"/>
              <a:ext cx="317520" cy="1670040"/>
            </a:xfrm>
            <a:custGeom>
              <a:avLst/>
              <a:gdLst/>
              <a:ahLst/>
              <a:rect l="l" t="t" r="r" b="b"/>
              <a:pathLst>
                <a:path w="200" h="1052">
                  <a:moveTo>
                    <a:pt x="0" y="1052"/>
                  </a:moveTo>
                  <a:lnTo>
                    <a:pt x="0" y="137"/>
                  </a:lnTo>
                  <a:lnTo>
                    <a:pt x="200" y="0"/>
                  </a:lnTo>
                  <a:lnTo>
                    <a:pt x="200" y="915"/>
                  </a:lnTo>
                  <a:lnTo>
                    <a:pt x="0" y="1052"/>
                  </a:lnTo>
                  <a:close/>
                </a:path>
              </a:pathLst>
            </a:custGeom>
            <a:solidFill>
              <a:srgbClr val="006680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24560" y="4317840"/>
              <a:ext cx="484200" cy="1452600"/>
            </a:xfrm>
            <a:prstGeom prst="rect">
              <a:avLst/>
            </a:prstGeom>
            <a:solidFill>
              <a:srgbClr val="00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24560" y="4100400"/>
              <a:ext cx="801720" cy="217440"/>
            </a:xfrm>
            <a:custGeom>
              <a:avLst/>
              <a:gdLst/>
              <a:ahLst/>
              <a:rect l="l" t="t" r="r" b="b"/>
              <a:pathLst>
                <a:path w="505" h="137">
                  <a:moveTo>
                    <a:pt x="305" y="137"/>
                  </a:moveTo>
                  <a:lnTo>
                    <a:pt x="505" y="0"/>
                  </a:lnTo>
                  <a:lnTo>
                    <a:pt x="200" y="0"/>
                  </a:lnTo>
                  <a:lnTo>
                    <a:pt x="0" y="137"/>
                  </a:lnTo>
                  <a:lnTo>
                    <a:pt x="305" y="137"/>
                  </a:lnTo>
                  <a:close/>
                </a:path>
              </a:pathLst>
            </a:custGeom>
            <a:solidFill>
              <a:srgbClr val="0099b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620120" y="3657600"/>
              <a:ext cx="44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63de8"/>
                  </a:solidFill>
                  <a:latin typeface="Arial"/>
                </a:rPr>
                <a:t>17,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1173240" y="2017800"/>
              <a:ext cx="1440" cy="3727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1104840" y="574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1104840" y="53341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1104840" y="49230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>
              <a:off x="1104840" y="451008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1104840" y="408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1104840" y="36752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1104840" y="3263760"/>
              <a:ext cx="684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1104840" y="284004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1104840" y="242892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1104840" y="2017800"/>
              <a:ext cx="68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020600" y="56484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020600" y="523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14400" y="48261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14400" y="4413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14400" y="399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914400" y="35784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14400" y="31669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27432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914400" y="2332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914400" y="19209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4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2120" y="1447920"/>
              <a:ext cx="119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fafd00"/>
                  </a:solidFill>
                  <a:latin typeface="Arial"/>
                </a:rPr>
                <a:t>kEUR/deliv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265400" y="5770440"/>
              <a:ext cx="67784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173240" y="5745240"/>
              <a:ext cx="1440" cy="60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33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2018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1702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386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1070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075440" y="5770440"/>
              <a:ext cx="180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43840" y="5770440"/>
              <a:ext cx="1440" cy="604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5724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54088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089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4773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4457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4141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199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82520" y="586728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afd00"/>
                  </a:solidFill>
                  <a:latin typeface="Arial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3de8"/>
            </a:gs>
            <a:gs pos="50000">
              <a:srgbClr val="0536cf"/>
            </a:gs>
            <a:gs pos="100000">
              <a:srgbClr val="063d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95440" y="214200"/>
            <a:ext cx="4890960" cy="4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welve</a:t>
            </a:r>
            <a:r>
              <a:rPr b="1" i="1" lang="en-GB" sz="2400" spc="-1" strike="noStrike">
                <a:solidFill>
                  <a:srgbClr val="ffffff"/>
                </a:solidFill>
                <a:latin typeface="Arial"/>
              </a:rPr>
              <a:t> years of STFs 1988-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1" lang="en-US" sz="2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3504960"/>
          </a:xfrm>
          <a:prstGeom prst="rect">
            <a:avLst/>
          </a:prstGeom>
          <a:noFill/>
          <a:ln w="0">
            <a:noFill/>
          </a:ln>
        </p:spPr>
        <p:txBody>
          <a:bodyPr lIns="762120" rIns="762120" tIns="46080" bIns="46080" anchor="ctr">
            <a:normAutofit fontScale="96000"/>
          </a:bodyPr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24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STF Team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 new STFs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65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E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xperts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in total 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0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i="1" lang="en-GB" sz="2400" spc="-1" strike="noStrike">
                <a:solidFill>
                  <a:srgbClr val="fafd00"/>
                </a:solidFill>
                <a:latin typeface="Arial"/>
              </a:rPr>
              <a:t>xperts in 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  <a:p>
            <a:pPr marL="370440" indent="-370440">
              <a:lnSpc>
                <a:spcPct val="150000"/>
              </a:lnSpc>
              <a:spcAft>
                <a:spcPts val="2999"/>
              </a:spcAft>
              <a:buClr>
                <a:srgbClr val="fafd00"/>
              </a:buClr>
              <a:buSzPct val="120000"/>
              <a:buFont typeface="Wingdings" charset="2"/>
              <a:buChar char=""/>
              <a:tabLst>
                <a:tab algn="dec" pos="1338120"/>
                <a:tab algn="r" pos="7329600"/>
                <a:tab algn="dec" pos="7996320"/>
                <a:tab algn="l" pos="8858160"/>
                <a:tab algn="l" pos="9744120"/>
                <a:tab algn="l" pos="10630080"/>
              </a:tabLst>
            </a:pP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&gt; 1,000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D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eliverables produced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directly by STFs</a:t>
            </a: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*</a:t>
            </a:r>
            <a:br>
              <a:rPr sz="2400"/>
            </a:b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1" i="1" lang="fr-FR" sz="2400" spc="-1" strike="noStrike">
                <a:solidFill>
                  <a:srgbClr val="fafd00"/>
                </a:solidFill>
                <a:latin typeface="Arial"/>
              </a:rPr>
              <a:t>196 in 2000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)</a:t>
            </a:r>
            <a:br>
              <a:rPr sz="2400"/>
            </a:br>
            <a:r>
              <a:rPr b="1" lang="en-GB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fr-FR" sz="24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fafd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413160" y="1127160"/>
            <a:ext cx="369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30640" y="352584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230640" y="3597120"/>
            <a:ext cx="315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962520" y="5257800"/>
            <a:ext cx="4359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Aft>
                <a:spcPts val="17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afd00"/>
                </a:solidFill>
                <a:latin typeface="Arial"/>
              </a:rPr>
              <a:t>* </a:t>
            </a:r>
            <a:r>
              <a:rPr b="1" i="1" lang="en-GB" sz="1400" spc="-1" strike="noStrike">
                <a:solidFill>
                  <a:srgbClr val="fafd00"/>
                </a:solidFill>
                <a:latin typeface="Arial"/>
              </a:rPr>
              <a:t>(management and project support not included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0T12:43:08Z</dcterms:created>
  <dc:creator>Alberto Berrini</dc:creator>
  <dc:description/>
  <dc:language>en-US</dc:language>
  <cp:lastModifiedBy>Superuser</cp:lastModifiedBy>
  <cp:lastPrinted>1999-08-24T14:04:52Z</cp:lastPrinted>
  <dcterms:modified xsi:type="dcterms:W3CDTF">2002-01-02T15:22:54Z</dcterms:modified>
  <cp:revision>64</cp:revision>
  <dc:subject/>
  <dc:title>STFs</dc:title>
</cp:coreProperties>
</file>