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6FC6-928D-47C8-B83D-6763D9F7A0B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7B8F8-1C13-4D07-BFFD-C94169D660D5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88B8-7180-465F-A666-4ACB657B37E2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385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C167-8FCE-4A2C-918D-485237705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6EF4-5B8F-4DBD-9930-A1628F7FC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4281-846F-444D-94C7-DEE5083DD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37E6-2BF2-4C7C-9ACE-7ABCCC7E8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2ED6-730C-468F-93A2-D03677C2E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8265-BD75-4ECA-A658-586B7324D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2CDF-BEBA-4BA3-AE77-D9AF5D40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BF7D-8E34-4EFD-A575-CE137AE6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1122-ACA1-4DD0-A4EB-848154EF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A43C-8EC4-4F34-8BF8-C4C2E8788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D8D6-0F41-440F-A0FD-FD34F104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F737-7941-4DB6-B3DD-C70A9C135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48D1-63E9-4358-8D0B-65647A301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UMTS - Security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tand der Standardisieru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33523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Roland Schmi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Nova Deutsche Telekom Innovationsgesellscha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echnologiezentrum Darmsta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Times New Roman"/>
              </a:rPr>
              <a:t>Stefan Püt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-Mob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Operationen auf der USI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33520" y="1219320"/>
          <a:ext cx="6858000" cy="48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6858000" cy="48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010280" y="5195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HLR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10280" y="57294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3333cc"/>
                </a:solidFill>
                <a:latin typeface="Times New Roman"/>
              </a:rPr>
              <a:t>Key Fresh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541008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77120" y="5943600"/>
            <a:ext cx="457200" cy="0"/>
          </a:xfrm>
          <a:prstGeom prst="line">
            <a:avLst/>
          </a:prstGeom>
          <a:ln w="19080">
            <a:solidFill>
              <a:srgbClr val="3333c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G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2522520" y="1523880"/>
          <a:ext cx="387828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2520" y="1523880"/>
                    <a:ext cx="387828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2860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2G/3G Interworking Mechanism USIM Roam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2776680" y="1523880"/>
          <a:ext cx="3776400" cy="533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6680" y="1523880"/>
                    <a:ext cx="3776400" cy="53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304920" y="1523880"/>
            <a:ext cx="1752480" cy="1015920"/>
          </a:xfrm>
          <a:prstGeom prst="rect">
            <a:avLst/>
          </a:prstGeom>
          <a:solidFill>
            <a:srgbClr val="c0c0c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ffff"/>
                </a:solidFill>
                <a:latin typeface="Arial"/>
              </a:rPr>
              <a:t>2G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99"/>
                </a:solidFill>
                <a:latin typeface="Arial"/>
              </a:rPr>
              <a:t>3G UM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KASUMI: Der UMTS Cipher- and Integrity Algorithm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SUMI = Jap.: Nebel (Blockchiff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Verschlüsselungsalgo. f8: KASUMI in OFB M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iert auf der Blockchiffre MISTY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Designer: M. Matsui, Mitsubish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twickelt von ETSI SAGE (07/99-10/99)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SAGE: Security Algorithm Group of Expe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valuation durch drei Teams (11/99-12/99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rt Preneel/Lars Knudsen (Leuven/Berg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Jacques Stern (ENS Par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ed Piper (Royal Holloway Londo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blikation erwartet unter www.etsi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Ausblick: 3G Security Work Items 20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P based 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obile execution environment (MexE)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isibility and configur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M application securit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raud information gathering system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ocation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HE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Literaturhinwe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lker M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de-DE" sz="2400" spc="-1" strike="noStrike">
                <a:solidFill>
                  <a:srgbClr val="000000"/>
                </a:solidFill>
                <a:latin typeface="Times New Roman"/>
              </a:rPr>
              <a:t>Security of 3G Systems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,  Proc. EUROCRYPT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ity for the Third-Generation Mobile Radio System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UM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British Telecom. Engineering Journal, Aug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Transport of Authentication Data in Third-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Generation Mobile Network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CQRE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ütz S., Schmitz R.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Secure Interoperation of 2G and 3G Mobile Networks,</a:t>
            </a:r>
            <a:br>
              <a:rPr sz="2400"/>
            </a:b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c. 3G2000/Mobile Communicatio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Überbli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- Standardisierungsgrem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Übersicht UMTS-Sicherhe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inzipi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erbesserungen gegenüber G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Authentikationsprotokol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(Authentication and Key Agreement Protoco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2G/3G Interwor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UMTS Verschlüsselungsalgorithmus KAS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sbli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Beteiligte Gremi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 (3rd Geneneration Partnership Proje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aufbauend auf GSM Spezifik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teiligte Organisatio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TSI (Europa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RIB, TTC (Jap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TA (Kore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1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WTS (Ch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PP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ndardisierung basierend auf ANSI/TIA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Security Working Gro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763120" cy="455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egründet Februar 199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. Walker, Vodafone (chair)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. Pütz, T-Mobil; M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covici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ucent (vice chair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tretene Partei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rsteller: Alcatel, Ericsson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mplus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Lucent, Mitsubishi, Motorola, Nokia , Panasonic, Siem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treiber: BT, FT, ICO, MMO, NTT DoCoMo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komtel, Philips,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lenor, Telia, T-Mobil, V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hörden: BMWi, DTI, Reg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6320" indent="-2595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asis-Dokument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85880" indent="-265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GPP TS 33.102 UMTS Security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icherheitsprinzipien von UM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8018280" cy="45514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basiert auf 2G Sicherheitsarchitekt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währte 2G Sicherheitselemente wie die SIM-Karte als Sicherheitsmodul werden übernomme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verbessert die Sicherheit von 2G Syste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kannte Schwächen von 2G Systemen werden korrigiert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3G Security wird neue Sicherheitsdienste ermöglic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33240" y="533520"/>
            <a:ext cx="801864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Erkannte Schwächen der 2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8015040" cy="45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ktive Attacken (“IMSI Catching”) basierend auf “False Base Station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schlüsselung endet in den Basisstatio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lüssel und Authentikationsdaten werden im Klartext innerhalb und zwischen Netzen übermitte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ein 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75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oretische Attacken auf den Verschlüsselungs-algorithmus A5/1 veröffentlic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Verbesserungen durch 3G Secur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Authentikation des HLRs gegenüber der U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tegritätsschutz auf der Luftschnitt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achweis frischer Schlüssel (Key freshn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Neue Algorit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128 Bit Schlüssellängen (K, CK, I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Core network signalling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Verschlüsselung endet im RN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Optionaler Dien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etwork-wide user traffic confidenti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3GPP Authentication and Key Agreement (AKA)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219320" y="1600200"/>
          <a:ext cx="6705360" cy="49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6705360" cy="49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Erzeugen des UMTS Authentikationsvektors im AU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66840" y="1498680"/>
          <a:ext cx="6353280" cy="47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6840" y="1498680"/>
                    <a:ext cx="6353280" cy="47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3T11:20:17Z</dcterms:created>
  <dc:creator>schmitz</dc:creator>
  <dc:description/>
  <dc:language>en-US</dc:language>
  <cp:lastModifiedBy>Superuser</cp:lastModifiedBy>
  <cp:lastPrinted>2000-03-26T20:41:21Z</cp:lastPrinted>
  <dcterms:modified xsi:type="dcterms:W3CDTF">2002-04-20T19:07:24Z</dcterms:modified>
  <cp:revision>25</cp:revision>
  <dc:subject/>
  <dc:title>Secure Interoperation  of 2G and 3G Networks</dc:title>
</cp:coreProperties>
</file>