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9042-84E3-4E7D-A7DB-25D1D7DA4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844F-5287-41CA-B655-521868355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FF80-9306-4064-BA9B-468AFBC21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8257-D9F2-4664-BFBF-0B522BAC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50F3-5A19-49A5-B43B-091AD270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04B-73F5-47C6-885D-46C37C006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6748-891F-4EE2-8F10-1477BA2FB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F5B7-E749-4607-B573-223F5C398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AA8D-6705-4C77-BD73-C61312DA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1A41-5A97-4DCC-ABF6-89120516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02DE-2246-4A08-A628-D0AEAC5F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9E01-541D-485B-8B33-0A234435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67D6-3EBD-429E-BEFC-515E10982C8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303640" y="301680"/>
            <a:ext cx="46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ject- Tree: Lawful Inter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51680" y="5680080"/>
            <a:ext cx="182520" cy="6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029200" y="5811840"/>
            <a:ext cx="111240" cy="669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627000" y="5943600"/>
            <a:ext cx="3445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44720" y="51814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0" y="896760"/>
            <a:ext cx="52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itt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264360" y="2300400"/>
            <a:ext cx="18396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6200" y="4983120"/>
            <a:ext cx="3179520" cy="573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4429080"/>
            <a:ext cx="2034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108320" y="4707000"/>
            <a:ext cx="3812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924280" y="1146240"/>
            <a:ext cx="8222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47148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46520" y="1146240"/>
            <a:ext cx="274680" cy="63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46520" y="1146240"/>
            <a:ext cx="10065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diamond" w="med"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563640" y="1876320"/>
            <a:ext cx="1189080" cy="824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3196800" y="2700360"/>
            <a:ext cx="366840" cy="5475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64000" y="2700360"/>
            <a:ext cx="457200" cy="54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3564000" y="32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21200" y="3247920"/>
            <a:ext cx="639720" cy="64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197160" y="3889440"/>
            <a:ext cx="1463760" cy="730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111560" y="3889440"/>
            <a:ext cx="54936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60920" y="3889440"/>
            <a:ext cx="639720" cy="10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660920" y="3889440"/>
            <a:ext cx="1279440" cy="5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832120" y="4619520"/>
            <a:ext cx="365040" cy="54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2374920" y="51688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4360" y="4711680"/>
            <a:ext cx="457200" cy="274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3975120" y="4986360"/>
            <a:ext cx="1325520" cy="944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5600" y="4986360"/>
            <a:ext cx="274680" cy="82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00640" y="4986360"/>
            <a:ext cx="763560" cy="568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0640" y="4986360"/>
            <a:ext cx="1736640" cy="679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5757480" y="4437000"/>
            <a:ext cx="182520" cy="366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246200" y="1368360"/>
            <a:ext cx="1448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identified-organization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654720" y="2192400"/>
            <a:ext cx="500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tsi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5920" y="2801880"/>
            <a:ext cx="111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ecurityDomain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3840" y="3335400"/>
            <a:ext cx="583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raud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5400" y="3335400"/>
            <a:ext cx="1063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wfulIntercept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045600" y="432576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1(0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7360" y="440208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2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85320" y="4405320"/>
            <a:ext cx="474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3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560560" y="402120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im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86600" y="4786200"/>
            <a:ext cx="1377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notificationOperation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7880" y="5102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174480" y="467676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175000" y="44560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46160" y="50911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3284640" y="5931000"/>
            <a:ext cx="690480" cy="355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41120" y="5985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4463640" y="5802480"/>
            <a:ext cx="568440" cy="66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22360" y="58942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45120" y="5559480"/>
            <a:ext cx="27000" cy="919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68680" y="57564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59640" y="5676840"/>
            <a:ext cx="371520" cy="6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68600" y="5748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601800" y="5530680"/>
            <a:ext cx="718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ircuitLI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393440" y="5521320"/>
            <a:ext cx="753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tETRALI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82280" y="5435640"/>
            <a:ext cx="71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PRSLI(3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3560" y="5216400"/>
            <a:ext cx="70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clinkLI(4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8236080" y="5553000"/>
            <a:ext cx="280800" cy="7365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86360" y="572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432120" y="4894200"/>
            <a:ext cx="651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gSMLI(5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01920" y="4470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82520" y="5181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95400" y="61786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035320" y="608652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00640" y="590400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version2(2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876240" y="3886200"/>
            <a:ext cx="3772080" cy="790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0200" y="4408560"/>
            <a:ext cx="41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ff0000"/>
                </a:solidFill>
                <a:latin typeface="Times New Roman"/>
              </a:rPr>
              <a:t>3GP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4724280"/>
            <a:ext cx="466560" cy="409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4840" y="4695840"/>
            <a:ext cx="561960" cy="4190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866880" y="4705200"/>
            <a:ext cx="38160" cy="4478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61440" y="485136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4880" y="487980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3200" y="4775040"/>
            <a:ext cx="34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ff0000"/>
                </a:solidFill>
                <a:latin typeface="Times New Roman"/>
              </a:rPr>
              <a:t>hi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457200" y="5143680"/>
            <a:ext cx="409680" cy="30456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31480" y="5505480"/>
            <a:ext cx="756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0000"/>
                </a:solidFill>
                <a:latin typeface="Arial"/>
              </a:rPr>
              <a:t>version1(1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1:46:07Z</dcterms:created>
  <dc:creator>Wolfgang Schumacher</dc:creator>
  <dc:description/>
  <dc:language>en-US</dc:language>
  <cp:lastModifiedBy>m.b.</cp:lastModifiedBy>
  <cp:lastPrinted>2000-11-29T10:02:02Z</cp:lastPrinted>
  <dcterms:modified xsi:type="dcterms:W3CDTF">2002-01-30T15:15:58Z</dcterms:modified>
  <cp:revision>39</cp:revision>
  <dc:subject/>
  <dc:title>Kein Folientitel</dc:title>
</cp:coreProperties>
</file>