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B3D4-B8E5-4628-A804-D1D48D16E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1485-A765-44A2-B96C-361BE3B0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9226-F6BD-481B-8F18-27C47B0E5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0C4D-2B22-4168-A7C9-C3FB9DA8C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AE75-87F0-4296-A809-DEC9F859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B05F3-1822-419F-9908-0ECA8DA63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5F635-BF68-437A-B801-7088E3121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E0A7-FF28-43CB-89E0-C67524DC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3764-DBF0-48A3-8FCB-B2357E4B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C19D-E7C9-4689-843D-C7B7B93C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5071-B225-46FA-AB1B-999107E3B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E5A6-F873-4EE1-9531-A7727DBE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4BC1-2BE5-434F-89C5-15623FA6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BA4F-91F6-403F-9D3B-DF1188FD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533-ADF0-4792-9E5B-037734B82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AAE7A-47D5-432A-BC6F-F5CACAA5D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2630-2916-4E88-A6AB-BFE50F10F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20D4-A658-40AF-A6D6-A4D9FE6E7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56E5-C01B-405A-AE40-CBE3C49C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BA90-DA18-4EA4-BEBF-CBCBB334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F1CF-BA23-408A-BDA8-EB2378AF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37E8-13BC-4F59-8709-69CEE5A0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C564-DB43-42E6-B93F-A7C87D642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DFC9-99D3-42C2-BC5A-3B2C0EC2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CD7FF-1CF2-498E-BCCC-DEC2C282386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E68DB-406A-46D0-B1CB-8CD366C36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167B-5C3A-4431-B235-67A87F05F55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16FA-505C-47DA-9702-06C3F2E2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1523520"/>
            <a:ext cx="6095880" cy="18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TSI and Lawful Intercepti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682280" y="4076280"/>
            <a:ext cx="586116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in Gap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ir TC Sec 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FF13-E6EE-4893-AC66-5F5E33196BC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P Re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scribes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uctures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mon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point to solu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E178-E292-4025-8A32-8CCE6D7BF8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2560" y="2057400"/>
          <a:ext cx="7772400" cy="43974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2560" y="2057400"/>
                    <a:ext cx="7772400" cy="43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BE6C-7F46-4DE1-BD09-2443E32FD3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y standardis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ed to 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ow hass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7ED0-D182-4EC4-B0E7-AC41E6E9C95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layers in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pe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M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gulators &amp; Minis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w Enforce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1ABC-E0E9-49DF-8816-6CB71426BB4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ETSI doing for dat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M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IPH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cludes vo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A81-6826-4D70-BD8B-8F6B2F0CCBD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ere is the market g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ll steam a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re the demand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and mor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tail not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rowth will 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E5B-07B4-4D99-9D15-4B3F9189AE6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ET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opt ETSI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ap, for every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erocious pace of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very hard to s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D49E-DBDE-4FD2-B868-E0033989ED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re inf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ww.etsi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ub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ebapp.etsi.org/pd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G 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ttp://www.etsi.org/SEC/sec_li.ht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812D-8830-4998-911B-3C336D5F6D4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bout ETS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Telecommunications Standard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“standards factor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rket dri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industry par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and Global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212E-223B-48FA-80E3-355DCB514CB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STN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echnical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1 19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lus supporting doc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 Requirements (ETR 33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twork Elements (ES 201 15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8A15-32F5-41A0-96D6-BEA4D1A5D6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 Major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rted with 17th January 1995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led out” LEA requirements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etwork elements 199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ndover Interface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vised Handover Interface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D003-EF85-4ACE-8C94-B7DA0F49A27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ructure of Hando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cept related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ent of 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pecifies the boundary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D1C3-8818-4E4F-AB72-1FC6061A1B2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500880" y="5829480"/>
            <a:ext cx="21193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944800" y="1219320"/>
          <a:ext cx="6192720" cy="5452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44800" y="1219320"/>
                    <a:ext cx="6192720" cy="54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30200" y="3967200"/>
            <a:ext cx="2286000" cy="243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 = Access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I = Handover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IF = internal intercepting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I = internal network interfac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MF = Law enforcement monitoring facility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F = Mediation functi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WO = Network operator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vP = Service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56C8-4DA8-4C84-AC89-12AA6AFCB8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doption of ES 201 6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uropean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BB31-C1EC-4187-BA00-DCD7458153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Mob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SM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S 101 509 (03.3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so TET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 301 0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5C4-CD6D-4AF2-9AAF-932EEB7BEC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ata Achiev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Handover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8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 201 671 v2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PRS Intern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ex B of TS 101 5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port “Issues on IP Intercep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 101 9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D8B0-3F37-4832-B0FA-7C66663ACE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2T15:55:13Z</dcterms:created>
  <dc:creator>Sonia Coleman</dc:creator>
  <dc:description/>
  <dc:language>en-US</dc:language>
  <cp:lastModifiedBy>infosys</cp:lastModifiedBy>
  <dcterms:modified xsi:type="dcterms:W3CDTF">2001-06-04T05:58:49Z</dcterms:modified>
  <cp:revision>6</cp:revision>
  <dc:subject/>
  <dc:title>Title</dc:title>
</cp:coreProperties>
</file>