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1960" y="6232680"/>
            <a:ext cx="133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onald D. (Ron) Ry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hair T1P1.SA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810560" y="6324480"/>
            <a:ext cx="105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lide </a:t>
            </a:r>
            <a:fld id="{FD4C19F5-AB51-4449-9B92-615B62384DCF}" type="slidenum"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781440" y="6324480"/>
            <a:ext cx="1579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Copyright Nortel Network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857360" y="228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T1P1/2001-04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128320" y="1752480"/>
            <a:ext cx="444492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52388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41768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029200" y="320040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123920" y="1295280"/>
            <a:ext cx="547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99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29718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1" name=""/>
          <p:cNvGraphicFramePr/>
          <p:nvPr/>
        </p:nvGraphicFramePr>
        <p:xfrm>
          <a:off x="4343400" y="4038480"/>
          <a:ext cx="4114800" cy="2032200"/>
        </p:xfrm>
        <a:graphic>
          <a:graphicData uri="http://schemas.openxmlformats.org/drawingml/2006/table">
            <a:tbl>
              <a:tblPr/>
              <a:tblGrid>
                <a:gridCol w="685800"/>
                <a:gridCol w="1524240"/>
                <a:gridCol w="1904760"/>
              </a:tblGrid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TD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3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acke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2" name=""/>
          <p:cNvSpPr/>
          <p:nvPr/>
        </p:nvSpPr>
        <p:spPr>
          <a:xfrm>
            <a:off x="3308040" y="409680"/>
            <a:ext cx="2530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4267080" y="1905120"/>
            <a:ext cx="60984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2743200" y="190512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990720" y="2590920"/>
            <a:ext cx="609480" cy="53316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09480" y="16002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533520" y="2133720"/>
            <a:ext cx="6094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1143360" y="175248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734000" y="1455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ff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4881600" y="1574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5317200" y="1627200"/>
            <a:ext cx="39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4974840" y="1809720"/>
            <a:ext cx="1075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gacy/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5199120" y="1992240"/>
            <a:ext cx="625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760840" y="46483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3065400" y="46483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438280" y="2362320"/>
            <a:ext cx="381240" cy="1904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1981080" y="3505320"/>
            <a:ext cx="609840" cy="76176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 flipH="1">
            <a:off x="3370320" y="3429000"/>
            <a:ext cx="668160" cy="838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 flipH="1">
            <a:off x="3123720" y="2286000"/>
            <a:ext cx="762120" cy="1981080"/>
          </a:xfrm>
          <a:prstGeom prst="line">
            <a:avLst/>
          </a:prstGeom>
          <a:ln w="5724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303640" y="4267080"/>
            <a:ext cx="12952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32240" y="5181480"/>
            <a:ext cx="761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22287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431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17542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838080" y="1905120"/>
            <a:ext cx="180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57400" y="3048120"/>
            <a:ext cx="19810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143000" y="1905120"/>
            <a:ext cx="76212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838800" y="297180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-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3429000" y="1676520"/>
            <a:ext cx="8380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905120" y="1676520"/>
            <a:ext cx="9144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600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886200" y="2819520"/>
            <a:ext cx="7621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752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286000" y="2057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038480" y="32004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3733920" y="2057400"/>
            <a:ext cx="30456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191200" y="2598840"/>
            <a:ext cx="1703160" cy="880920"/>
          </a:xfrm>
          <a:custGeom>
            <a:avLst/>
            <a:gdLst/>
            <a:ahLst/>
            <a:rect l="l" t="t" r="r" b="b"/>
            <a:pathLst>
              <a:path w="1073" h="555">
                <a:moveTo>
                  <a:pt x="339" y="81"/>
                </a:moveTo>
                <a:lnTo>
                  <a:pt x="363" y="74"/>
                </a:lnTo>
                <a:lnTo>
                  <a:pt x="385" y="68"/>
                </a:lnTo>
                <a:lnTo>
                  <a:pt x="405" y="62"/>
                </a:lnTo>
                <a:lnTo>
                  <a:pt x="425" y="56"/>
                </a:lnTo>
                <a:lnTo>
                  <a:pt x="443" y="51"/>
                </a:lnTo>
                <a:lnTo>
                  <a:pt x="460" y="46"/>
                </a:lnTo>
                <a:lnTo>
                  <a:pt x="476" y="41"/>
                </a:lnTo>
                <a:lnTo>
                  <a:pt x="491" y="36"/>
                </a:lnTo>
                <a:lnTo>
                  <a:pt x="518" y="28"/>
                </a:lnTo>
                <a:lnTo>
                  <a:pt x="543" y="21"/>
                </a:lnTo>
                <a:lnTo>
                  <a:pt x="566" y="15"/>
                </a:lnTo>
                <a:lnTo>
                  <a:pt x="588" y="10"/>
                </a:lnTo>
                <a:lnTo>
                  <a:pt x="610" y="6"/>
                </a:lnTo>
                <a:lnTo>
                  <a:pt x="632" y="3"/>
                </a:lnTo>
                <a:lnTo>
                  <a:pt x="655" y="1"/>
                </a:lnTo>
                <a:lnTo>
                  <a:pt x="681" y="0"/>
                </a:lnTo>
                <a:lnTo>
                  <a:pt x="709" y="0"/>
                </a:lnTo>
                <a:lnTo>
                  <a:pt x="724" y="0"/>
                </a:lnTo>
                <a:lnTo>
                  <a:pt x="740" y="1"/>
                </a:lnTo>
                <a:lnTo>
                  <a:pt x="758" y="2"/>
                </a:lnTo>
                <a:lnTo>
                  <a:pt x="776" y="3"/>
                </a:lnTo>
                <a:lnTo>
                  <a:pt x="796" y="4"/>
                </a:lnTo>
                <a:lnTo>
                  <a:pt x="817" y="6"/>
                </a:lnTo>
                <a:lnTo>
                  <a:pt x="825" y="18"/>
                </a:lnTo>
                <a:lnTo>
                  <a:pt x="832" y="28"/>
                </a:lnTo>
                <a:lnTo>
                  <a:pt x="838" y="37"/>
                </a:lnTo>
                <a:lnTo>
                  <a:pt x="843" y="44"/>
                </a:lnTo>
                <a:lnTo>
                  <a:pt x="847" y="51"/>
                </a:lnTo>
                <a:lnTo>
                  <a:pt x="850" y="56"/>
                </a:lnTo>
                <a:lnTo>
                  <a:pt x="855" y="64"/>
                </a:lnTo>
                <a:lnTo>
                  <a:pt x="857" y="69"/>
                </a:lnTo>
                <a:lnTo>
                  <a:pt x="857" y="73"/>
                </a:lnTo>
                <a:lnTo>
                  <a:pt x="856" y="77"/>
                </a:lnTo>
                <a:lnTo>
                  <a:pt x="854" y="82"/>
                </a:lnTo>
                <a:lnTo>
                  <a:pt x="852" y="90"/>
                </a:lnTo>
                <a:lnTo>
                  <a:pt x="851" y="94"/>
                </a:lnTo>
                <a:lnTo>
                  <a:pt x="850" y="100"/>
                </a:lnTo>
                <a:lnTo>
                  <a:pt x="849" y="107"/>
                </a:lnTo>
                <a:lnTo>
                  <a:pt x="849" y="115"/>
                </a:lnTo>
                <a:lnTo>
                  <a:pt x="848" y="124"/>
                </a:lnTo>
                <a:lnTo>
                  <a:pt x="848" y="135"/>
                </a:lnTo>
                <a:lnTo>
                  <a:pt x="849" y="147"/>
                </a:lnTo>
                <a:lnTo>
                  <a:pt x="850" y="162"/>
                </a:lnTo>
                <a:lnTo>
                  <a:pt x="851" y="178"/>
                </a:lnTo>
                <a:lnTo>
                  <a:pt x="853" y="196"/>
                </a:lnTo>
                <a:lnTo>
                  <a:pt x="856" y="217"/>
                </a:lnTo>
                <a:lnTo>
                  <a:pt x="860" y="240"/>
                </a:lnTo>
                <a:lnTo>
                  <a:pt x="864" y="265"/>
                </a:lnTo>
                <a:lnTo>
                  <a:pt x="869" y="293"/>
                </a:lnTo>
                <a:lnTo>
                  <a:pt x="872" y="300"/>
                </a:lnTo>
                <a:lnTo>
                  <a:pt x="878" y="307"/>
                </a:lnTo>
                <a:lnTo>
                  <a:pt x="886" y="314"/>
                </a:lnTo>
                <a:lnTo>
                  <a:pt x="897" y="322"/>
                </a:lnTo>
                <a:lnTo>
                  <a:pt x="910" y="330"/>
                </a:lnTo>
                <a:lnTo>
                  <a:pt x="925" y="338"/>
                </a:lnTo>
                <a:lnTo>
                  <a:pt x="940" y="347"/>
                </a:lnTo>
                <a:lnTo>
                  <a:pt x="957" y="355"/>
                </a:lnTo>
                <a:lnTo>
                  <a:pt x="991" y="372"/>
                </a:lnTo>
                <a:lnTo>
                  <a:pt x="1007" y="381"/>
                </a:lnTo>
                <a:lnTo>
                  <a:pt x="1023" y="389"/>
                </a:lnTo>
                <a:lnTo>
                  <a:pt x="1038" y="397"/>
                </a:lnTo>
                <a:lnTo>
                  <a:pt x="1052" y="404"/>
                </a:lnTo>
                <a:lnTo>
                  <a:pt x="1064" y="411"/>
                </a:lnTo>
                <a:lnTo>
                  <a:pt x="1073" y="417"/>
                </a:lnTo>
                <a:lnTo>
                  <a:pt x="1069" y="429"/>
                </a:lnTo>
                <a:lnTo>
                  <a:pt x="1063" y="439"/>
                </a:lnTo>
                <a:lnTo>
                  <a:pt x="1050" y="459"/>
                </a:lnTo>
                <a:lnTo>
                  <a:pt x="1033" y="476"/>
                </a:lnTo>
                <a:lnTo>
                  <a:pt x="1013" y="490"/>
                </a:lnTo>
                <a:lnTo>
                  <a:pt x="990" y="503"/>
                </a:lnTo>
                <a:lnTo>
                  <a:pt x="965" y="513"/>
                </a:lnTo>
                <a:lnTo>
                  <a:pt x="938" y="522"/>
                </a:lnTo>
                <a:lnTo>
                  <a:pt x="909" y="529"/>
                </a:lnTo>
                <a:lnTo>
                  <a:pt x="879" y="535"/>
                </a:lnTo>
                <a:lnTo>
                  <a:pt x="848" y="540"/>
                </a:lnTo>
                <a:lnTo>
                  <a:pt x="785" y="546"/>
                </a:lnTo>
                <a:lnTo>
                  <a:pt x="723" y="551"/>
                </a:lnTo>
                <a:lnTo>
                  <a:pt x="692" y="553"/>
                </a:lnTo>
                <a:lnTo>
                  <a:pt x="663" y="555"/>
                </a:lnTo>
                <a:lnTo>
                  <a:pt x="595" y="552"/>
                </a:lnTo>
                <a:lnTo>
                  <a:pt x="526" y="550"/>
                </a:lnTo>
                <a:lnTo>
                  <a:pt x="457" y="547"/>
                </a:lnTo>
                <a:lnTo>
                  <a:pt x="389" y="543"/>
                </a:lnTo>
                <a:lnTo>
                  <a:pt x="376" y="542"/>
                </a:lnTo>
                <a:lnTo>
                  <a:pt x="365" y="539"/>
                </a:lnTo>
                <a:lnTo>
                  <a:pt x="355" y="536"/>
                </a:lnTo>
                <a:lnTo>
                  <a:pt x="346" y="533"/>
                </a:lnTo>
                <a:lnTo>
                  <a:pt x="331" y="524"/>
                </a:lnTo>
                <a:lnTo>
                  <a:pt x="319" y="514"/>
                </a:lnTo>
                <a:lnTo>
                  <a:pt x="307" y="503"/>
                </a:lnTo>
                <a:lnTo>
                  <a:pt x="296" y="491"/>
                </a:lnTo>
                <a:lnTo>
                  <a:pt x="284" y="479"/>
                </a:lnTo>
                <a:lnTo>
                  <a:pt x="270" y="467"/>
                </a:lnTo>
                <a:lnTo>
                  <a:pt x="258" y="460"/>
                </a:lnTo>
                <a:lnTo>
                  <a:pt x="245" y="454"/>
                </a:lnTo>
                <a:lnTo>
                  <a:pt x="231" y="449"/>
                </a:lnTo>
                <a:lnTo>
                  <a:pt x="218" y="443"/>
                </a:lnTo>
                <a:lnTo>
                  <a:pt x="201" y="430"/>
                </a:lnTo>
                <a:lnTo>
                  <a:pt x="185" y="417"/>
                </a:lnTo>
                <a:lnTo>
                  <a:pt x="180" y="403"/>
                </a:lnTo>
                <a:lnTo>
                  <a:pt x="175" y="390"/>
                </a:lnTo>
                <a:lnTo>
                  <a:pt x="171" y="378"/>
                </a:lnTo>
                <a:lnTo>
                  <a:pt x="167" y="368"/>
                </a:lnTo>
                <a:lnTo>
                  <a:pt x="159" y="349"/>
                </a:lnTo>
                <a:lnTo>
                  <a:pt x="150" y="334"/>
                </a:lnTo>
                <a:lnTo>
                  <a:pt x="144" y="328"/>
                </a:lnTo>
                <a:lnTo>
                  <a:pt x="137" y="322"/>
                </a:lnTo>
                <a:lnTo>
                  <a:pt x="130" y="316"/>
                </a:lnTo>
                <a:lnTo>
                  <a:pt x="120" y="311"/>
                </a:lnTo>
                <a:lnTo>
                  <a:pt x="109" y="306"/>
                </a:lnTo>
                <a:lnTo>
                  <a:pt x="97" y="302"/>
                </a:lnTo>
                <a:lnTo>
                  <a:pt x="82" y="297"/>
                </a:lnTo>
                <a:lnTo>
                  <a:pt x="65" y="293"/>
                </a:lnTo>
                <a:lnTo>
                  <a:pt x="45" y="269"/>
                </a:lnTo>
                <a:lnTo>
                  <a:pt x="27" y="244"/>
                </a:lnTo>
                <a:lnTo>
                  <a:pt x="20" y="232"/>
                </a:lnTo>
                <a:lnTo>
                  <a:pt x="13" y="220"/>
                </a:lnTo>
                <a:lnTo>
                  <a:pt x="8" y="207"/>
                </a:lnTo>
                <a:lnTo>
                  <a:pt x="4" y="194"/>
                </a:lnTo>
                <a:lnTo>
                  <a:pt x="1" y="181"/>
                </a:lnTo>
                <a:lnTo>
                  <a:pt x="0" y="168"/>
                </a:lnTo>
                <a:lnTo>
                  <a:pt x="0" y="154"/>
                </a:lnTo>
                <a:lnTo>
                  <a:pt x="2" y="140"/>
                </a:lnTo>
                <a:lnTo>
                  <a:pt x="6" y="126"/>
                </a:lnTo>
                <a:lnTo>
                  <a:pt x="12" y="112"/>
                </a:lnTo>
                <a:lnTo>
                  <a:pt x="21" y="97"/>
                </a:lnTo>
                <a:lnTo>
                  <a:pt x="31" y="81"/>
                </a:lnTo>
                <a:lnTo>
                  <a:pt x="35" y="77"/>
                </a:lnTo>
                <a:lnTo>
                  <a:pt x="40" y="73"/>
                </a:lnTo>
                <a:lnTo>
                  <a:pt x="47" y="70"/>
                </a:lnTo>
                <a:lnTo>
                  <a:pt x="54" y="67"/>
                </a:lnTo>
                <a:lnTo>
                  <a:pt x="71" y="63"/>
                </a:lnTo>
                <a:lnTo>
                  <a:pt x="88" y="60"/>
                </a:lnTo>
                <a:lnTo>
                  <a:pt x="105" y="58"/>
                </a:lnTo>
                <a:lnTo>
                  <a:pt x="113" y="57"/>
                </a:lnTo>
                <a:lnTo>
                  <a:pt x="119" y="57"/>
                </a:lnTo>
                <a:lnTo>
                  <a:pt x="125" y="56"/>
                </a:lnTo>
                <a:lnTo>
                  <a:pt x="129" y="56"/>
                </a:lnTo>
                <a:lnTo>
                  <a:pt x="132" y="56"/>
                </a:lnTo>
                <a:lnTo>
                  <a:pt x="133" y="56"/>
                </a:lnTo>
                <a:lnTo>
                  <a:pt x="176" y="59"/>
                </a:lnTo>
                <a:lnTo>
                  <a:pt x="219" y="61"/>
                </a:lnTo>
                <a:lnTo>
                  <a:pt x="262" y="63"/>
                </a:lnTo>
                <a:lnTo>
                  <a:pt x="283" y="65"/>
                </a:lnTo>
                <a:lnTo>
                  <a:pt x="304" y="68"/>
                </a:lnTo>
                <a:lnTo>
                  <a:pt x="311" y="70"/>
                </a:lnTo>
                <a:lnTo>
                  <a:pt x="317" y="72"/>
                </a:lnTo>
                <a:lnTo>
                  <a:pt x="326" y="78"/>
                </a:lnTo>
                <a:lnTo>
                  <a:pt x="332" y="84"/>
                </a:lnTo>
                <a:lnTo>
                  <a:pt x="336" y="89"/>
                </a:lnTo>
                <a:lnTo>
                  <a:pt x="338" y="92"/>
                </a:lnTo>
                <a:lnTo>
                  <a:pt x="339" y="93"/>
                </a:lnTo>
                <a:lnTo>
                  <a:pt x="339" y="92"/>
                </a:lnTo>
                <a:lnTo>
                  <a:pt x="339" y="89"/>
                </a:lnTo>
                <a:lnTo>
                  <a:pt x="339" y="86"/>
                </a:lnTo>
                <a:lnTo>
                  <a:pt x="339" y="81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338800" y="2717640"/>
            <a:ext cx="126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5715000" y="289548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1640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278520" y="243828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3811680" y="3733920"/>
            <a:ext cx="41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32400" y="1371600"/>
            <a:ext cx="122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rcui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221120" y="2514600"/>
            <a:ext cx="12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-switch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"/>
          <p:cNvSpPr/>
          <p:nvPr/>
        </p:nvSpPr>
        <p:spPr>
          <a:xfrm>
            <a:off x="1848960" y="2133720"/>
            <a:ext cx="5444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Bearer Independ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ircuit-Switched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/>
          <p:nvPr/>
        </p:nvSpPr>
        <p:spPr>
          <a:xfrm>
            <a:off x="2019240" y="2819520"/>
            <a:ext cx="83844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3886200" y="3886200"/>
            <a:ext cx="270504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46716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372280" y="2971800"/>
            <a:ext cx="0" cy="6094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390840" y="4038480"/>
            <a:ext cx="99072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 flipH="1">
            <a:off x="4838760" y="4038480"/>
            <a:ext cx="457200" cy="8384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 flipH="1">
            <a:off x="2705040" y="4038480"/>
            <a:ext cx="4572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933280" y="4038480"/>
            <a:ext cx="2057400" cy="6858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181160" y="25909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59092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4686480" y="3733920"/>
            <a:ext cx="12189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1409760" y="4648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99"/>
                </a:solidFill>
                <a:latin typeface="Times New Roman"/>
              </a:rPr>
              <a:t>&amp;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152960" y="5029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2362680" y="24382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2096280" y="325116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4384080" y="243828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4215240" y="361800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47004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5375160" y="31240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2859480" y="43434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423072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92480" y="449568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H="1">
            <a:off x="6972120" y="3200400"/>
            <a:ext cx="2286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058080" y="49276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6058080" y="51562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21640" y="48006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591240" y="37339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_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074600" y="1447920"/>
            <a:ext cx="486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Separation of circuit-switched bearer and call 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2061720" y="2133720"/>
            <a:ext cx="1342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acket or Circui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2133720" y="27432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3162240" y="2590920"/>
            <a:ext cx="609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886200" y="2743200"/>
            <a:ext cx="1276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5067360" y="25909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791320" y="2743200"/>
            <a:ext cx="118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515280" y="23623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4" name="" descr=""/>
          <p:cNvPicPr/>
          <p:nvPr/>
        </p:nvPicPr>
        <p:blipFill>
          <a:blip r:embed="rId1"/>
          <a:stretch/>
        </p:blipFill>
        <p:spPr>
          <a:xfrm>
            <a:off x="1981080" y="2209680"/>
            <a:ext cx="4829400" cy="2743200"/>
          </a:xfrm>
          <a:prstGeom prst="rect">
            <a:avLst/>
          </a:prstGeom>
          <a:ln w="0">
            <a:noFill/>
          </a:ln>
        </p:spPr>
      </p:pic>
      <p:sp>
        <p:nvSpPr>
          <p:cNvPr id="1305" name=""/>
          <p:cNvSpPr/>
          <p:nvPr/>
        </p:nvSpPr>
        <p:spPr>
          <a:xfrm>
            <a:off x="923040" y="1523880"/>
            <a:ext cx="555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1" name="" descr=""/>
          <p:cNvPicPr/>
          <p:nvPr/>
        </p:nvPicPr>
        <p:blipFill>
          <a:blip r:embed="rId1"/>
          <a:stretch/>
        </p:blipFill>
        <p:spPr>
          <a:xfrm>
            <a:off x="1828800" y="1828800"/>
            <a:ext cx="4572000" cy="3476520"/>
          </a:xfrm>
          <a:prstGeom prst="rect">
            <a:avLst/>
          </a:prstGeom>
          <a:ln w="0">
            <a:noFill/>
          </a:ln>
        </p:spPr>
      </p:pic>
      <p:sp>
        <p:nvSpPr>
          <p:cNvPr id="1352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2278800" y="548640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155240" y="1295280"/>
            <a:ext cx="69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Circuit-Switched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 for R4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621000" y="1295280"/>
            <a:ext cx="67320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A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Intercept at Acces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VoP at MG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Voice or IRI Delivery to LEA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SC 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"/>
          <p:cNvSpPr/>
          <p:nvPr/>
        </p:nvSpPr>
        <p:spPr>
          <a:xfrm>
            <a:off x="3048120" y="2514600"/>
            <a:ext cx="76176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1371600" y="2514600"/>
            <a:ext cx="762120" cy="30492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W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8380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352680" y="3276720"/>
            <a:ext cx="990720" cy="30456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MSC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152388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 flipV="1">
            <a:off x="3505320" y="2819520"/>
            <a:ext cx="0" cy="4572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066680" y="2133720"/>
            <a:ext cx="0" cy="114300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50820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1526760" y="293544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133720" y="2666880"/>
            <a:ext cx="914400" cy="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523880" y="2133720"/>
            <a:ext cx="0" cy="380880"/>
          </a:xfrm>
          <a:prstGeom prst="line">
            <a:avLst/>
          </a:prstGeom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828800" y="3429000"/>
            <a:ext cx="1523880" cy="0"/>
          </a:xfrm>
          <a:prstGeom prst="line">
            <a:avLst/>
          </a:prstGeom>
          <a:ln cap="rnd" w="28440">
            <a:solidFill>
              <a:srgbClr val="00cc99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990720" y="129528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914400" y="18288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T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067400" y="220968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u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1" name="" descr=""/>
          <p:cNvPicPr/>
          <p:nvPr/>
        </p:nvPicPr>
        <p:blipFill>
          <a:blip r:embed="rId1"/>
          <a:stretch/>
        </p:blipFill>
        <p:spPr>
          <a:xfrm>
            <a:off x="4572000" y="2209680"/>
            <a:ext cx="1735200" cy="911520"/>
          </a:xfrm>
          <a:prstGeom prst="rect">
            <a:avLst/>
          </a:prstGeom>
          <a:ln w="0">
            <a:noFill/>
          </a:ln>
        </p:spPr>
      </p:pic>
      <p:sp>
        <p:nvSpPr>
          <p:cNvPr id="1402" name=""/>
          <p:cNvSpPr/>
          <p:nvPr/>
        </p:nvSpPr>
        <p:spPr>
          <a:xfrm>
            <a:off x="2209680" y="4876920"/>
            <a:ext cx="0" cy="6094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514600" y="4876920"/>
            <a:ext cx="0" cy="6858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133720" y="3048120"/>
            <a:ext cx="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828800" y="3809880"/>
            <a:ext cx="7632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 flipH="1">
            <a:off x="2819520" y="3809880"/>
            <a:ext cx="457200" cy="68580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 flipH="1">
            <a:off x="2590920" y="3048120"/>
            <a:ext cx="457200" cy="144756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1752480" y="4495680"/>
            <a:ext cx="12956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1981080" y="54100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676520" y="35053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810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3200400" y="35053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6779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2592360" y="50292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144972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2135520" y="31240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3125880" y="396252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440080" y="358128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895480" y="274320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439360" y="2362320"/>
            <a:ext cx="37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N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121932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329280" y="409680"/>
            <a:ext cx="2486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3" name=""/>
          <p:cNvGraphicFramePr/>
          <p:nvPr/>
        </p:nvGraphicFramePr>
        <p:xfrm>
          <a:off x="3886200" y="3962520"/>
          <a:ext cx="4648320" cy="1950840"/>
        </p:xfrm>
        <a:graphic>
          <a:graphicData uri="http://schemas.openxmlformats.org/drawingml/2006/table">
            <a:tbl>
              <a:tblPr/>
              <a:tblGrid>
                <a:gridCol w="1066680"/>
                <a:gridCol w="1752840"/>
                <a:gridCol w="1828800"/>
              </a:tblGrid>
              <a:tr h="515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SC, GMS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er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GW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ircuit-Switched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S 201 67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Edition 1 - 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95360" y="1523880"/>
          <a:ext cx="8153280" cy="3962520"/>
        </p:xfrm>
        <a:graphic>
          <a:graphicData uri="http://schemas.openxmlformats.org/drawingml/2006/table">
            <a:tbl>
              <a:tblPr/>
              <a:tblGrid>
                <a:gridCol w="914400"/>
                <a:gridCol w="1104840"/>
                <a:gridCol w="1219320"/>
                <a:gridCol w="3429000"/>
                <a:gridCol w="1485720"/>
              </a:tblGrid>
              <a:tr h="605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ers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New in UM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ple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831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19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12-20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S Domain (Iu-PS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ATM Network Acc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Interception of packet da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nd Publish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0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03-2001)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Bearer Independent Circuit-Switched Core Networ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eparation of bearer and call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ontent interception @ Media Gatew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mple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 Publish 12-2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121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(12-2001)**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-Media Domain (All IP Networ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Call State Control Function (CSC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SIP Call/Session Contro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- Real Time Multi-Media Services other than voic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n Progres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** Final Relea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0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quirem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Stage 1 and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Access-to-DF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2534760" y="441360"/>
            <a:ext cx="407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and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"/>
          <p:cNvSpPr/>
          <p:nvPr/>
        </p:nvSpPr>
        <p:spPr>
          <a:xfrm>
            <a:off x="1696680" y="234000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ulti-Media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"/>
          <p:cNvSpPr/>
          <p:nvPr/>
        </p:nvSpPr>
        <p:spPr>
          <a:xfrm>
            <a:off x="3352680" y="33526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733920" y="3276720"/>
            <a:ext cx="121896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181480" y="3276720"/>
            <a:ext cx="0" cy="9903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638680" y="3200400"/>
            <a:ext cx="990720" cy="3049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1295280" y="4343400"/>
            <a:ext cx="9144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2439000" y="41911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898000" y="3657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023720" y="422748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946120" y="3048120"/>
            <a:ext cx="45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4192560" y="29718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4802400" y="3657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371600" y="50799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371600" y="53085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135520" y="49528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4800600" y="30481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590480" y="1600200"/>
            <a:ext cx="59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multi-media services via GSN data network ele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5869080" y="39625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3657600" y="3352680"/>
            <a:ext cx="1371600" cy="106704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312408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888720" y="3733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286000" y="4495680"/>
            <a:ext cx="838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718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733920" y="449568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800600" y="434340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 flipV="1">
            <a:off x="5562720" y="3962520"/>
            <a:ext cx="121896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6324480" y="3352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867280" y="2438280"/>
            <a:ext cx="1143000" cy="304920"/>
          </a:xfrm>
          <a:prstGeom prst="wedgeRoundRectCallout">
            <a:avLst>
              <a:gd name="adj1" fmla="val -60416"/>
              <a:gd name="adj2" fmla="val 136458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P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"/>
          <p:cNvSpPr/>
          <p:nvPr/>
        </p:nvSpPr>
        <p:spPr>
          <a:xfrm>
            <a:off x="685800" y="40384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829520" y="3886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221220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3337920" y="392256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107680" y="266688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3506760" y="25909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4116600" y="3352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62120" y="485136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762120" y="50799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1525680" y="472428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946800" y="1600200"/>
            <a:ext cx="724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 via Media-Gatew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Multi-Media Domain to 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4802400" y="449568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3202920" y="34290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5794200" y="403848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600200" y="419112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228600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2971800" y="419112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191120" y="4038480"/>
            <a:ext cx="6094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2666880" y="304812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286000" y="2819520"/>
            <a:ext cx="83808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4495680" y="297180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200400" y="297180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200400" y="289548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4114800" y="27432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952880" y="289548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715000" y="3505320"/>
            <a:ext cx="0" cy="121896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410080" y="3124080"/>
            <a:ext cx="68580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172200" y="327672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238880" y="388620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858000" y="35053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76920" y="4191120"/>
            <a:ext cx="761760" cy="7617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5257800" y="480060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60958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6629400" y="4495680"/>
            <a:ext cx="1600200" cy="838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>
            <a:off x="923040" y="1523880"/>
            <a:ext cx="55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050560" y="510552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"/>
          <p:cNvSpPr/>
          <p:nvPr/>
        </p:nvSpPr>
        <p:spPr>
          <a:xfrm>
            <a:off x="685800" y="251460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1981080" y="304812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1143000" y="3733920"/>
            <a:ext cx="167652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1523880" y="502920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57480" y="2438280"/>
            <a:ext cx="14857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129528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149364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13552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1142280" y="18288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114800" y="251460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5486400" y="30481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4648320" y="3733920"/>
            <a:ext cx="1676160" cy="5331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5029200" y="50292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4762440" y="2438280"/>
            <a:ext cx="148608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4800600" y="320040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4998960" y="441972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640480" y="320040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4800960" y="182880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57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612000" y="26668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12408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886200" y="2362320"/>
            <a:ext cx="228600" cy="30456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116600" y="2666880"/>
            <a:ext cx="64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6172200" y="4495680"/>
            <a:ext cx="2438280" cy="16351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GSN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Mobile Station Attach/Deta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PDP Context Activation/Deactivation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tart of intercept w/PDP context active </a:t>
            </a: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RA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** GGSN Applicable Ev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2743200" y="4495680"/>
            <a:ext cx="1447920" cy="934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IP packets: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</a:rPr>
              <a:t>not</a:t>
            </a:r>
            <a:r>
              <a:rPr b="0" lang="en-US" sz="1000" spc="-1" strike="noStrike">
                <a:solidFill>
                  <a:srgbClr val="ff0000"/>
                </a:solidFill>
                <a:latin typeface="Times New Roman"/>
              </a:rPr>
              <a:t> under control of a call/session Access Management Control functio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1000080" y="1219320"/>
            <a:ext cx="661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fundamental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GSN Data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Packet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982880" y="43434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2280" y="43434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2" name="" descr=""/>
          <p:cNvPicPr/>
          <p:nvPr/>
        </p:nvPicPr>
        <p:blipFill>
          <a:blip r:embed="rId1"/>
          <a:stretch/>
        </p:blipFill>
        <p:spPr>
          <a:xfrm>
            <a:off x="1828800" y="1981080"/>
            <a:ext cx="4572000" cy="3476880"/>
          </a:xfrm>
          <a:prstGeom prst="rect">
            <a:avLst/>
          </a:prstGeom>
          <a:ln w="0">
            <a:noFill/>
          </a:ln>
        </p:spPr>
      </p:pic>
      <p:sp>
        <p:nvSpPr>
          <p:cNvPr id="1523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810360" y="1447920"/>
            <a:ext cx="752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2278800" y="5638680"/>
            <a:ext cx="362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705720" y="3429000"/>
            <a:ext cx="1676160" cy="533520"/>
          </a:xfrm>
          <a:prstGeom prst="wedgeRoundRectCallout">
            <a:avLst>
              <a:gd name="adj1" fmla="val -55680"/>
              <a:gd name="adj2" fmla="val 1270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eparation of Control and Bea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"/>
          <p:cNvSpPr/>
          <p:nvPr/>
        </p:nvSpPr>
        <p:spPr>
          <a:xfrm>
            <a:off x="685800" y="304812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98108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114300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1523880" y="5562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57480" y="2819520"/>
            <a:ext cx="144756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44792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4936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135520" y="373392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989640" y="2209680"/>
            <a:ext cx="20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GW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4114800" y="304812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5486400" y="358128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4648320" y="426708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502920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76244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952880" y="373392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99896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725360" y="220968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57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3124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388620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4116600" y="312408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819520" y="495288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135520" y="49528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6705720" y="411480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5639760" y="495288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759840" y="409680"/>
            <a:ext cx="1623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4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BI-CS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850320" y="1523880"/>
            <a:ext cx="712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BI-CS Circuit-Switched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537120" y="3124080"/>
            <a:ext cx="73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"/>
          <p:cNvSpPr/>
          <p:nvPr/>
        </p:nvSpPr>
        <p:spPr>
          <a:xfrm>
            <a:off x="228600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1574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8" name="" descr=""/>
          <p:cNvPicPr/>
          <p:nvPr/>
        </p:nvPicPr>
        <p:blipFill>
          <a:blip r:embed="rId1"/>
          <a:stretch/>
        </p:blipFill>
        <p:spPr>
          <a:xfrm>
            <a:off x="1905120" y="228600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559" name=""/>
          <p:cNvSpPr/>
          <p:nvPr/>
        </p:nvSpPr>
        <p:spPr>
          <a:xfrm>
            <a:off x="2431440" y="5257800"/>
            <a:ext cx="358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 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943200" y="1447920"/>
            <a:ext cx="617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6705720" y="3429000"/>
            <a:ext cx="1218960" cy="457200"/>
          </a:xfrm>
          <a:prstGeom prst="wedgeRoundRectCallout">
            <a:avLst>
              <a:gd name="adj1" fmla="val -57814"/>
              <a:gd name="adj2" fmla="val -137847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"/>
          <p:cNvSpPr/>
          <p:nvPr/>
        </p:nvSpPr>
        <p:spPr>
          <a:xfrm>
            <a:off x="262908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85264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0" y="24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0" y="247644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9144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22096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3716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7524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4860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(SGSN, GGS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67148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601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369800" y="1981080"/>
            <a:ext cx="1838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GSN Session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472428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609588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52578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56386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53722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562720" y="358128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54878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5334840" y="1981080"/>
            <a:ext cx="170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CSCF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6858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843480" y="3048120"/>
            <a:ext cx="663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3352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44956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4726080" y="304812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7010280" y="4800600"/>
            <a:ext cx="152424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ession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SIP Sign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670716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6250320" y="3581280"/>
            <a:ext cx="6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40080" y="35812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744640" y="4952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3124080" y="4800600"/>
            <a:ext cx="1752840" cy="10137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Subject-Associate Real Time communication  under control of CSC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Times New Roman"/>
              </a:rPr>
              <a:t>VoIP, Video, Messaging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156320" y="137160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Multi-Media Service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Multi-Media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7162920" y="2819520"/>
            <a:ext cx="1218960" cy="457200"/>
          </a:xfrm>
          <a:prstGeom prst="wedgeRoundRectCallout">
            <a:avLst>
              <a:gd name="adj1" fmla="val -64064"/>
              <a:gd name="adj2" fmla="val 120486"/>
              <a:gd name="adj3" fmla="val 16667"/>
            </a:avLst>
          </a:prstGeom>
          <a:solidFill>
            <a:srgbClr val="ffff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eporting SI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2287800" y="4800600"/>
            <a:ext cx="570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TP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172920" y="4800600"/>
            <a:ext cx="596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R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F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"/>
          <p:cNvSpPr/>
          <p:nvPr/>
        </p:nvSpPr>
        <p:spPr>
          <a:xfrm>
            <a:off x="685800" y="39625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1829520" y="380988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2212200" y="3276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337920" y="384660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5107680" y="259092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3506760" y="25146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4116600" y="3276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685800" y="469908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685800" y="49528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449720" y="457200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3558600" y="409680"/>
            <a:ext cx="2024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9960" y="1371600"/>
            <a:ext cx="5821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SIP controlled VoIP directed to circuit-switched PSTN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(treated as packet intercepts and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t a circuit-switched intercept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4802400" y="44197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202920" y="33526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5870160" y="3962520"/>
            <a:ext cx="3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M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600200" y="41148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228600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2971800" y="4114800"/>
            <a:ext cx="12193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191120" y="3962520"/>
            <a:ext cx="6094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2666880" y="2971800"/>
            <a:ext cx="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2286000" y="2743200"/>
            <a:ext cx="83808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4495680" y="2895480"/>
            <a:ext cx="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200400" y="2895480"/>
            <a:ext cx="1219320" cy="9907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3200400" y="2819520"/>
            <a:ext cx="11430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4114800" y="26668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4952880" y="2819520"/>
            <a:ext cx="762120" cy="2286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715000" y="3429000"/>
            <a:ext cx="0" cy="12193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5410080" y="3048120"/>
            <a:ext cx="6858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6172200" y="3200400"/>
            <a:ext cx="685800" cy="3808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7238880" y="3809880"/>
            <a:ext cx="228600" cy="5335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68580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2743200" y="42670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4648320" y="2895480"/>
            <a:ext cx="380880" cy="3812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4876920" y="4114800"/>
            <a:ext cx="685800" cy="838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257800" y="4724280"/>
            <a:ext cx="76212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6095880" y="48769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629400" y="4419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3809880" y="5410080"/>
            <a:ext cx="2133720" cy="533520"/>
          </a:xfrm>
          <a:prstGeom prst="wedgeRoundRectCallout">
            <a:avLst>
              <a:gd name="adj1" fmla="val 57365"/>
              <a:gd name="adj2" fmla="val -141370"/>
              <a:gd name="adj3" fmla="val 16667"/>
            </a:avLst>
          </a:prstGeom>
          <a:noFill/>
          <a:ln w="9360">
            <a:solidFill>
              <a:srgbClr val="ff33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3399"/>
                </a:solidFill>
                <a:latin typeface="Times New Roman"/>
              </a:rPr>
              <a:t>VoIP not intercepted as circuit-switched voice</a:t>
            </a:r>
            <a:r>
              <a:rPr b="0" lang="en-US" sz="14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289548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2971800" y="46483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80060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876920" y="3276720"/>
            <a:ext cx="0" cy="152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046320" y="380880"/>
            <a:ext cx="282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Reference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914400"/>
            <a:ext cx="8610480" cy="510552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00160" y="1066680"/>
            <a:ext cx="8528400" cy="4700880"/>
            <a:chOff x="200160" y="1066680"/>
            <a:chExt cx="8528400" cy="4700880"/>
          </a:xfrm>
        </p:grpSpPr>
        <p:sp>
          <p:nvSpPr>
            <p:cNvPr id="47" name=""/>
            <p:cNvSpPr/>
            <p:nvPr/>
          </p:nvSpPr>
          <p:spPr>
            <a:xfrm>
              <a:off x="6159600" y="3735360"/>
              <a:ext cx="3697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39960" y="5765760"/>
              <a:ext cx="1080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424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103400" y="5765760"/>
              <a:ext cx="11160" cy="1800"/>
            </a:xfrm>
            <a:custGeom>
              <a:avLst/>
              <a:gdLst/>
              <a:ahLst/>
              <a:rect l="l" t="t" r="r" b="b"/>
              <a:pathLst>
                <a:path w="7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179360" y="5765760"/>
              <a:ext cx="9720" cy="1800"/>
            </a:xfrm>
            <a:custGeom>
              <a:avLst/>
              <a:gdLst/>
              <a:ahLst/>
              <a:rect l="l" t="t" r="r" b="b"/>
              <a:pathLst>
                <a:path w="6" h="0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065480" y="2835360"/>
              <a:ext cx="1800" cy="1116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956120" y="2954160"/>
              <a:ext cx="1843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809640" y="1066680"/>
              <a:ext cx="6868800" cy="4503600"/>
              <a:chOff x="809640" y="1066680"/>
              <a:chExt cx="6868800" cy="4503600"/>
            </a:xfrm>
          </p:grpSpPr>
          <p:sp>
            <p:nvSpPr>
              <p:cNvPr id="55" name=""/>
              <p:cNvSpPr/>
              <p:nvPr/>
            </p:nvSpPr>
            <p:spPr>
              <a:xfrm>
                <a:off x="3662280" y="3019680"/>
                <a:ext cx="165240" cy="19800"/>
              </a:xfrm>
              <a:custGeom>
                <a:avLst/>
                <a:gdLst/>
                <a:ahLst/>
                <a:rect l="l" t="t" r="r" b="b"/>
                <a:pathLst>
                  <a:path w="103" h="13">
                    <a:moveTo>
                      <a:pt x="103" y="6"/>
                    </a:moveTo>
                    <a:lnTo>
                      <a:pt x="103" y="0"/>
                    </a:lnTo>
                    <a:lnTo>
                      <a:pt x="0" y="0"/>
                    </a:lnTo>
                    <a:lnTo>
                      <a:pt x="0" y="13"/>
                    </a:lnTo>
                    <a:lnTo>
                      <a:pt x="10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3728160" y="2892240"/>
                <a:ext cx="296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93680" y="29030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793680" y="2903040"/>
                <a:ext cx="1976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793680" y="29138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793680" y="2924640"/>
                <a:ext cx="1540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793680" y="2924640"/>
                <a:ext cx="2088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792960" y="2924640"/>
                <a:ext cx="135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111640" y="2955240"/>
                <a:ext cx="185760" cy="14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132520" y="2976840"/>
                <a:ext cx="187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132520" y="2976840"/>
                <a:ext cx="1429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132520" y="298764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132520" y="2998080"/>
                <a:ext cx="199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132160" y="29980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011920" y="1611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011920" y="1622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011920" y="1632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011920" y="1643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011920" y="1665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011920" y="167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011920" y="16851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011920" y="1695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011920" y="1706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011920" y="1717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011920" y="1728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011920" y="1748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011920" y="1748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5011920" y="1769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5011920" y="1780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011920" y="1791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011920" y="1801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5011920" y="1811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5011920" y="18223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5011920" y="1832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011920" y="185436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5011920" y="1865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01192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706920" y="161136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706920" y="1674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6920" y="17067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706920" y="17697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3706920" y="181152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3706920" y="18651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706920" y="190656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706920" y="196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6920" y="200016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706920" y="206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706920" y="2106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706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706920" y="219960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706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706920" y="22950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43040" y="3523680"/>
                <a:ext cx="1202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543040" y="3532680"/>
                <a:ext cx="120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3040" y="3543480"/>
                <a:ext cx="174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542320" y="3543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44400" y="259920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1080" y="2610000"/>
                <a:ext cx="2088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21080" y="2620800"/>
                <a:ext cx="186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121080" y="2620800"/>
                <a:ext cx="142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121080" y="2631600"/>
                <a:ext cx="142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121080" y="2640600"/>
                <a:ext cx="197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2108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66640" y="2568240"/>
                <a:ext cx="2743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123160" y="258840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23160" y="258840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23160" y="2588400"/>
                <a:ext cx="1634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123160" y="25992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123160" y="2610000"/>
                <a:ext cx="217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23160" y="26100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52480" y="3354480"/>
                <a:ext cx="2854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429520" y="3365280"/>
                <a:ext cx="2084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429520" y="3376080"/>
                <a:ext cx="1857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429520" y="3376080"/>
                <a:ext cx="142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429520" y="3386880"/>
                <a:ext cx="1425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429520" y="3397680"/>
                <a:ext cx="197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429160" y="339768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81240" y="1517760"/>
                <a:ext cx="43200" cy="3096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035960" y="1569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058640" y="15915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0" y="1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101840" y="16329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133880" y="166536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178880" y="17067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199760" y="172836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255920" y="17697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277160" y="1801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13"/>
                    </a:lnTo>
                    <a:lnTo>
                      <a:pt x="21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21800" y="1843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3840" y="18651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0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97040" y="191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419720" y="193716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62920" y="198036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496760" y="201096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540320" y="20538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573800" y="207396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17360" y="2116800"/>
                <a:ext cx="1080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39680" y="214740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682880" y="2189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716720" y="2221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759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782600" y="22842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737600" y="19695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793760" y="1991160"/>
                <a:ext cx="2516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793760" y="1991160"/>
                <a:ext cx="2293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793760" y="1991160"/>
                <a:ext cx="197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793760" y="2000160"/>
                <a:ext cx="2516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793760" y="20109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793760" y="201096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453560" y="2599200"/>
                <a:ext cx="283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528800" y="261000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4528800" y="2620800"/>
                <a:ext cx="199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528800" y="2620800"/>
                <a:ext cx="1537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528800" y="2631600"/>
                <a:ext cx="1537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528800" y="2640600"/>
                <a:ext cx="208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528440" y="2640600"/>
                <a:ext cx="127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111640" y="1969560"/>
                <a:ext cx="1690200" cy="1258920"/>
              </a:xfrm>
              <a:custGeom>
                <a:avLst/>
                <a:gdLst/>
                <a:ahLst/>
                <a:rect l="l" t="t" r="r" b="b"/>
                <a:pathLst>
                  <a:path w="1053" h="820">
                    <a:moveTo>
                      <a:pt x="0" y="813"/>
                    </a:moveTo>
                    <a:lnTo>
                      <a:pt x="0" y="820"/>
                    </a:lnTo>
                    <a:lnTo>
                      <a:pt x="1053" y="7"/>
                    </a:lnTo>
                    <a:lnTo>
                      <a:pt x="1046" y="0"/>
                    </a:lnTo>
                    <a:lnTo>
                      <a:pt x="0" y="8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13260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198480" y="303948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241680" y="303948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6307560" y="3039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6339600" y="3039480"/>
                <a:ext cx="4500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405480" y="303948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439320" y="303948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1401840" y="385812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1456200" y="3879720"/>
                <a:ext cx="153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1456200" y="389016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456200" y="389016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56200" y="390096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1456200" y="390096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1456560" y="390096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1862280" y="3858120"/>
                <a:ext cx="38520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1973160" y="3879720"/>
                <a:ext cx="240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973160" y="389016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973160" y="38901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1973160" y="390096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973160" y="3900960"/>
                <a:ext cx="240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972800" y="39009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670360" y="371232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36240" y="3732120"/>
                <a:ext cx="42876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736240" y="3732120"/>
                <a:ext cx="384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736240" y="3742920"/>
                <a:ext cx="3628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5736240" y="3742920"/>
                <a:ext cx="417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5736240" y="37537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736600" y="37537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365000" y="3428280"/>
                <a:ext cx="1861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376520" y="3449880"/>
                <a:ext cx="2408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376520" y="3449880"/>
                <a:ext cx="218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376520" y="344988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76520" y="3460680"/>
                <a:ext cx="1861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376520" y="3469680"/>
                <a:ext cx="2408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4375800" y="346968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288320" y="2987640"/>
                <a:ext cx="18576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310640" y="3008880"/>
                <a:ext cx="2296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310640" y="3008880"/>
                <a:ext cx="208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10640" y="30088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10640" y="301968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10640" y="3029040"/>
                <a:ext cx="2296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08840" y="3029040"/>
                <a:ext cx="16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774160" y="255744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116000" y="3679920"/>
                <a:ext cx="3081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81880" y="370152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181880" y="371232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181880" y="3712320"/>
                <a:ext cx="176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181880" y="372312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181880" y="373212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181520" y="373212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587960" y="3679920"/>
                <a:ext cx="3949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676160" y="370152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676160" y="371232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1676160" y="371232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676160" y="372312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676160" y="373212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676520" y="373212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148120" y="3679920"/>
                <a:ext cx="48312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2202480" y="3701520"/>
                <a:ext cx="4399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202480" y="37123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2202480" y="3712320"/>
                <a:ext cx="3949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202480" y="3723120"/>
                <a:ext cx="460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202480" y="3723120"/>
                <a:ext cx="4608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202840" y="3723120"/>
                <a:ext cx="3938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UT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40184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962000" y="376452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3991320" y="3302640"/>
                <a:ext cx="746280" cy="21240"/>
              </a:xfrm>
              <a:custGeom>
                <a:avLst/>
                <a:gdLst/>
                <a:ahLst/>
                <a:rect l="l" t="t" r="r" b="b"/>
                <a:pathLst>
                  <a:path w="465" h="14">
                    <a:moveTo>
                      <a:pt x="0" y="0"/>
                    </a:moveTo>
                    <a:lnTo>
                      <a:pt x="0" y="7"/>
                    </a:lnTo>
                    <a:lnTo>
                      <a:pt x="465" y="14"/>
                    </a:lnTo>
                    <a:lnTo>
                      <a:pt x="46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48968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2048760" y="3679920"/>
                <a:ext cx="11160" cy="189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728160" y="2472840"/>
                <a:ext cx="18720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3750120" y="2483640"/>
                <a:ext cx="219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750120" y="2494440"/>
                <a:ext cx="197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750120" y="24944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750120" y="2505240"/>
                <a:ext cx="165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750120" y="2514600"/>
                <a:ext cx="219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3749400" y="2514600"/>
                <a:ext cx="14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3915360" y="255744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432240" y="3217680"/>
                <a:ext cx="789840" cy="23184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3652200" y="3239280"/>
                <a:ext cx="415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3652200" y="325008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652200" y="3250080"/>
                <a:ext cx="38340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652200" y="32605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652200" y="3271320"/>
                <a:ext cx="438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652560" y="3271320"/>
                <a:ext cx="358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737600" y="3217680"/>
                <a:ext cx="58248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848480" y="3239280"/>
                <a:ext cx="4489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48480" y="3239280"/>
                <a:ext cx="4057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848480" y="3250080"/>
                <a:ext cx="39456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848480" y="3250080"/>
                <a:ext cx="4604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848480" y="326052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847760" y="326052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GS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520800" y="2683440"/>
                <a:ext cx="394560" cy="1998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607560" y="2703600"/>
                <a:ext cx="297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607560" y="2703600"/>
                <a:ext cx="2631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607560" y="2714400"/>
                <a:ext cx="231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607560" y="2714400"/>
                <a:ext cx="28548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3607560" y="2725200"/>
                <a:ext cx="285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607920" y="27252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I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154680"/>
                <a:ext cx="1800" cy="4284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24800" y="311328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24800" y="306108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24800" y="301968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24800" y="2955240"/>
                <a:ext cx="1800" cy="42480"/>
              </a:xfrm>
              <a:custGeom>
                <a:avLst/>
                <a:gdLst/>
                <a:ahLst/>
                <a:rect l="l" t="t" r="r" b="b"/>
                <a:pathLst>
                  <a:path w="0" h="28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024800" y="28616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024800" y="2820240"/>
                <a:ext cx="1800" cy="19800"/>
              </a:xfrm>
              <a:custGeom>
                <a:avLst/>
                <a:gdLst/>
                <a:ahLst/>
                <a:rect l="l" t="t" r="r" b="b"/>
                <a:pathLst>
                  <a:path w="0" h="13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024800" y="2757240"/>
                <a:ext cx="1800" cy="52200"/>
              </a:xfrm>
              <a:custGeom>
                <a:avLst/>
                <a:gdLst/>
                <a:ahLst/>
                <a:rect l="l" t="t" r="r" b="b"/>
                <a:pathLst>
                  <a:path w="0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024800" y="27252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24800" y="266220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24800" y="2631600"/>
                <a:ext cx="1800" cy="9000"/>
              </a:xfrm>
              <a:custGeom>
                <a:avLst/>
                <a:gdLst/>
                <a:ahLst/>
                <a:rect l="l" t="t" r="r" b="b"/>
                <a:pathLst>
                  <a:path w="0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24800" y="25682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024800" y="2525400"/>
                <a:ext cx="1800" cy="21240"/>
              </a:xfrm>
              <a:custGeom>
                <a:avLst/>
                <a:gdLst/>
                <a:ahLst/>
                <a:rect l="l" t="t" r="r" b="b"/>
                <a:pathLst>
                  <a:path w="0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024800" y="2472840"/>
                <a:ext cx="1800" cy="41400"/>
              </a:xfrm>
              <a:custGeom>
                <a:avLst/>
                <a:gdLst/>
                <a:ahLst/>
                <a:rect l="l" t="t" r="r" b="b"/>
                <a:pathLst>
                  <a:path w="0" h="27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79160" y="24422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124520" y="249444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145040" y="251460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190400" y="256824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210920" y="25992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244760" y="26406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265640" y="26730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28" y="20"/>
                    </a:lnTo>
                    <a:lnTo>
                      <a:pt x="28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10640" y="2725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342680" y="27464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376520" y="27986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397040" y="282024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442400" y="2872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62920" y="290304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508280" y="2946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4528800" y="297684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573800" y="30196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594680" y="305028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39680" y="31024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662000" y="31240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7"/>
                    </a:moveTo>
                    <a:lnTo>
                      <a:pt x="6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705560" y="31762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727880" y="3208680"/>
                <a:ext cx="9360" cy="900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474440" y="307188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453560" y="3250080"/>
                <a:ext cx="9360" cy="1778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5670360" y="2955240"/>
                <a:ext cx="4946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726520" y="2976840"/>
                <a:ext cx="4604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726520" y="297684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726520" y="2976840"/>
                <a:ext cx="405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726520" y="2987640"/>
                <a:ext cx="460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726520" y="2998080"/>
                <a:ext cx="448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726520" y="2998080"/>
                <a:ext cx="37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C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573800" y="1791000"/>
                <a:ext cx="746640" cy="1998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803480" y="1811520"/>
                <a:ext cx="528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82880" y="1822320"/>
                <a:ext cx="603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4682880" y="1822320"/>
                <a:ext cx="60336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4682880" y="1832760"/>
                <a:ext cx="669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4682880" y="1832760"/>
                <a:ext cx="669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683960" y="183276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925520" y="2777040"/>
                <a:ext cx="394920" cy="189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979880" y="2798640"/>
                <a:ext cx="3610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4979880" y="2798640"/>
                <a:ext cx="329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979880" y="2798640"/>
                <a:ext cx="2955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979880" y="2809440"/>
                <a:ext cx="351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979880" y="2820240"/>
                <a:ext cx="351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980240" y="2820240"/>
                <a:ext cx="27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R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516360" y="1528560"/>
                <a:ext cx="1141560" cy="55584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68360" y="1643760"/>
                <a:ext cx="7236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768360" y="164376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768360" y="1643760"/>
                <a:ext cx="6580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768360" y="1654560"/>
                <a:ext cx="712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768360" y="1665360"/>
                <a:ext cx="7027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770160" y="1665360"/>
                <a:ext cx="608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ultimed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746040" y="1791000"/>
                <a:ext cx="7686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746040" y="1791000"/>
                <a:ext cx="800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746040" y="1791000"/>
                <a:ext cx="7254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746040" y="1801800"/>
                <a:ext cx="7912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746040" y="1811520"/>
                <a:ext cx="780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745320" y="181152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P Network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516360" y="3532680"/>
                <a:ext cx="114156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11280" y="3649320"/>
                <a:ext cx="406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11280" y="3660120"/>
                <a:ext cx="417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811920" y="3660120"/>
                <a:ext cx="4057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811920" y="3660120"/>
                <a:ext cx="4622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811920" y="3669120"/>
                <a:ext cx="46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811920" y="3669120"/>
                <a:ext cx="372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STN/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691320" y="3775320"/>
                <a:ext cx="8665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691320" y="3786120"/>
                <a:ext cx="987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82240" y="3786120"/>
                <a:ext cx="964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582240" y="3795120"/>
                <a:ext cx="1020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582240" y="3805920"/>
                <a:ext cx="1009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80440" y="3805920"/>
                <a:ext cx="90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egacy/Externa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960640" y="1077120"/>
                <a:ext cx="1327320" cy="9136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212640" y="1234080"/>
                <a:ext cx="9324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212640" y="1234080"/>
                <a:ext cx="846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223800" y="1234080"/>
                <a:ext cx="844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223800" y="1244880"/>
                <a:ext cx="900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223800" y="1255320"/>
                <a:ext cx="900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3224520" y="1255320"/>
                <a:ext cx="799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 &amp;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3332880" y="1381320"/>
                <a:ext cx="680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332880" y="1381320"/>
                <a:ext cx="780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3332880" y="1381320"/>
                <a:ext cx="6800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332880" y="13921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332880" y="140292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332880" y="1402920"/>
                <a:ext cx="648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ices 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944680" y="3124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94468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944680" y="321768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94468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944680" y="33238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944680" y="338688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944680" y="341748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944680" y="34804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5944680" y="35236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5944680" y="3586320"/>
                <a:ext cx="11160" cy="2016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5944680" y="3617280"/>
                <a:ext cx="1116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5944680" y="3679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011920" y="2955240"/>
                <a:ext cx="11160" cy="26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198400" y="3397680"/>
                <a:ext cx="462240" cy="334440"/>
              </a:xfrm>
              <a:custGeom>
                <a:avLst/>
                <a:gdLst/>
                <a:ahLst/>
                <a:rect l="l" t="t" r="r" b="b"/>
                <a:pathLst>
                  <a:path w="288" h="218">
                    <a:moveTo>
                      <a:pt x="7" y="0"/>
                    </a:moveTo>
                    <a:lnTo>
                      <a:pt x="0" y="6"/>
                    </a:lnTo>
                    <a:lnTo>
                      <a:pt x="288" y="218"/>
                    </a:lnTo>
                    <a:lnTo>
                      <a:pt x="288" y="212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482580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82580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482580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482580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482580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482580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4825800" y="27986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482580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825800" y="289224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4825800" y="295524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4825800" y="299808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825800" y="30610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4825800" y="3091680"/>
                <a:ext cx="11160" cy="4284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4825800" y="31546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4825800" y="3187080"/>
                <a:ext cx="11160" cy="30600"/>
              </a:xfrm>
              <a:custGeom>
                <a:avLst/>
                <a:gdLst/>
                <a:ahLst/>
                <a:rect l="l" t="t" r="r" b="b"/>
                <a:pathLst>
                  <a:path w="7" h="20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011920" y="250524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011920" y="256824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011920" y="2599200"/>
                <a:ext cx="1116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011920" y="26622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011920" y="269424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011920" y="275724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111640" y="23994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166360" y="23886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198400" y="2368440"/>
                <a:ext cx="44640" cy="1044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264280" y="2347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297760" y="23256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63640" y="2314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97480" y="2284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452200" y="2273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484240" y="2251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550120" y="2242800"/>
                <a:ext cx="2196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583600" y="222120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649480" y="2199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681520" y="217980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736240" y="2169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781240" y="214740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35960" y="2136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00" y="2106000"/>
                <a:ext cx="44640" cy="20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7" y="7"/>
                    </a:move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935320" y="20955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9673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021720" y="2063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0670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21080" y="20217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153480" y="200016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19000" y="199116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52840" y="19587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319080" y="1947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351120" y="1928160"/>
                <a:ext cx="45000" cy="1980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405480" y="1917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439320" y="188496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504840" y="1874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111640" y="24102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155200" y="24516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188680" y="2472840"/>
                <a:ext cx="43200" cy="3204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7" y="21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27" y="1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243040" y="2505240"/>
                <a:ext cx="2088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13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275440" y="2525400"/>
                <a:ext cx="3348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320440" y="2568240"/>
                <a:ext cx="2052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352480" y="258840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21"/>
                    </a:lnTo>
                    <a:lnTo>
                      <a:pt x="28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406840" y="26316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440680" y="265140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14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484240" y="268344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517720" y="27036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572080" y="27464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5604480" y="2766600"/>
                <a:ext cx="3348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649480" y="279864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5681520" y="2829240"/>
                <a:ext cx="45000" cy="32040"/>
              </a:xfrm>
              <a:custGeom>
                <a:avLst/>
                <a:gdLst/>
                <a:ahLst/>
                <a:rect l="l" t="t" r="r" b="b"/>
                <a:pathLst>
                  <a:path w="28" h="21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1" y="1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5736240" y="28616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5758560" y="288324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21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13"/>
                    </a:lnTo>
                    <a:lnTo>
                      <a:pt x="2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813280" y="292464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5846760" y="2946240"/>
                <a:ext cx="20880" cy="900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68000" y="241020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1338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17888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244760" y="241020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2771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342680" y="241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437652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453560" y="241020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4485600" y="2410200"/>
                <a:ext cx="43200" cy="10440"/>
              </a:xfrm>
              <a:custGeom>
                <a:avLst/>
                <a:gdLst/>
                <a:ahLst/>
                <a:rect l="l" t="t" r="r" b="b"/>
                <a:pathLst>
                  <a:path w="2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551480" y="24102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4584960" y="24102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011920" y="1969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011920" y="1980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011920" y="19911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011920" y="2000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011920" y="20217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011920" y="20325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011920" y="20433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011920" y="2053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011920" y="2063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011920" y="20739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1920" y="2084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011920" y="20955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011920" y="2116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011920" y="21261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11920" y="213696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011920" y="2147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011920" y="2158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011920" y="2169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11920" y="217980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011920" y="2189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011920" y="22104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011920" y="22212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011920" y="22320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011920" y="224280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6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011920" y="22518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011920" y="22626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011920" y="22734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11920" y="228420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011920" y="2305800"/>
                <a:ext cx="11160" cy="108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011920" y="2314800"/>
                <a:ext cx="11160" cy="1440"/>
              </a:xfrm>
              <a:custGeom>
                <a:avLst/>
                <a:gdLst/>
                <a:ahLst/>
                <a:rect l="l" t="t" r="r" b="b"/>
                <a:pathLst>
                  <a:path w="7" h="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737600" y="2683440"/>
                <a:ext cx="1875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57920" y="205380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0"/>
                    </a:moveTo>
                    <a:lnTo>
                      <a:pt x="0" y="6"/>
                    </a:lnTo>
                    <a:lnTo>
                      <a:pt x="54" y="68"/>
                    </a:lnTo>
                    <a:lnTo>
                      <a:pt x="61" y="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57920" y="2147400"/>
                <a:ext cx="28404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79160" y="2169000"/>
                <a:ext cx="253080" cy="156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912640" y="2179800"/>
                <a:ext cx="2631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912640" y="2189160"/>
                <a:ext cx="229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912640" y="2189160"/>
                <a:ext cx="285480" cy="19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912640" y="2199600"/>
                <a:ext cx="285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913720" y="2199600"/>
                <a:ext cx="210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386320" y="258840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331600" y="1895760"/>
                <a:ext cx="2952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331600" y="19065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331600" y="1906560"/>
                <a:ext cx="2181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331600" y="1917360"/>
                <a:ext cx="2728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331600" y="1928160"/>
                <a:ext cx="2728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332320" y="192816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551480" y="1077120"/>
                <a:ext cx="987120" cy="5554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16720" y="1181880"/>
                <a:ext cx="690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716720" y="1181880"/>
                <a:ext cx="7124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671720" y="1192680"/>
                <a:ext cx="37404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671720" y="12031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4671720" y="1213920"/>
                <a:ext cx="43992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669200" y="1213920"/>
                <a:ext cx="372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Legac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077800" y="1181880"/>
                <a:ext cx="3513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077800" y="1192680"/>
                <a:ext cx="417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077800" y="1203120"/>
                <a:ext cx="4172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076720" y="1203120"/>
                <a:ext cx="3391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mobi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825800" y="1296720"/>
                <a:ext cx="4604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825800" y="1296720"/>
                <a:ext cx="47160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617360" y="1329120"/>
                <a:ext cx="48276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617360" y="1339920"/>
                <a:ext cx="5486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617360" y="1350720"/>
                <a:ext cx="5486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614480" y="1350720"/>
                <a:ext cx="4824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signalling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837320" y="1413720"/>
                <a:ext cx="4381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837320" y="1413720"/>
                <a:ext cx="448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089320" y="1350720"/>
                <a:ext cx="42840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089320" y="1350720"/>
                <a:ext cx="494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089320" y="1359720"/>
                <a:ext cx="4942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088240" y="1359720"/>
                <a:ext cx="4212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925520" y="214740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320440" y="3469680"/>
                <a:ext cx="109080" cy="105840"/>
              </a:xfrm>
              <a:custGeom>
                <a:avLst/>
                <a:gdLst/>
                <a:ahLst/>
                <a:rect l="l" t="t" r="r" b="b"/>
                <a:pathLst>
                  <a:path w="68" h="69">
                    <a:moveTo>
                      <a:pt x="68" y="7"/>
                    </a:moveTo>
                    <a:lnTo>
                      <a:pt x="61" y="0"/>
                    </a:lnTo>
                    <a:lnTo>
                      <a:pt x="0" y="62"/>
                    </a:lnTo>
                    <a:lnTo>
                      <a:pt x="7" y="69"/>
                    </a:lnTo>
                    <a:lnTo>
                      <a:pt x="6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57920" y="3302640"/>
                <a:ext cx="18612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7"/>
                    </a:lnTo>
                    <a:lnTo>
                      <a:pt x="116" y="14"/>
                    </a:lnTo>
                    <a:lnTo>
                      <a:pt x="11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044400" y="3217680"/>
                <a:ext cx="28548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099120" y="323928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099120" y="323928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099120" y="32392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099120" y="3250080"/>
                <a:ext cx="185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099120" y="326052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09912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935240" y="2631600"/>
                <a:ext cx="187560" cy="19800"/>
              </a:xfrm>
              <a:custGeom>
                <a:avLst/>
                <a:gdLst/>
                <a:ahLst/>
                <a:rect l="l" t="t" r="r" b="b"/>
                <a:pathLst>
                  <a:path w="117" h="13">
                    <a:moveTo>
                      <a:pt x="0" y="0"/>
                    </a:moveTo>
                    <a:lnTo>
                      <a:pt x="0" y="13"/>
                    </a:lnTo>
                    <a:lnTo>
                      <a:pt x="117" y="13"/>
                    </a:lnTo>
                    <a:lnTo>
                      <a:pt x="117" y="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387680" y="2314800"/>
                <a:ext cx="20520" cy="179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376520" y="2242800"/>
                <a:ext cx="18612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387680" y="2251800"/>
                <a:ext cx="2404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387680" y="2262600"/>
                <a:ext cx="2181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397040" y="226260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397040" y="2273400"/>
                <a:ext cx="1656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397040" y="2284200"/>
                <a:ext cx="2199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396680" y="228420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x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944680" y="2505240"/>
                <a:ext cx="110880" cy="93600"/>
              </a:xfrm>
              <a:custGeom>
                <a:avLst/>
                <a:gdLst/>
                <a:ahLst/>
                <a:rect l="l" t="t" r="r" b="b"/>
                <a:pathLst>
                  <a:path w="69" h="61">
                    <a:moveTo>
                      <a:pt x="7" y="0"/>
                    </a:moveTo>
                    <a:lnTo>
                      <a:pt x="0" y="6"/>
                    </a:lnTo>
                    <a:lnTo>
                      <a:pt x="62" y="61"/>
                    </a:lnTo>
                    <a:lnTo>
                      <a:pt x="69" y="5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1896120" y="3154680"/>
                <a:ext cx="1638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2400480" y="3154680"/>
                <a:ext cx="2854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631600" y="3228480"/>
                <a:ext cx="823320" cy="503280"/>
              </a:xfrm>
              <a:custGeom>
                <a:avLst/>
                <a:gdLst/>
                <a:ahLst/>
                <a:rect l="l" t="t" r="r" b="b"/>
                <a:pathLst>
                  <a:path w="513" h="328">
                    <a:moveTo>
                      <a:pt x="0" y="322"/>
                    </a:moveTo>
                    <a:lnTo>
                      <a:pt x="7" y="328"/>
                    </a:lnTo>
                    <a:lnTo>
                      <a:pt x="513" y="0"/>
                    </a:lnTo>
                    <a:lnTo>
                      <a:pt x="506" y="0"/>
                    </a:lnTo>
                    <a:lnTo>
                      <a:pt x="0" y="3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2708280" y="366912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54" y="62"/>
                    </a:moveTo>
                    <a:lnTo>
                      <a:pt x="61" y="55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54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079160" y="22320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33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67720" y="2189160"/>
                <a:ext cx="43200" cy="31680"/>
              </a:xfrm>
              <a:custGeom>
                <a:avLst/>
                <a:gdLst/>
                <a:ahLst/>
                <a:rect l="l" t="t" r="r" b="b"/>
                <a:pathLst>
                  <a:path w="27" h="21">
                    <a:moveTo>
                      <a:pt x="7" y="14"/>
                    </a:moveTo>
                    <a:lnTo>
                      <a:pt x="7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233600" y="2179800"/>
                <a:ext cx="21960" cy="936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265640" y="2158200"/>
                <a:ext cx="44640" cy="212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331520" y="213696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4353840" y="2116800"/>
                <a:ext cx="43200" cy="20160"/>
              </a:xfrm>
              <a:custGeom>
                <a:avLst/>
                <a:gdLst/>
                <a:ahLst/>
                <a:rect l="l" t="t" r="r" b="b"/>
                <a:pathLst>
                  <a:path w="27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419720" y="2095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453560" y="20739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4519440" y="20631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4551480" y="2032560"/>
                <a:ext cx="43200" cy="2124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0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606200" y="20217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639680" y="1991160"/>
                <a:ext cx="43200" cy="30600"/>
              </a:xfrm>
              <a:custGeom>
                <a:avLst/>
                <a:gdLst/>
                <a:ahLst/>
                <a:rect l="l" t="t" r="r" b="b"/>
                <a:pathLst>
                  <a:path w="27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694040" y="1980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1567080" y="1077120"/>
                <a:ext cx="1327320" cy="734040"/>
              </a:xfrm>
              <a:prstGeom prst="ellipse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1928160" y="1203120"/>
                <a:ext cx="7030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928160" y="1203120"/>
                <a:ext cx="6260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928160" y="1213920"/>
                <a:ext cx="6372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1928160" y="1213920"/>
                <a:ext cx="69192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1928160" y="1224720"/>
                <a:ext cx="6919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1928520" y="1224720"/>
                <a:ext cx="596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ternativ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2039040" y="1350720"/>
                <a:ext cx="47160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2039040" y="1350720"/>
                <a:ext cx="41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2039040" y="1350720"/>
                <a:ext cx="4377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2039040" y="1359720"/>
                <a:ext cx="492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2039040" y="1370520"/>
                <a:ext cx="492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2038320" y="1370520"/>
                <a:ext cx="41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1994040" y="1496520"/>
                <a:ext cx="5486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1994040" y="1496520"/>
                <a:ext cx="5054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1962000" y="1507320"/>
                <a:ext cx="4928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1962000" y="1517760"/>
                <a:ext cx="558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1962000" y="1528560"/>
                <a:ext cx="548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1962000" y="1528560"/>
                <a:ext cx="465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68000" y="1937160"/>
                <a:ext cx="274320" cy="179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113000" y="1947960"/>
                <a:ext cx="2743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113000" y="1958760"/>
                <a:ext cx="24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4113000" y="195876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4113000" y="1969560"/>
                <a:ext cx="19728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4113000" y="198036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4113000" y="19803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321800" y="2063160"/>
                <a:ext cx="120240" cy="147240"/>
              </a:xfrm>
              <a:custGeom>
                <a:avLst/>
                <a:gdLst/>
                <a:ahLst/>
                <a:rect l="l" t="t" r="r" b="b"/>
                <a:pathLst>
                  <a:path w="75" h="96">
                    <a:moveTo>
                      <a:pt x="6" y="0"/>
                    </a:moveTo>
                    <a:lnTo>
                      <a:pt x="0" y="0"/>
                    </a:lnTo>
                    <a:lnTo>
                      <a:pt x="68" y="96"/>
                    </a:lnTo>
                    <a:lnTo>
                      <a:pt x="75" y="8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670360" y="1706760"/>
                <a:ext cx="494640" cy="2210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770080" y="1748160"/>
                <a:ext cx="3722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770080" y="1748160"/>
                <a:ext cx="3290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770080" y="1748160"/>
                <a:ext cx="317520" cy="147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770080" y="1758960"/>
                <a:ext cx="383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770080" y="1769760"/>
                <a:ext cx="37224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769720" y="176976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639680" y="2325600"/>
                <a:ext cx="492840" cy="2318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737600" y="2368440"/>
                <a:ext cx="374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737600" y="2379240"/>
                <a:ext cx="32904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737600" y="2379240"/>
                <a:ext cx="319320" cy="13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737600" y="2388600"/>
                <a:ext cx="3852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737600" y="2388600"/>
                <a:ext cx="3852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4736520" y="2388600"/>
                <a:ext cx="3117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CSCF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111640" y="230580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155200" y="22734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188680" y="2242800"/>
                <a:ext cx="3204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231880" y="2221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264280" y="21798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320440" y="21474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340960" y="2116800"/>
                <a:ext cx="4500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1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397480" y="209556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418360" y="2053800"/>
                <a:ext cx="44640" cy="3096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7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13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472720" y="2032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506560" y="1991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550120" y="1969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583600" y="19281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626800" y="19065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660640" y="1874520"/>
                <a:ext cx="936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386320" y="2053800"/>
                <a:ext cx="109080" cy="104400"/>
              </a:xfrm>
              <a:custGeom>
                <a:avLst/>
                <a:gdLst/>
                <a:ahLst/>
                <a:rect l="l" t="t" r="r" b="b"/>
                <a:pathLst>
                  <a:path w="68" h="68">
                    <a:moveTo>
                      <a:pt x="7" y="0"/>
                    </a:moveTo>
                    <a:lnTo>
                      <a:pt x="0" y="6"/>
                    </a:lnTo>
                    <a:lnTo>
                      <a:pt x="61" y="68"/>
                    </a:lnTo>
                    <a:lnTo>
                      <a:pt x="68" y="6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484240" y="250524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538600" y="2514600"/>
                <a:ext cx="26316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538600" y="252540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538600" y="2525400"/>
                <a:ext cx="1972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538600" y="2535840"/>
                <a:ext cx="25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538600" y="254664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538600" y="2546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516360" y="2955240"/>
                <a:ext cx="66924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570720" y="2976840"/>
                <a:ext cx="646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570720" y="2976840"/>
                <a:ext cx="592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570720" y="297684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570720" y="298764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570720" y="2998080"/>
                <a:ext cx="646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571080" y="299808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965640" y="34912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1"/>
                    </a:moveTo>
                    <a:lnTo>
                      <a:pt x="14" y="21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943320" y="3460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922440" y="339768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7" y="27"/>
                    </a:moveTo>
                    <a:lnTo>
                      <a:pt x="7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7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911280" y="33652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877440" y="331308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7" y="20"/>
                    </a:moveTo>
                    <a:lnTo>
                      <a:pt x="7" y="20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856560" y="328104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833880" y="321768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7" y="28"/>
                    </a:move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6822720" y="3187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790680" y="3134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7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471360" y="4404960"/>
                <a:ext cx="669240" cy="1886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527520" y="4426200"/>
                <a:ext cx="64656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527520" y="4435560"/>
                <a:ext cx="592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527520" y="4435560"/>
                <a:ext cx="5806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527520" y="44463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6527520" y="4457160"/>
                <a:ext cx="6465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6527880" y="4457160"/>
                <a:ext cx="549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768360" y="4341960"/>
                <a:ext cx="2196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6801840" y="4320360"/>
                <a:ext cx="972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0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6822720" y="42573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7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68565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877440" y="4183920"/>
                <a:ext cx="33840" cy="3168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0" y="21"/>
                    </a:move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14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6911280" y="4153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6933960" y="410112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13" y="6"/>
                    </a:lnTo>
                    <a:lnTo>
                      <a:pt x="20" y="6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6965640" y="406872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387680" y="5181840"/>
                <a:ext cx="6786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528800" y="5212440"/>
                <a:ext cx="4716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528800" y="5212440"/>
                <a:ext cx="428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528800" y="5212440"/>
                <a:ext cx="41724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528800" y="52232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4528800" y="5234040"/>
                <a:ext cx="4716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4528800" y="523404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3421080" y="2295000"/>
                <a:ext cx="680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3564360" y="2305800"/>
                <a:ext cx="47160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564360" y="2314800"/>
                <a:ext cx="4269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564360" y="2314800"/>
                <a:ext cx="416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564360" y="2325600"/>
                <a:ext cx="471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564360" y="2336400"/>
                <a:ext cx="471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564360" y="2336400"/>
                <a:ext cx="386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HS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2565720" y="5013000"/>
                <a:ext cx="1141200" cy="557280"/>
              </a:xfrm>
              <a:prstGeom prst="ellipse">
                <a:avLst/>
              </a:prstGeom>
              <a:solidFill>
                <a:srgbClr val="f2f2f2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2795040" y="5108040"/>
                <a:ext cx="79128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2795040" y="5118840"/>
                <a:ext cx="703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2795040" y="5118840"/>
                <a:ext cx="72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2795040" y="5129640"/>
                <a:ext cx="7804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2795040" y="5139000"/>
                <a:ext cx="7804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95040" y="513900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74160" y="5255640"/>
                <a:ext cx="83304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2774160" y="5264640"/>
                <a:ext cx="746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2774160" y="5264640"/>
                <a:ext cx="77868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774160" y="5275440"/>
                <a:ext cx="8330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774160" y="5275440"/>
                <a:ext cx="83304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774160" y="527544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amp; Services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3398760" y="4383360"/>
                <a:ext cx="8568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3509640" y="4404960"/>
                <a:ext cx="734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3509640" y="4404960"/>
                <a:ext cx="7347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3509640" y="4415760"/>
                <a:ext cx="71244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509640" y="4415760"/>
                <a:ext cx="7012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509640" y="4426200"/>
                <a:ext cx="349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3510000" y="4426200"/>
                <a:ext cx="281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S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3793680" y="4426200"/>
                <a:ext cx="471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3793680" y="4426200"/>
                <a:ext cx="3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3826080" y="4426200"/>
                <a:ext cx="354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88680" y="4394160"/>
                <a:ext cx="8557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243040" y="4415760"/>
                <a:ext cx="8445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243040" y="4415760"/>
                <a:ext cx="8330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243040" y="4415760"/>
                <a:ext cx="8125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243040" y="4426200"/>
                <a:ext cx="8668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243040" y="4435560"/>
                <a:ext cx="8668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243040" y="4435560"/>
                <a:ext cx="768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MSC serv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671720" y="4467960"/>
                <a:ext cx="5616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3223800" y="3753720"/>
                <a:ext cx="22320" cy="136440"/>
              </a:xfrm>
              <a:custGeom>
                <a:avLst/>
                <a:gdLst/>
                <a:ahLst/>
                <a:rect l="l" t="t" r="r" b="b"/>
                <a:pathLst>
                  <a:path w="14" h="89">
                    <a:moveTo>
                      <a:pt x="0" y="89"/>
                    </a:moveTo>
                    <a:lnTo>
                      <a:pt x="14" y="89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740680" y="3921120"/>
                <a:ext cx="99360" cy="10584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0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880520" y="4982400"/>
                <a:ext cx="3348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21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935320" y="4057920"/>
                <a:ext cx="28368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989680" y="4079520"/>
                <a:ext cx="2631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495400" y="4079520"/>
                <a:ext cx="23112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495400" y="4079520"/>
                <a:ext cx="185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495400" y="4090320"/>
                <a:ext cx="1857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495400" y="4101120"/>
                <a:ext cx="2404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495400" y="41011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738960" y="4120920"/>
                <a:ext cx="186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925440" y="4037760"/>
                <a:ext cx="2854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3981240" y="4057920"/>
                <a:ext cx="25200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981240" y="4057920"/>
                <a:ext cx="2296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3981240" y="4057920"/>
                <a:ext cx="1861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981240" y="4068720"/>
                <a:ext cx="18612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981240" y="4079520"/>
                <a:ext cx="2408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3981240" y="4079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024800" y="4930200"/>
                <a:ext cx="48312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113000" y="4950000"/>
                <a:ext cx="3722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415656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4156560" y="4950000"/>
                <a:ext cx="1090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156560" y="496080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156560" y="4971600"/>
                <a:ext cx="165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156200" y="49716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4277160" y="4897800"/>
                <a:ext cx="99360" cy="106200"/>
              </a:xfrm>
              <a:custGeom>
                <a:avLst/>
                <a:gdLst/>
                <a:ahLst/>
                <a:rect l="l" t="t" r="r" b="b"/>
                <a:pathLst>
                  <a:path w="62" h="69">
                    <a:moveTo>
                      <a:pt x="0" y="62"/>
                    </a:moveTo>
                    <a:lnTo>
                      <a:pt x="7" y="69"/>
                    </a:lnTo>
                    <a:lnTo>
                      <a:pt x="62" y="7"/>
                    </a:lnTo>
                    <a:lnTo>
                      <a:pt x="55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4848480" y="4971600"/>
                <a:ext cx="580680" cy="1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000760" y="4982400"/>
                <a:ext cx="374040" cy="21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045760" y="499320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045760" y="4993200"/>
                <a:ext cx="10908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045760" y="5004000"/>
                <a:ext cx="163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045760" y="5013000"/>
                <a:ext cx="1638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046120" y="501300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869360" y="4930200"/>
                <a:ext cx="153720" cy="82800"/>
              </a:xfrm>
              <a:custGeom>
                <a:avLst/>
                <a:gdLst/>
                <a:ahLst/>
                <a:rect l="l" t="t" r="r" b="b"/>
                <a:pathLst>
                  <a:path w="96" h="54">
                    <a:moveTo>
                      <a:pt x="7" y="0"/>
                    </a:moveTo>
                    <a:lnTo>
                      <a:pt x="0" y="7"/>
                    </a:lnTo>
                    <a:lnTo>
                      <a:pt x="89" y="54"/>
                    </a:lnTo>
                    <a:lnTo>
                      <a:pt x="96" y="4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3246480" y="1528560"/>
                <a:ext cx="481320" cy="282600"/>
              </a:xfrm>
              <a:prstGeom prst="rect">
                <a:avLst/>
              </a:prstGeom>
              <a:solidFill>
                <a:srgbClr val="ffffff"/>
              </a:solidFill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344400" y="1580760"/>
                <a:ext cx="3175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344400" y="1580760"/>
                <a:ext cx="2966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3344400" y="158076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3344400" y="1591560"/>
                <a:ext cx="3398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3344400" y="1602360"/>
                <a:ext cx="3398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344400" y="16023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C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498120" y="17910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464280" y="184356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3432240" y="18957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7"/>
                    </a:move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3409920" y="1947960"/>
                <a:ext cx="22320" cy="4284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377880" y="2010960"/>
                <a:ext cx="2088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13" y="0"/>
                    </a:move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344400" y="20631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0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300840" y="21168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20" y="6"/>
                    </a:move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7" y="20"/>
                    </a:lnTo>
                    <a:lnTo>
                      <a:pt x="0" y="20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267000" y="216900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21" y="7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1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3246480" y="2221200"/>
                <a:ext cx="2052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212640" y="227340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180600" y="2325600"/>
                <a:ext cx="20520" cy="42480"/>
              </a:xfrm>
              <a:custGeom>
                <a:avLst/>
                <a:gdLst/>
                <a:ahLst/>
                <a:rect l="l" t="t" r="r" b="b"/>
                <a:pathLst>
                  <a:path w="13" h="28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46760" y="23792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14" y="6"/>
                    </a:move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6"/>
                    </a:lnTo>
                    <a:lnTo>
                      <a:pt x="7" y="6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0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69080" y="244224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01120" y="249444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234960" y="254664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267000" y="259920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312000" y="2651400"/>
                <a:ext cx="3204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344400" y="2694240"/>
                <a:ext cx="3348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6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377880" y="27464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421080" y="2798640"/>
                <a:ext cx="22320" cy="41400"/>
              </a:xfrm>
              <a:custGeom>
                <a:avLst/>
                <a:gdLst/>
                <a:ahLst/>
                <a:rect l="l" t="t" r="r" b="b"/>
                <a:pathLst>
                  <a:path w="14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454920" y="285084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486960" y="2903040"/>
                <a:ext cx="3384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30160" y="2955240"/>
                <a:ext cx="22320" cy="42480"/>
              </a:xfrm>
              <a:custGeom>
                <a:avLst/>
                <a:gdLst/>
                <a:ahLst/>
                <a:rect l="l" t="t" r="r" b="b"/>
                <a:pathLst>
                  <a:path w="14" h="28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14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64360" y="300888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14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596400" y="3061080"/>
                <a:ext cx="33840" cy="41400"/>
              </a:xfrm>
              <a:custGeom>
                <a:avLst/>
                <a:gdLst/>
                <a:ahLst/>
                <a:rect l="l" t="t" r="r" b="b"/>
                <a:pathLst>
                  <a:path w="21" h="2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14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3641040" y="3113280"/>
                <a:ext cx="20880" cy="41400"/>
              </a:xfrm>
              <a:custGeom>
                <a:avLst/>
                <a:gdLst/>
                <a:ahLst/>
                <a:rect l="l" t="t" r="r" b="b"/>
                <a:pathLst>
                  <a:path w="13" h="2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7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3673440" y="316548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lnTo>
                      <a:pt x="14" y="28"/>
                    </a:lnTo>
                    <a:lnTo>
                      <a:pt x="14" y="28"/>
                    </a:lnTo>
                    <a:lnTo>
                      <a:pt x="21" y="21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3246480" y="2063160"/>
                <a:ext cx="481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3332880" y="2116800"/>
                <a:ext cx="3510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332880" y="2116800"/>
                <a:ext cx="318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3332880" y="2116800"/>
                <a:ext cx="2854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3332880" y="2126160"/>
                <a:ext cx="3510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3332880" y="2136960"/>
                <a:ext cx="3402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3333600" y="21369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3728160" y="2861640"/>
                <a:ext cx="1080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728160" y="292464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3728160" y="2966040"/>
                <a:ext cx="10800" cy="42480"/>
              </a:xfrm>
              <a:custGeom>
                <a:avLst/>
                <a:gdLst/>
                <a:ahLst/>
                <a:rect l="l" t="t" r="r" b="b"/>
                <a:pathLst>
                  <a:path w="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3728160" y="302904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3728160" y="3061080"/>
                <a:ext cx="10800" cy="41400"/>
              </a:xfrm>
              <a:custGeom>
                <a:avLst/>
                <a:gdLst/>
                <a:ahLst/>
                <a:rect l="l" t="t" r="r" b="b"/>
                <a:pathLst>
                  <a:path w="7" h="2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3728160" y="312408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728160" y="3154680"/>
                <a:ext cx="1080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3246480" y="2147400"/>
                <a:ext cx="864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3630240" y="3742920"/>
                <a:ext cx="48276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3695760" y="3764520"/>
                <a:ext cx="428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95760" y="3764520"/>
                <a:ext cx="3834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695760" y="3764520"/>
                <a:ext cx="3513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3695760" y="37753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3695760" y="3786120"/>
                <a:ext cx="4172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3696840" y="378612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GW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620080" y="3816720"/>
                <a:ext cx="1009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090680" y="3816720"/>
                <a:ext cx="1579320" cy="21240"/>
              </a:xfrm>
              <a:custGeom>
                <a:avLst/>
                <a:gdLst/>
                <a:ahLst/>
                <a:rect l="l" t="t" r="r" b="b"/>
                <a:pathLst>
                  <a:path w="984" h="14">
                    <a:moveTo>
                      <a:pt x="0" y="0"/>
                    </a:moveTo>
                    <a:lnTo>
                      <a:pt x="0" y="14"/>
                    </a:lnTo>
                    <a:lnTo>
                      <a:pt x="984" y="14"/>
                    </a:lnTo>
                    <a:lnTo>
                      <a:pt x="984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573800" y="3868920"/>
                <a:ext cx="274680" cy="177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4628160" y="3890160"/>
                <a:ext cx="2408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4628160" y="3890160"/>
                <a:ext cx="219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4628160" y="38901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4628160" y="3900960"/>
                <a:ext cx="1749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28160" y="39117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4628160" y="391176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606200" y="4278960"/>
                <a:ext cx="274320" cy="178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4671720" y="4300560"/>
                <a:ext cx="231120" cy="19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4671720" y="4300560"/>
                <a:ext cx="2088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4617360" y="4236120"/>
                <a:ext cx="17640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4617360" y="4246920"/>
                <a:ext cx="176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4617360" y="4257360"/>
                <a:ext cx="2311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4617000" y="4257360"/>
                <a:ext cx="15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4716720" y="3753720"/>
                <a:ext cx="1440" cy="1472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4694040" y="4404960"/>
                <a:ext cx="11160" cy="12564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267000" y="3586320"/>
                <a:ext cx="242280" cy="189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3180600" y="3595680"/>
                <a:ext cx="18576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180600" y="3606480"/>
                <a:ext cx="1746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180600" y="36064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3180600" y="3617280"/>
                <a:ext cx="13140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180600" y="3617280"/>
                <a:ext cx="18576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3180600" y="36172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3289680" y="3586320"/>
                <a:ext cx="9936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3289680" y="3586320"/>
                <a:ext cx="87840" cy="115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114720" y="3900960"/>
                <a:ext cx="1861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3114720" y="3900960"/>
                <a:ext cx="1749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2554200" y="39639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2554200" y="3974760"/>
                <a:ext cx="13176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554200" y="3984120"/>
                <a:ext cx="18612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2553480" y="398412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3223800" y="3879720"/>
                <a:ext cx="87840" cy="12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034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111640" y="527544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16636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2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243040" y="527544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286600" y="527544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363640" y="527544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406840" y="5192640"/>
                <a:ext cx="801000" cy="19800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484240" y="5223240"/>
                <a:ext cx="7027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484240" y="5223240"/>
                <a:ext cx="6033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484240" y="5223240"/>
                <a:ext cx="59220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484240" y="5234040"/>
                <a:ext cx="658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484240" y="5244840"/>
                <a:ext cx="6580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84960" y="5244840"/>
                <a:ext cx="56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-SGW *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221080" y="5212440"/>
                <a:ext cx="10800" cy="136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066640" y="4971600"/>
                <a:ext cx="23112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3103200" y="498240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3146760" y="4941000"/>
                <a:ext cx="22320" cy="1980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6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3180600" y="4876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0" y="28"/>
                    </a:moveTo>
                    <a:lnTo>
                      <a:pt x="0" y="28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28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223800" y="48456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3246480" y="4782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20" h="27">
                    <a:moveTo>
                      <a:pt x="0" y="20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3289680" y="47505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3321720" y="4687200"/>
                <a:ext cx="33480" cy="4284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0" y="21"/>
                    </a:move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3366360" y="46458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389040" y="4582800"/>
                <a:ext cx="43200" cy="52200"/>
              </a:xfrm>
              <a:custGeom>
                <a:avLst/>
                <a:gdLst/>
                <a:ahLst/>
                <a:rect l="l" t="t" r="r" b="b"/>
                <a:pathLst>
                  <a:path w="27" h="34">
                    <a:moveTo>
                      <a:pt x="0" y="27"/>
                    </a:move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6" y="34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143680" y="5370480"/>
                <a:ext cx="2534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143680" y="5370480"/>
                <a:ext cx="20844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143680" y="5381280"/>
                <a:ext cx="197280" cy="1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143680" y="5390640"/>
                <a:ext cx="2534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143320" y="539064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h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4013280" y="456156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4058640" y="46242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4090680" y="4656600"/>
                <a:ext cx="33840" cy="52200"/>
              </a:xfrm>
              <a:custGeom>
                <a:avLst/>
                <a:gdLst/>
                <a:ahLst/>
                <a:rect l="l" t="t" r="r" b="b"/>
                <a:pathLst>
                  <a:path w="21" h="34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7"/>
                    </a:lnTo>
                    <a:lnTo>
                      <a:pt x="14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34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21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4133880" y="4719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4167720" y="4750560"/>
                <a:ext cx="31680" cy="53280"/>
              </a:xfrm>
              <a:custGeom>
                <a:avLst/>
                <a:gdLst/>
                <a:ahLst/>
                <a:rect l="l" t="t" r="r" b="b"/>
                <a:pathLst>
                  <a:path w="20" h="35">
                    <a:moveTo>
                      <a:pt x="7" y="7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8"/>
                    </a:lnTo>
                    <a:lnTo>
                      <a:pt x="14" y="35"/>
                    </a:lnTo>
                    <a:lnTo>
                      <a:pt x="14" y="35"/>
                    </a:lnTo>
                    <a:lnTo>
                      <a:pt x="20" y="35"/>
                    </a:lnTo>
                    <a:lnTo>
                      <a:pt x="20" y="35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4210920" y="481356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14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4233600" y="4856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7"/>
                    </a:lnTo>
                    <a:lnTo>
                      <a:pt x="27" y="27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27" y="2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4288320" y="4908600"/>
                <a:ext cx="1080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4310640" y="49500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0" y="28"/>
                    </a:lnTo>
                    <a:lnTo>
                      <a:pt x="27" y="28"/>
                    </a:lnTo>
                    <a:lnTo>
                      <a:pt x="27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4365000" y="500400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6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38768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0" y="27"/>
                    </a:lnTo>
                    <a:lnTo>
                      <a:pt x="27" y="20"/>
                    </a:lnTo>
                    <a:lnTo>
                      <a:pt x="20" y="2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442400" y="51080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462920" y="5139000"/>
                <a:ext cx="33840" cy="42480"/>
              </a:xfrm>
              <a:custGeom>
                <a:avLst/>
                <a:gdLst/>
                <a:ahLst/>
                <a:rect l="l" t="t" r="r" b="b"/>
                <a:pathLst>
                  <a:path w="21" h="28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8"/>
                    </a:lnTo>
                    <a:lnTo>
                      <a:pt x="21" y="21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278520" y="5004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7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355200" y="4993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398760" y="4971600"/>
                <a:ext cx="65520" cy="21240"/>
              </a:xfrm>
              <a:custGeom>
                <a:avLst/>
                <a:gdLst/>
                <a:ahLst/>
                <a:rect l="l" t="t" r="r" b="b"/>
                <a:pathLst>
                  <a:path w="41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475800" y="4960800"/>
                <a:ext cx="33840" cy="10440"/>
              </a:xfrm>
              <a:custGeom>
                <a:avLst/>
                <a:gdLst/>
                <a:ahLst/>
                <a:rect l="l" t="t" r="r" b="b"/>
                <a:pathLst>
                  <a:path w="2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21" y="7"/>
                    </a:lnTo>
                    <a:lnTo>
                      <a:pt x="21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3520800" y="49410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6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596400" y="49302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3641040" y="4908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718080" y="4897800"/>
                <a:ext cx="31680" cy="10440"/>
              </a:xfrm>
              <a:custGeom>
                <a:avLst/>
                <a:gdLst/>
                <a:ahLst/>
                <a:rect l="l" t="t" r="r" b="b"/>
                <a:pathLst>
                  <a:path w="20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761640" y="48765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3838680" y="4856400"/>
                <a:ext cx="3168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20" y="7"/>
                    </a:lnTo>
                    <a:lnTo>
                      <a:pt x="20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3881880" y="48456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3959280" y="4824360"/>
                <a:ext cx="2196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4013280" y="4804200"/>
                <a:ext cx="54360" cy="30600"/>
              </a:xfrm>
              <a:custGeom>
                <a:avLst/>
                <a:gdLst/>
                <a:ahLst/>
                <a:rect l="l" t="t" r="r" b="b"/>
                <a:pathLst>
                  <a:path w="34" h="20">
                    <a:moveTo>
                      <a:pt x="0" y="13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28" y="13"/>
                    </a:lnTo>
                    <a:lnTo>
                      <a:pt x="28" y="6"/>
                    </a:lnTo>
                    <a:lnTo>
                      <a:pt x="28" y="6"/>
                    </a:lnTo>
                    <a:lnTo>
                      <a:pt x="34" y="6"/>
                    </a:lnTo>
                    <a:lnTo>
                      <a:pt x="28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407916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4124520" y="47721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6" y="7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4199760" y="47613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4244760" y="474084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4321800" y="47304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6" y="0"/>
                    </a:move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365000" y="470880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442400" y="46980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485600" y="4678200"/>
                <a:ext cx="54360" cy="1980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7" y="6"/>
                    </a:moveTo>
                    <a:lnTo>
                      <a:pt x="7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62640" y="4667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6200" y="4645800"/>
                <a:ext cx="55800" cy="21240"/>
              </a:xfrm>
              <a:custGeom>
                <a:avLst/>
                <a:gdLst/>
                <a:ahLst/>
                <a:rect l="l" t="t" r="r" b="b"/>
                <a:pathLst>
                  <a:path w="35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682880" y="46350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727880" y="4615200"/>
                <a:ext cx="65880" cy="19800"/>
              </a:xfrm>
              <a:custGeom>
                <a:avLst/>
                <a:gdLst/>
                <a:ahLst/>
                <a:rect l="l" t="t" r="r" b="b"/>
                <a:pathLst>
                  <a:path w="41" h="13">
                    <a:moveTo>
                      <a:pt x="6" y="6"/>
                    </a:move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6" y="13"/>
                    </a:lnTo>
                    <a:lnTo>
                      <a:pt x="34" y="6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4803480" y="4593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7" y="7"/>
                    </a:move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4848480" y="4572000"/>
                <a:ext cx="54000" cy="32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7" y="14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34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4925520" y="456156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4968720" y="4541400"/>
                <a:ext cx="54360" cy="20160"/>
              </a:xfrm>
              <a:custGeom>
                <a:avLst/>
                <a:gdLst/>
                <a:ahLst/>
                <a:rect l="l" t="t" r="r" b="b"/>
                <a:pathLst>
                  <a:path w="34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045760" y="453060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089320" y="4509360"/>
                <a:ext cx="54360" cy="21240"/>
              </a:xfrm>
              <a:custGeom>
                <a:avLst/>
                <a:gdLst/>
                <a:ahLst/>
                <a:rect l="l" t="t" r="r" b="b"/>
                <a:pathLst>
                  <a:path w="34" h="14">
                    <a:moveTo>
                      <a:pt x="7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166360" y="44985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4233600" y="4467960"/>
                <a:ext cx="6552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43218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43650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4442400" y="4467960"/>
                <a:ext cx="2052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4485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4573800" y="446796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4617360" y="4467960"/>
                <a:ext cx="5400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46940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473760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482580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4869360" y="446796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946400" y="446796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991400" y="446796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6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066640" y="44679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111640" y="446796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41" y="0"/>
                    </a:lnTo>
                    <a:lnTo>
                      <a:pt x="41" y="0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3827520" y="3921120"/>
                <a:ext cx="11160" cy="62640"/>
              </a:xfrm>
              <a:custGeom>
                <a:avLst/>
                <a:gdLst/>
                <a:ahLst/>
                <a:rect l="l" t="t" r="r" b="b"/>
                <a:pathLst>
                  <a:path w="7" h="41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41"/>
                    </a:lnTo>
                    <a:lnTo>
                      <a:pt x="7" y="41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827520" y="40053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3827520" y="4047120"/>
                <a:ext cx="11160" cy="5364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3827520" y="4120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3827520" y="4163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6"/>
                    </a:move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827520" y="42469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827520" y="4289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3827520" y="436356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46760" y="38797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46760" y="39531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46760" y="3994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3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46760" y="4068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46760" y="412092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46760" y="41947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46760" y="4236120"/>
                <a:ext cx="11160" cy="53280"/>
              </a:xfrm>
              <a:custGeom>
                <a:avLst/>
                <a:gdLst/>
                <a:ahLst/>
                <a:rect l="l" t="t" r="r" b="b"/>
                <a:pathLst>
                  <a:path w="7" h="35">
                    <a:moveTo>
                      <a:pt x="7" y="0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28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7" y="35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46760" y="430956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46760" y="4352760"/>
                <a:ext cx="11160" cy="52200"/>
              </a:xfrm>
              <a:custGeom>
                <a:avLst/>
                <a:gdLst/>
                <a:ahLst/>
                <a:rect l="l" t="t" r="r" b="b"/>
                <a:pathLst>
                  <a:path w="7" h="3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0" y="34"/>
                    </a:lnTo>
                    <a:lnTo>
                      <a:pt x="7" y="3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6021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6110280" y="44784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6153480" y="4478400"/>
                <a:ext cx="54360" cy="10440"/>
              </a:xfrm>
              <a:custGeom>
                <a:avLst/>
                <a:gdLst/>
                <a:ahLst/>
                <a:rect l="l" t="t" r="r" b="b"/>
                <a:pathLst>
                  <a:path w="3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3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3052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0"/>
                    </a:move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273720" y="4478400"/>
                <a:ext cx="65880" cy="10440"/>
              </a:xfrm>
              <a:custGeom>
                <a:avLst/>
                <a:gdLst/>
                <a:ahLst/>
                <a:rect l="l" t="t" r="r" b="b"/>
                <a:pathLst>
                  <a:path w="41" h="7">
                    <a:moveTo>
                      <a:pt x="7" y="0"/>
                    </a:moveTo>
                    <a:lnTo>
                      <a:pt x="7" y="0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41" y="7"/>
                    </a:lnTo>
                    <a:lnTo>
                      <a:pt x="41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62280" y="447840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405480" y="4478400"/>
                <a:ext cx="55800" cy="10440"/>
              </a:xfrm>
              <a:custGeom>
                <a:avLst/>
                <a:gdLst/>
                <a:ahLst/>
                <a:rect l="l" t="t" r="r" b="b"/>
                <a:pathLst>
                  <a:path w="35" h="7">
                    <a:moveTo>
                      <a:pt x="0" y="0"/>
                    </a:move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28" y="7"/>
                    </a:lnTo>
                    <a:lnTo>
                      <a:pt x="28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35" y="7"/>
                    </a:lnTo>
                    <a:lnTo>
                      <a:pt x="28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374800" y="45828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0" y="7"/>
                    </a:lnTo>
                    <a:lnTo>
                      <a:pt x="20" y="0"/>
                    </a:lnTo>
                    <a:lnTo>
                      <a:pt x="20" y="7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331600" y="4635000"/>
                <a:ext cx="2052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13" y="7"/>
                    </a:moveTo>
                    <a:lnTo>
                      <a:pt x="13" y="7"/>
                    </a:ln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13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275440" y="4667400"/>
                <a:ext cx="44640" cy="30600"/>
              </a:xfrm>
              <a:custGeom>
                <a:avLst/>
                <a:gdLst/>
                <a:ahLst/>
                <a:rect l="l" t="t" r="r" b="b"/>
                <a:pathLst>
                  <a:path w="28" h="20">
                    <a:moveTo>
                      <a:pt x="28" y="7"/>
                    </a:moveTo>
                    <a:lnTo>
                      <a:pt x="28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7" y="20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243040" y="470880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177520" y="4740840"/>
                <a:ext cx="43200" cy="4176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143680" y="4793400"/>
                <a:ext cx="22320" cy="20160"/>
              </a:xfrm>
              <a:custGeom>
                <a:avLst/>
                <a:gdLst/>
                <a:ahLst/>
                <a:rect l="l" t="t" r="r" b="b"/>
                <a:pathLst>
                  <a:path w="14" h="13">
                    <a:moveTo>
                      <a:pt x="7" y="7"/>
                    </a:move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077800" y="4813560"/>
                <a:ext cx="54360" cy="42480"/>
              </a:xfrm>
              <a:custGeom>
                <a:avLst/>
                <a:gdLst/>
                <a:ahLst/>
                <a:rect l="l" t="t" r="r" b="b"/>
                <a:pathLst>
                  <a:path w="34" h="28">
                    <a:moveTo>
                      <a:pt x="28" y="7"/>
                    </a:moveTo>
                    <a:lnTo>
                      <a:pt x="34" y="7"/>
                    </a:lnTo>
                    <a:lnTo>
                      <a:pt x="34" y="7"/>
                    </a:lnTo>
                    <a:lnTo>
                      <a:pt x="34" y="7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7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7" y="28"/>
                    </a:lnTo>
                    <a:lnTo>
                      <a:pt x="2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045760" y="48672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3" h="13">
                    <a:moveTo>
                      <a:pt x="13" y="6"/>
                    </a:move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13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991400" y="4897800"/>
                <a:ext cx="43200" cy="4284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0" y="7"/>
                    </a:move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0" y="28"/>
                    </a:lnTo>
                    <a:lnTo>
                      <a:pt x="2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946400" y="4950000"/>
                <a:ext cx="2196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14" y="7"/>
                    </a:move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891680" y="49716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1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7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859280" y="5023800"/>
                <a:ext cx="20880" cy="21240"/>
              </a:xfrm>
              <a:custGeom>
                <a:avLst/>
                <a:gdLst/>
                <a:ahLst/>
                <a:rect l="l" t="t" r="r" b="b"/>
                <a:pathLst>
                  <a:path w="13" h="14">
                    <a:moveTo>
                      <a:pt x="6" y="7"/>
                    </a:moveTo>
                    <a:lnTo>
                      <a:pt x="13" y="7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6" y="7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793760" y="504540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7" y="7"/>
                    </a:move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7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7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6" y="27"/>
                    </a:lnTo>
                    <a:lnTo>
                      <a:pt x="2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759920" y="5097600"/>
                <a:ext cx="22320" cy="2124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7"/>
                    </a:moveTo>
                    <a:lnTo>
                      <a:pt x="14" y="7"/>
                    </a:lnTo>
                    <a:lnTo>
                      <a:pt x="14" y="7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7" y="14"/>
                    </a:lnTo>
                    <a:lnTo>
                      <a:pt x="14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705560" y="5129640"/>
                <a:ext cx="43200" cy="41400"/>
              </a:xfrm>
              <a:custGeom>
                <a:avLst/>
                <a:gdLst/>
                <a:ahLst/>
                <a:rect l="l" t="t" r="r" b="b"/>
                <a:pathLst>
                  <a:path w="27" h="27">
                    <a:moveTo>
                      <a:pt x="20" y="6"/>
                    </a:moveTo>
                    <a:lnTo>
                      <a:pt x="27" y="6"/>
                    </a:lnTo>
                    <a:lnTo>
                      <a:pt x="27" y="6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20" y="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0" y="27"/>
                    </a:lnTo>
                    <a:lnTo>
                      <a:pt x="2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671720" y="518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3234960" y="4813560"/>
                <a:ext cx="30636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3234960" y="4813560"/>
                <a:ext cx="2854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234960" y="4824360"/>
                <a:ext cx="3402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234960" y="4834800"/>
                <a:ext cx="3402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3234960" y="48348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146760" y="4845600"/>
                <a:ext cx="8820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3718080" y="4941000"/>
                <a:ext cx="3063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718080" y="4941000"/>
                <a:ext cx="2840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3718080" y="4950000"/>
                <a:ext cx="34020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3718080" y="4950000"/>
                <a:ext cx="34020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3718080" y="495000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A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630240" y="4887000"/>
                <a:ext cx="87840" cy="630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80964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646760" y="1066680"/>
                <a:ext cx="11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1401840" y="3344040"/>
                <a:ext cx="18576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1456200" y="3365280"/>
                <a:ext cx="1537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1456200" y="3376080"/>
                <a:ext cx="14256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1456200" y="3376080"/>
                <a:ext cx="9936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1456200" y="3376080"/>
                <a:ext cx="16524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1456200" y="3386880"/>
                <a:ext cx="16524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1456560" y="3386880"/>
                <a:ext cx="92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1873440" y="3344040"/>
                <a:ext cx="374040" cy="188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1973160" y="3365280"/>
                <a:ext cx="25164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1973160" y="3376080"/>
                <a:ext cx="2178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1973160" y="3376080"/>
                <a:ext cx="2178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1973160" y="3376080"/>
                <a:ext cx="28368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1973160" y="3386880"/>
                <a:ext cx="27432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1973160" y="3386880"/>
                <a:ext cx="197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1127160" y="3165480"/>
                <a:ext cx="29700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1181880" y="3187080"/>
                <a:ext cx="2422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1181880" y="3197880"/>
                <a:ext cx="21960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1181880" y="3197880"/>
                <a:ext cx="18756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1181880" y="3208680"/>
                <a:ext cx="24228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1181880" y="3217680"/>
                <a:ext cx="24228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1181520" y="3217680"/>
                <a:ext cx="16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1587960" y="3165480"/>
                <a:ext cx="394920" cy="199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1676160" y="3187080"/>
                <a:ext cx="28548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1676160" y="3197880"/>
                <a:ext cx="25164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676160" y="3197880"/>
                <a:ext cx="20844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676160" y="3208680"/>
                <a:ext cx="263160" cy="17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1676160" y="3217680"/>
                <a:ext cx="251640" cy="179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1676520" y="321768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48120" y="3039480"/>
                <a:ext cx="483120" cy="325440"/>
              </a:xfrm>
              <a:prstGeom prst="rect">
                <a:avLst/>
              </a:prstGeom>
              <a:noFill/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2480" y="3187080"/>
                <a:ext cx="439920" cy="16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02480" y="3197880"/>
                <a:ext cx="439920" cy="15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279880" y="3197880"/>
                <a:ext cx="231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236680" y="3039480"/>
                <a:ext cx="4269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236680" y="3050280"/>
                <a:ext cx="329040" cy="158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235960" y="3050280"/>
                <a:ext cx="26136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SS/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236680" y="3187080"/>
                <a:ext cx="471600" cy="15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236680" y="3187080"/>
                <a:ext cx="40608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GERA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140184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1962000" y="3250080"/>
                <a:ext cx="185760" cy="21240"/>
              </a:xfrm>
              <a:custGeom>
                <a:avLst/>
                <a:gdLst/>
                <a:ahLst/>
                <a:rect l="l" t="t" r="r" b="b"/>
                <a:pathLst>
                  <a:path w="116" h="14">
                    <a:moveTo>
                      <a:pt x="0" y="0"/>
                    </a:moveTo>
                    <a:lnTo>
                      <a:pt x="0" y="14"/>
                    </a:lnTo>
                    <a:lnTo>
                      <a:pt x="116" y="14"/>
                    </a:lnTo>
                    <a:lnTo>
                      <a:pt x="11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148968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048760" y="3165480"/>
                <a:ext cx="11160" cy="188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2620080" y="3281040"/>
                <a:ext cx="81216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828880" y="3029040"/>
                <a:ext cx="186120" cy="15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03840" y="3291840"/>
                <a:ext cx="18576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58560" y="3260520"/>
                <a:ext cx="2422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057840" y="3260520"/>
                <a:ext cx="16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b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355200" y="4404960"/>
                <a:ext cx="33840" cy="21240"/>
              </a:xfrm>
              <a:custGeom>
                <a:avLst/>
                <a:gdLst/>
                <a:ahLst/>
                <a:rect l="l" t="t" r="r" b="b"/>
                <a:pathLst>
                  <a:path w="21" h="14">
                    <a:moveTo>
                      <a:pt x="21" y="14"/>
                    </a:move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21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0"/>
                    </a:lnTo>
                    <a:lnTo>
                      <a:pt x="2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332880" y="4383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00840" y="43527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267000" y="4331160"/>
                <a:ext cx="22320" cy="10440"/>
              </a:xfrm>
              <a:custGeom>
                <a:avLst/>
                <a:gdLst/>
                <a:ahLst/>
                <a:rect l="l" t="t" r="r" b="b"/>
                <a:pathLst>
                  <a:path w="14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234960" y="430056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212640" y="42897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169080" y="4257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146760" y="4236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103200" y="4205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080880" y="4183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037320" y="4153320"/>
                <a:ext cx="32040" cy="1980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3015360" y="4131720"/>
                <a:ext cx="1080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971800" y="4101120"/>
                <a:ext cx="31680" cy="3060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949480" y="40795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905920" y="40471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883600" y="403776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840040" y="40053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817360" y="3984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774160" y="3953160"/>
                <a:ext cx="31680" cy="21240"/>
              </a:xfrm>
              <a:custGeom>
                <a:avLst/>
                <a:gdLst/>
                <a:ahLst/>
                <a:rect l="l" t="t" r="r" b="b"/>
                <a:pathLst>
                  <a:path w="20" h="14">
                    <a:moveTo>
                      <a:pt x="13" y="14"/>
                    </a:move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751480" y="3931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708280" y="3900960"/>
                <a:ext cx="32040" cy="20160"/>
              </a:xfrm>
              <a:custGeom>
                <a:avLst/>
                <a:gdLst/>
                <a:ahLst/>
                <a:rect l="l" t="t" r="r" b="b"/>
                <a:pathLst>
                  <a:path w="20" h="13">
                    <a:moveTo>
                      <a:pt x="13" y="13"/>
                    </a:moveTo>
                    <a:lnTo>
                      <a:pt x="13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685960" y="3879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642760" y="3848760"/>
                <a:ext cx="31680" cy="30960"/>
              </a:xfrm>
              <a:custGeom>
                <a:avLst/>
                <a:gdLst/>
                <a:ahLst/>
                <a:rect l="l" t="t" r="r" b="b"/>
                <a:pathLst>
                  <a:path w="20" h="20">
                    <a:moveTo>
                      <a:pt x="13" y="13"/>
                    </a:moveTo>
                    <a:lnTo>
                      <a:pt x="13" y="20"/>
                    </a:lnTo>
                    <a:lnTo>
                      <a:pt x="20" y="20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20" y="13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1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620080" y="38275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7" y="7"/>
                    </a:moveTo>
                    <a:lnTo>
                      <a:pt x="7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2619720" y="3281040"/>
                <a:ext cx="1009800" cy="5248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3377880" y="4415760"/>
                <a:ext cx="2088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3366360" y="43941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3332880" y="43527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3312000" y="4320360"/>
                <a:ext cx="9720" cy="21240"/>
              </a:xfrm>
              <a:custGeom>
                <a:avLst/>
                <a:gdLst/>
                <a:ahLst/>
                <a:rect l="l" t="t" r="r" b="b"/>
                <a:pathLst>
                  <a:path w="6" h="14">
                    <a:moveTo>
                      <a:pt x="6" y="14"/>
                    </a:move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14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6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3289680" y="4278960"/>
                <a:ext cx="2196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20"/>
                    </a:moveTo>
                    <a:lnTo>
                      <a:pt x="7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3267000" y="425736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3246480" y="4215960"/>
                <a:ext cx="20520" cy="3096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6" y="20"/>
                    </a:moveTo>
                    <a:lnTo>
                      <a:pt x="6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3223800" y="41947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3201120" y="4153320"/>
                <a:ext cx="22320" cy="30600"/>
              </a:xfrm>
              <a:custGeom>
                <a:avLst/>
                <a:gdLst/>
                <a:ahLst/>
                <a:rect l="l" t="t" r="r" b="b"/>
                <a:pathLst>
                  <a:path w="14" h="20">
                    <a:moveTo>
                      <a:pt x="7" y="13"/>
                    </a:moveTo>
                    <a:lnTo>
                      <a:pt x="7" y="13"/>
                    </a:lnTo>
                    <a:lnTo>
                      <a:pt x="7" y="20"/>
                    </a:lnTo>
                    <a:lnTo>
                      <a:pt x="7" y="20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14" y="1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3180600" y="4120920"/>
                <a:ext cx="9360" cy="10440"/>
              </a:xfrm>
              <a:custGeom>
                <a:avLst/>
                <a:gdLst/>
                <a:ahLst/>
                <a:rect l="l" t="t" r="r" b="b"/>
                <a:pathLst>
                  <a:path w="6" h="7">
                    <a:moveTo>
                      <a:pt x="0" y="7"/>
                    </a:move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7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3146760" y="4079520"/>
                <a:ext cx="33840" cy="30600"/>
              </a:xfrm>
              <a:custGeom>
                <a:avLst/>
                <a:gdLst/>
                <a:ahLst/>
                <a:rect l="l" t="t" r="r" b="b"/>
                <a:pathLst>
                  <a:path w="21" h="20">
                    <a:moveTo>
                      <a:pt x="14" y="20"/>
                    </a:move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14" y="20"/>
                    </a:lnTo>
                    <a:lnTo>
                      <a:pt x="21" y="20"/>
                    </a:lnTo>
                    <a:lnTo>
                      <a:pt x="21" y="20"/>
                    </a:lnTo>
                    <a:lnTo>
                      <a:pt x="14" y="2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3135240" y="40579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3103200" y="4016160"/>
                <a:ext cx="20520" cy="30600"/>
              </a:xfrm>
              <a:custGeom>
                <a:avLst/>
                <a:gdLst/>
                <a:ahLst/>
                <a:rect l="l" t="t" r="r" b="b"/>
                <a:pathLst>
                  <a:path w="13" h="20">
                    <a:moveTo>
                      <a:pt x="13" y="20"/>
                    </a:move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20"/>
                    </a:lnTo>
                    <a:lnTo>
                      <a:pt x="13" y="14"/>
                    </a:lnTo>
                    <a:lnTo>
                      <a:pt x="13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3092040" y="398412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3058560" y="394236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3037320" y="3921120"/>
                <a:ext cx="20880" cy="10440"/>
              </a:xfrm>
              <a:custGeom>
                <a:avLst/>
                <a:gdLst/>
                <a:ahLst/>
                <a:rect l="l" t="t" r="r" b="b"/>
                <a:pathLst>
                  <a:path w="13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13" y="7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3015360" y="3879720"/>
                <a:ext cx="2196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14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992680" y="385812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971800" y="380592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949480" y="3786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2917440" y="3742920"/>
                <a:ext cx="31680" cy="3204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21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20" y="21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2905920" y="3723120"/>
                <a:ext cx="11160" cy="90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872080" y="3679920"/>
                <a:ext cx="33840" cy="32040"/>
              </a:xfrm>
              <a:custGeom>
                <a:avLst/>
                <a:gdLst/>
                <a:ahLst/>
                <a:rect l="l" t="t" r="r" b="b"/>
                <a:pathLst>
                  <a:path w="21" h="21">
                    <a:moveTo>
                      <a:pt x="14" y="14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14"/>
                    </a:lnTo>
                    <a:lnTo>
                      <a:pt x="21" y="14"/>
                    </a:lnTo>
                    <a:lnTo>
                      <a:pt x="14" y="14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4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860920" y="3649320"/>
                <a:ext cx="11160" cy="19800"/>
              </a:xfrm>
              <a:custGeom>
                <a:avLst/>
                <a:gdLst/>
                <a:ahLst/>
                <a:rect l="l" t="t" r="r" b="b"/>
                <a:pathLst>
                  <a:path w="7" h="13">
                    <a:moveTo>
                      <a:pt x="0" y="7"/>
                    </a:moveTo>
                    <a:lnTo>
                      <a:pt x="0" y="13"/>
                    </a:lnTo>
                    <a:lnTo>
                      <a:pt x="0" y="13"/>
                    </a:lnTo>
                    <a:lnTo>
                      <a:pt x="7" y="13"/>
                    </a:lnTo>
                    <a:lnTo>
                      <a:pt x="7" y="13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828880" y="3606480"/>
                <a:ext cx="22320" cy="3168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14" y="21"/>
                    </a:move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1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817360" y="3586320"/>
                <a:ext cx="1116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785320" y="3543480"/>
                <a:ext cx="20520" cy="3168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6" y="21"/>
                    </a:moveTo>
                    <a:lnTo>
                      <a:pt x="6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6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763000" y="3523680"/>
                <a:ext cx="22320" cy="900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7" y="6"/>
                    </a:move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740680" y="3469680"/>
                <a:ext cx="21960" cy="32040"/>
              </a:xfrm>
              <a:custGeom>
                <a:avLst/>
                <a:gdLst/>
                <a:ahLst/>
                <a:rect l="l" t="t" r="r" b="b"/>
                <a:pathLst>
                  <a:path w="14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14" y="2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718000" y="3449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697480" y="3406680"/>
                <a:ext cx="20520" cy="32040"/>
              </a:xfrm>
              <a:custGeom>
                <a:avLst/>
                <a:gdLst/>
                <a:ahLst/>
                <a:rect l="l" t="t" r="r" b="b"/>
                <a:pathLst>
                  <a:path w="13" h="21">
                    <a:moveTo>
                      <a:pt x="7" y="21"/>
                    </a:moveTo>
                    <a:lnTo>
                      <a:pt x="7" y="21"/>
                    </a:lnTo>
                    <a:lnTo>
                      <a:pt x="7" y="21"/>
                    </a:lnTo>
                    <a:lnTo>
                      <a:pt x="7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7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674800" y="338688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0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642760" y="3344040"/>
                <a:ext cx="31680" cy="31680"/>
              </a:xfrm>
              <a:custGeom>
                <a:avLst/>
                <a:gdLst/>
                <a:ahLst/>
                <a:rect l="l" t="t" r="r" b="b"/>
                <a:pathLst>
                  <a:path w="20" h="21">
                    <a:moveTo>
                      <a:pt x="13" y="14"/>
                    </a:moveTo>
                    <a:lnTo>
                      <a:pt x="13" y="21"/>
                    </a:lnTo>
                    <a:lnTo>
                      <a:pt x="13" y="21"/>
                    </a:lnTo>
                    <a:lnTo>
                      <a:pt x="13" y="21"/>
                    </a:lnTo>
                    <a:lnTo>
                      <a:pt x="13" y="14"/>
                    </a:lnTo>
                    <a:lnTo>
                      <a:pt x="20" y="14"/>
                    </a:lnTo>
                    <a:lnTo>
                      <a:pt x="20" y="14"/>
                    </a:lnTo>
                    <a:lnTo>
                      <a:pt x="13" y="14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3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631600" y="3313080"/>
                <a:ext cx="11160" cy="2124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0" y="7"/>
                    </a:moveTo>
                    <a:lnTo>
                      <a:pt x="0" y="14"/>
                    </a:lnTo>
                    <a:lnTo>
                      <a:pt x="0" y="14"/>
                    </a:lnTo>
                    <a:lnTo>
                      <a:pt x="7" y="14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608920" y="3291840"/>
                <a:ext cx="11160" cy="1044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7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817360" y="3417480"/>
                <a:ext cx="9972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817360" y="34282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817360" y="3439080"/>
                <a:ext cx="15408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817000" y="3439080"/>
                <a:ext cx="84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917440" y="3406680"/>
                <a:ext cx="97920" cy="95400"/>
              </a:xfrm>
              <a:custGeom>
                <a:avLst/>
                <a:gdLst/>
                <a:ahLst/>
                <a:rect l="l" t="t" r="r" b="b"/>
                <a:pathLst>
                  <a:path w="61" h="62">
                    <a:moveTo>
                      <a:pt x="0" y="62"/>
                    </a:moveTo>
                    <a:lnTo>
                      <a:pt x="0" y="62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708280" y="3449880"/>
                <a:ext cx="97920" cy="104400"/>
              </a:xfrm>
              <a:custGeom>
                <a:avLst/>
                <a:gdLst/>
                <a:ahLst/>
                <a:rect l="l" t="t" r="r" b="b"/>
                <a:pathLst>
                  <a:path w="61" h="68">
                    <a:moveTo>
                      <a:pt x="0" y="61"/>
                    </a:moveTo>
                    <a:lnTo>
                      <a:pt x="6" y="68"/>
                    </a:lnTo>
                    <a:lnTo>
                      <a:pt x="61" y="7"/>
                    </a:lnTo>
                    <a:lnTo>
                      <a:pt x="54" y="0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652120" y="3228480"/>
                <a:ext cx="780120" cy="108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169080" y="3271320"/>
                <a:ext cx="11160" cy="414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785320" y="3197880"/>
                <a:ext cx="1440" cy="52200"/>
              </a:xfrm>
              <a:prstGeom prst="line">
                <a:avLst/>
              </a:prstGeom>
              <a:ln w="11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740680" y="3029040"/>
                <a:ext cx="119880" cy="1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740680" y="3039480"/>
                <a:ext cx="176400" cy="17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739960" y="3039480"/>
                <a:ext cx="105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u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638440" y="3581280"/>
              <a:ext cx="4952880" cy="12956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095640" y="3124080"/>
              <a:ext cx="2514600" cy="4572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162320" y="2133720"/>
              <a:ext cx="3657600" cy="114300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00160" y="4572000"/>
              <a:ext cx="19969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ircuit-Switch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1876320" y="4571640"/>
              <a:ext cx="7621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00160" y="2133720"/>
              <a:ext cx="1844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acket 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876320" y="2590920"/>
              <a:ext cx="13716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7443000" y="3200400"/>
              <a:ext cx="1285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Med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om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H="1" flipV="1">
              <a:off x="7819560" y="2971440"/>
              <a:ext cx="2286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"/>
          <p:cNvSpPr/>
          <p:nvPr/>
        </p:nvSpPr>
        <p:spPr>
          <a:xfrm>
            <a:off x="3047400" y="409680"/>
            <a:ext cx="30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5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Multi-Media Domain - Summ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2" name=""/>
          <p:cNvGraphicFramePr/>
          <p:nvPr/>
        </p:nvGraphicFramePr>
        <p:xfrm>
          <a:off x="4876920" y="4343400"/>
          <a:ext cx="3581280" cy="1523880"/>
        </p:xfrm>
        <a:graphic>
          <a:graphicData uri="http://schemas.openxmlformats.org/drawingml/2006/table">
            <a:tbl>
              <a:tblPr/>
              <a:tblGrid>
                <a:gridCol w="685800"/>
                <a:gridCol w="1676520"/>
                <a:gridCol w="121896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nten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 and HI-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 and HI-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461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SC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GS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ession content under control of CSCF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3" name=""/>
          <p:cNvSpPr/>
          <p:nvPr/>
        </p:nvSpPr>
        <p:spPr>
          <a:xfrm>
            <a:off x="609480" y="2590920"/>
            <a:ext cx="0" cy="3808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914400" y="3048120"/>
            <a:ext cx="53352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 flipV="1">
            <a:off x="1676520" y="2361960"/>
            <a:ext cx="4572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895480" y="2362320"/>
            <a:ext cx="99072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762120" y="259092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914400" y="3124080"/>
            <a:ext cx="533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209680" y="3124080"/>
            <a:ext cx="9144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447920" y="28954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3124080" y="289548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2133720" y="2209680"/>
            <a:ext cx="7617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S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7200" y="2286000"/>
            <a:ext cx="45720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457200" y="2895480"/>
            <a:ext cx="5335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A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1067400" y="274320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3841920" y="1981080"/>
            <a:ext cx="1460160" cy="80820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035600" y="1959120"/>
            <a:ext cx="100152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189680" y="2179800"/>
            <a:ext cx="762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4164120" y="2362320"/>
            <a:ext cx="816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IP 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2133720" y="3352680"/>
            <a:ext cx="0" cy="152424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819520" y="2743200"/>
            <a:ext cx="0" cy="2209680"/>
          </a:xfrm>
          <a:prstGeom prst="line">
            <a:avLst/>
          </a:prstGeom>
          <a:ln cap="rnd" w="28440">
            <a:solidFill>
              <a:srgbClr val="ff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1981080" y="3048120"/>
            <a:ext cx="30492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2666880" y="2438280"/>
            <a:ext cx="304920" cy="304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23637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327816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16783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362320" y="3429000"/>
            <a:ext cx="4572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 flipV="1">
            <a:off x="3581280" y="2514600"/>
            <a:ext cx="533520" cy="3808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200400" y="3352680"/>
            <a:ext cx="0" cy="1600200"/>
          </a:xfrm>
          <a:prstGeom prst="line">
            <a:avLst/>
          </a:prstGeom>
          <a:ln w="381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905120" y="3809880"/>
            <a:ext cx="15238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Deliver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048120" y="3048120"/>
            <a:ext cx="304560" cy="304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33cc"/>
                </a:solidFill>
                <a:latin typeface="Times New Roman"/>
              </a:rPr>
              <a:t>IA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3278520" y="34290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278520" y="21337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1830600" y="259092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S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1601640" y="4343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981080" y="4800600"/>
            <a:ext cx="137160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cc"/>
                </a:solidFill>
                <a:latin typeface="Times New Roman"/>
              </a:rPr>
              <a:t>LE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3886200" y="3505320"/>
            <a:ext cx="914400" cy="533160"/>
          </a:xfrm>
          <a:prstGeom prst="wedgeRoundRectCallout">
            <a:avLst>
              <a:gd name="adj1" fmla="val -67013"/>
              <a:gd name="adj2" fmla="val -124703"/>
              <a:gd name="adj3" fmla="val 16667"/>
            </a:avLst>
          </a:prstGeom>
          <a:noFill/>
          <a:ln w="190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Nation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cc99"/>
                </a:solidFill>
                <a:latin typeface="Times New Roman"/>
              </a:rPr>
              <a:t>Op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7095960" y="2827440"/>
            <a:ext cx="1460520" cy="807840"/>
          </a:xfrm>
          <a:custGeom>
            <a:avLst/>
            <a:gdLst/>
            <a:ahLst/>
            <a:rect l="l" t="t" r="r" b="b"/>
            <a:pathLst>
              <a:path w="920" h="509">
                <a:moveTo>
                  <a:pt x="290" y="74"/>
                </a:moveTo>
                <a:lnTo>
                  <a:pt x="310" y="68"/>
                </a:lnTo>
                <a:lnTo>
                  <a:pt x="329" y="62"/>
                </a:lnTo>
                <a:lnTo>
                  <a:pt x="347" y="57"/>
                </a:lnTo>
                <a:lnTo>
                  <a:pt x="364" y="52"/>
                </a:lnTo>
                <a:lnTo>
                  <a:pt x="379" y="47"/>
                </a:lnTo>
                <a:lnTo>
                  <a:pt x="394" y="42"/>
                </a:lnTo>
                <a:lnTo>
                  <a:pt x="420" y="34"/>
                </a:lnTo>
                <a:lnTo>
                  <a:pt x="444" y="26"/>
                </a:lnTo>
                <a:lnTo>
                  <a:pt x="465" y="19"/>
                </a:lnTo>
                <a:lnTo>
                  <a:pt x="485" y="14"/>
                </a:lnTo>
                <a:lnTo>
                  <a:pt x="504" y="9"/>
                </a:lnTo>
                <a:lnTo>
                  <a:pt x="523" y="6"/>
                </a:lnTo>
                <a:lnTo>
                  <a:pt x="542" y="3"/>
                </a:lnTo>
                <a:lnTo>
                  <a:pt x="562" y="1"/>
                </a:lnTo>
                <a:lnTo>
                  <a:pt x="584" y="0"/>
                </a:lnTo>
                <a:lnTo>
                  <a:pt x="608" y="0"/>
                </a:lnTo>
                <a:lnTo>
                  <a:pt x="635" y="1"/>
                </a:lnTo>
                <a:lnTo>
                  <a:pt x="650" y="2"/>
                </a:lnTo>
                <a:lnTo>
                  <a:pt x="666" y="3"/>
                </a:lnTo>
                <a:lnTo>
                  <a:pt x="683" y="5"/>
                </a:lnTo>
                <a:lnTo>
                  <a:pt x="701" y="6"/>
                </a:lnTo>
                <a:lnTo>
                  <a:pt x="708" y="17"/>
                </a:lnTo>
                <a:lnTo>
                  <a:pt x="713" y="26"/>
                </a:lnTo>
                <a:lnTo>
                  <a:pt x="718" y="34"/>
                </a:lnTo>
                <a:lnTo>
                  <a:pt x="723" y="41"/>
                </a:lnTo>
                <a:lnTo>
                  <a:pt x="726" y="47"/>
                </a:lnTo>
                <a:lnTo>
                  <a:pt x="729" y="52"/>
                </a:lnTo>
                <a:lnTo>
                  <a:pt x="733" y="59"/>
                </a:lnTo>
                <a:lnTo>
                  <a:pt x="735" y="64"/>
                </a:lnTo>
                <a:lnTo>
                  <a:pt x="735" y="68"/>
                </a:lnTo>
                <a:lnTo>
                  <a:pt x="734" y="71"/>
                </a:lnTo>
                <a:lnTo>
                  <a:pt x="732" y="76"/>
                </a:lnTo>
                <a:lnTo>
                  <a:pt x="731" y="83"/>
                </a:lnTo>
                <a:lnTo>
                  <a:pt x="730" y="87"/>
                </a:lnTo>
                <a:lnTo>
                  <a:pt x="729" y="92"/>
                </a:lnTo>
                <a:lnTo>
                  <a:pt x="728" y="98"/>
                </a:lnTo>
                <a:lnTo>
                  <a:pt x="728" y="105"/>
                </a:lnTo>
                <a:lnTo>
                  <a:pt x="727" y="114"/>
                </a:lnTo>
                <a:lnTo>
                  <a:pt x="727" y="124"/>
                </a:lnTo>
                <a:lnTo>
                  <a:pt x="728" y="135"/>
                </a:lnTo>
                <a:lnTo>
                  <a:pt x="729" y="148"/>
                </a:lnTo>
                <a:lnTo>
                  <a:pt x="730" y="163"/>
                </a:lnTo>
                <a:lnTo>
                  <a:pt x="732" y="180"/>
                </a:lnTo>
                <a:lnTo>
                  <a:pt x="734" y="199"/>
                </a:lnTo>
                <a:lnTo>
                  <a:pt x="737" y="220"/>
                </a:lnTo>
                <a:lnTo>
                  <a:pt x="741" y="243"/>
                </a:lnTo>
                <a:lnTo>
                  <a:pt x="745" y="269"/>
                </a:lnTo>
                <a:lnTo>
                  <a:pt x="748" y="275"/>
                </a:lnTo>
                <a:lnTo>
                  <a:pt x="753" y="281"/>
                </a:lnTo>
                <a:lnTo>
                  <a:pt x="760" y="288"/>
                </a:lnTo>
                <a:lnTo>
                  <a:pt x="770" y="295"/>
                </a:lnTo>
                <a:lnTo>
                  <a:pt x="781" y="303"/>
                </a:lnTo>
                <a:lnTo>
                  <a:pt x="793" y="310"/>
                </a:lnTo>
                <a:lnTo>
                  <a:pt x="807" y="318"/>
                </a:lnTo>
                <a:lnTo>
                  <a:pt x="821" y="326"/>
                </a:lnTo>
                <a:lnTo>
                  <a:pt x="850" y="342"/>
                </a:lnTo>
                <a:lnTo>
                  <a:pt x="878" y="357"/>
                </a:lnTo>
                <a:lnTo>
                  <a:pt x="891" y="364"/>
                </a:lnTo>
                <a:lnTo>
                  <a:pt x="902" y="371"/>
                </a:lnTo>
                <a:lnTo>
                  <a:pt x="912" y="377"/>
                </a:lnTo>
                <a:lnTo>
                  <a:pt x="920" y="383"/>
                </a:lnTo>
                <a:lnTo>
                  <a:pt x="912" y="403"/>
                </a:lnTo>
                <a:lnTo>
                  <a:pt x="900" y="421"/>
                </a:lnTo>
                <a:lnTo>
                  <a:pt x="885" y="437"/>
                </a:lnTo>
                <a:lnTo>
                  <a:pt x="868" y="450"/>
                </a:lnTo>
                <a:lnTo>
                  <a:pt x="849" y="461"/>
                </a:lnTo>
                <a:lnTo>
                  <a:pt x="827" y="471"/>
                </a:lnTo>
                <a:lnTo>
                  <a:pt x="804" y="479"/>
                </a:lnTo>
                <a:lnTo>
                  <a:pt x="780" y="485"/>
                </a:lnTo>
                <a:lnTo>
                  <a:pt x="754" y="491"/>
                </a:lnTo>
                <a:lnTo>
                  <a:pt x="728" y="495"/>
                </a:lnTo>
                <a:lnTo>
                  <a:pt x="674" y="501"/>
                </a:lnTo>
                <a:lnTo>
                  <a:pt x="620" y="505"/>
                </a:lnTo>
                <a:lnTo>
                  <a:pt x="594" y="507"/>
                </a:lnTo>
                <a:lnTo>
                  <a:pt x="569" y="509"/>
                </a:lnTo>
                <a:lnTo>
                  <a:pt x="510" y="507"/>
                </a:lnTo>
                <a:lnTo>
                  <a:pt x="451" y="505"/>
                </a:lnTo>
                <a:lnTo>
                  <a:pt x="392" y="502"/>
                </a:lnTo>
                <a:lnTo>
                  <a:pt x="333" y="498"/>
                </a:lnTo>
                <a:lnTo>
                  <a:pt x="322" y="497"/>
                </a:lnTo>
                <a:lnTo>
                  <a:pt x="313" y="494"/>
                </a:lnTo>
                <a:lnTo>
                  <a:pt x="304" y="492"/>
                </a:lnTo>
                <a:lnTo>
                  <a:pt x="297" y="489"/>
                </a:lnTo>
                <a:lnTo>
                  <a:pt x="284" y="481"/>
                </a:lnTo>
                <a:lnTo>
                  <a:pt x="273" y="471"/>
                </a:lnTo>
                <a:lnTo>
                  <a:pt x="264" y="461"/>
                </a:lnTo>
                <a:lnTo>
                  <a:pt x="254" y="450"/>
                </a:lnTo>
                <a:lnTo>
                  <a:pt x="244" y="439"/>
                </a:lnTo>
                <a:lnTo>
                  <a:pt x="232" y="428"/>
                </a:lnTo>
                <a:lnTo>
                  <a:pt x="221" y="422"/>
                </a:lnTo>
                <a:lnTo>
                  <a:pt x="210" y="417"/>
                </a:lnTo>
                <a:lnTo>
                  <a:pt x="198" y="412"/>
                </a:lnTo>
                <a:lnTo>
                  <a:pt x="187" y="406"/>
                </a:lnTo>
                <a:lnTo>
                  <a:pt x="172" y="395"/>
                </a:lnTo>
                <a:lnTo>
                  <a:pt x="158" y="383"/>
                </a:lnTo>
                <a:lnTo>
                  <a:pt x="154" y="370"/>
                </a:lnTo>
                <a:lnTo>
                  <a:pt x="150" y="358"/>
                </a:lnTo>
                <a:lnTo>
                  <a:pt x="146" y="347"/>
                </a:lnTo>
                <a:lnTo>
                  <a:pt x="143" y="337"/>
                </a:lnTo>
                <a:lnTo>
                  <a:pt x="136" y="320"/>
                </a:lnTo>
                <a:lnTo>
                  <a:pt x="128" y="306"/>
                </a:lnTo>
                <a:lnTo>
                  <a:pt x="123" y="300"/>
                </a:lnTo>
                <a:lnTo>
                  <a:pt x="118" y="295"/>
                </a:lnTo>
                <a:lnTo>
                  <a:pt x="111" y="290"/>
                </a:lnTo>
                <a:lnTo>
                  <a:pt x="103" y="285"/>
                </a:lnTo>
                <a:lnTo>
                  <a:pt x="94" y="281"/>
                </a:lnTo>
                <a:lnTo>
                  <a:pt x="83" y="277"/>
                </a:lnTo>
                <a:lnTo>
                  <a:pt x="70" y="273"/>
                </a:lnTo>
                <a:lnTo>
                  <a:pt x="55" y="269"/>
                </a:lnTo>
                <a:lnTo>
                  <a:pt x="38" y="247"/>
                </a:lnTo>
                <a:lnTo>
                  <a:pt x="23" y="224"/>
                </a:lnTo>
                <a:lnTo>
                  <a:pt x="11" y="202"/>
                </a:lnTo>
                <a:lnTo>
                  <a:pt x="6" y="190"/>
                </a:lnTo>
                <a:lnTo>
                  <a:pt x="3" y="178"/>
                </a:lnTo>
                <a:lnTo>
                  <a:pt x="0" y="166"/>
                </a:lnTo>
                <a:lnTo>
                  <a:pt x="0" y="154"/>
                </a:lnTo>
                <a:lnTo>
                  <a:pt x="0" y="142"/>
                </a:lnTo>
                <a:lnTo>
                  <a:pt x="2" y="129"/>
                </a:lnTo>
                <a:lnTo>
                  <a:pt x="5" y="116"/>
                </a:lnTo>
                <a:lnTo>
                  <a:pt x="11" y="102"/>
                </a:lnTo>
                <a:lnTo>
                  <a:pt x="18" y="88"/>
                </a:lnTo>
                <a:lnTo>
                  <a:pt x="27" y="74"/>
                </a:lnTo>
                <a:lnTo>
                  <a:pt x="30" y="70"/>
                </a:lnTo>
                <a:lnTo>
                  <a:pt x="35" y="67"/>
                </a:lnTo>
                <a:lnTo>
                  <a:pt x="47" y="62"/>
                </a:lnTo>
                <a:lnTo>
                  <a:pt x="61" y="58"/>
                </a:lnTo>
                <a:lnTo>
                  <a:pt x="76" y="55"/>
                </a:lnTo>
                <a:lnTo>
                  <a:pt x="90" y="53"/>
                </a:lnTo>
                <a:lnTo>
                  <a:pt x="102" y="53"/>
                </a:lnTo>
                <a:lnTo>
                  <a:pt x="107" y="52"/>
                </a:lnTo>
                <a:lnTo>
                  <a:pt x="111" y="52"/>
                </a:lnTo>
                <a:lnTo>
                  <a:pt x="113" y="52"/>
                </a:lnTo>
                <a:lnTo>
                  <a:pt x="114" y="52"/>
                </a:lnTo>
                <a:lnTo>
                  <a:pt x="150" y="54"/>
                </a:lnTo>
                <a:lnTo>
                  <a:pt x="187" y="56"/>
                </a:lnTo>
                <a:lnTo>
                  <a:pt x="224" y="59"/>
                </a:lnTo>
                <a:lnTo>
                  <a:pt x="260" y="63"/>
                </a:lnTo>
                <a:lnTo>
                  <a:pt x="271" y="67"/>
                </a:lnTo>
                <a:lnTo>
                  <a:pt x="279" y="72"/>
                </a:lnTo>
                <a:lnTo>
                  <a:pt x="284" y="77"/>
                </a:lnTo>
                <a:lnTo>
                  <a:pt x="288" y="82"/>
                </a:lnTo>
                <a:lnTo>
                  <a:pt x="290" y="85"/>
                </a:lnTo>
                <a:lnTo>
                  <a:pt x="290" y="85"/>
                </a:lnTo>
                <a:lnTo>
                  <a:pt x="290" y="84"/>
                </a:lnTo>
                <a:lnTo>
                  <a:pt x="290" y="82"/>
                </a:lnTo>
                <a:lnTo>
                  <a:pt x="290" y="79"/>
                </a:lnTo>
                <a:lnTo>
                  <a:pt x="290" y="74"/>
                </a:lnTo>
                <a:close/>
              </a:path>
            </a:pathLst>
          </a:custGeom>
          <a:noFill/>
          <a:ln w="9360">
            <a:solidFill>
              <a:srgbClr val="cc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7311960" y="3025800"/>
            <a:ext cx="100188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7543800" y="3048120"/>
            <a:ext cx="6256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PST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H="1" flipV="1">
            <a:off x="7391160" y="2361960"/>
            <a:ext cx="228600" cy="53316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095880" y="2362320"/>
            <a:ext cx="0" cy="45720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6400800" y="2209680"/>
            <a:ext cx="685800" cy="0"/>
          </a:xfrm>
          <a:prstGeom prst="line">
            <a:avLst/>
          </a:prstGeom>
          <a:ln cap="rnd" w="2844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 flipV="1">
            <a:off x="6476760" y="2971440"/>
            <a:ext cx="685800" cy="22860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5715000" y="2819520"/>
            <a:ext cx="7621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571500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MG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7010280" y="2057400"/>
            <a:ext cx="7621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T-SG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987480" y="1447920"/>
            <a:ext cx="3146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/Sessions Directed to IP 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5715000" y="1447920"/>
            <a:ext cx="19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VoIP Directed to PST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5718960" y="3429000"/>
            <a:ext cx="136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Traffic Intercep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0000"/>
                </a:solidFill>
                <a:latin typeface="Times New Roman"/>
              </a:rPr>
              <a:t>@ SGSN/GGS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H="1">
            <a:off x="5562720" y="3886200"/>
            <a:ext cx="129528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"/>
          <p:cNvSpPr/>
          <p:nvPr/>
        </p:nvSpPr>
        <p:spPr>
          <a:xfrm>
            <a:off x="2163240" y="2492280"/>
            <a:ext cx="4444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3" name=""/>
          <p:cNvGraphicFramePr/>
          <p:nvPr/>
        </p:nvGraphicFramePr>
        <p:xfrm>
          <a:off x="571680" y="1295280"/>
          <a:ext cx="8001000" cy="4343400"/>
        </p:xfrm>
        <a:graphic>
          <a:graphicData uri="http://schemas.openxmlformats.org/drawingml/2006/table">
            <a:tbl>
              <a:tblPr/>
              <a:tblGrid>
                <a:gridCol w="1028520"/>
                <a:gridCol w="1066680"/>
                <a:gridCol w="1219320"/>
                <a:gridCol w="1143000"/>
                <a:gridCol w="3543480"/>
              </a:tblGrid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3.1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Adds support for Packet Domain (i.e., GPRS). Taken from GPRS LI architecture and capabiliti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4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rimary impact on the access to correlate and coordinate circuit-mode IRI from the server and content from the media gateway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Release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V5.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S 33.1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Support needed for Multi-Media services via CSCF. TS 33.107 addresses Access-DF (X)  interfaces. Impacts ETSI HI interface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49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uly ’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Delivery of Real Time MultiMedia services via HI interfaces needed. </a:t>
                      </a:r>
                      <a:r>
                        <a:rPr b="0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re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FTP, ROSE, and TCP/IP suitable for delivery of real-time communication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SIP Call/Session IRI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4" name=""/>
          <p:cNvSpPr/>
          <p:nvPr/>
        </p:nvSpPr>
        <p:spPr>
          <a:xfrm>
            <a:off x="2577600" y="380880"/>
            <a:ext cx="3987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Sum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 Capabilities for UMTS Re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5" name=""/>
          <p:cNvGraphicFramePr/>
          <p:nvPr/>
        </p:nvGraphicFramePr>
        <p:xfrm>
          <a:off x="457200" y="1447920"/>
          <a:ext cx="8229600" cy="4276440"/>
        </p:xfrm>
        <a:graphic>
          <a:graphicData uri="http://schemas.openxmlformats.org/drawingml/2006/table">
            <a:tbl>
              <a:tblPr/>
              <a:tblGrid>
                <a:gridCol w="1130040"/>
                <a:gridCol w="1403640"/>
                <a:gridCol w="1504800"/>
                <a:gridCol w="1981080"/>
                <a:gridCol w="2210040"/>
              </a:tblGrid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ircuit  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Packe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MultiMedia IP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Doma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omments/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0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T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Annex 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TB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I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91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3GP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GSM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S 201 6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dition 2 - Annex 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3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tatement on Q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X-2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 (QOS, 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4480" indent="-11448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ordinating CSCF services (IRI) with content @ GSN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1-T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ALE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circu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IDI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-STD-0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ot 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(QOS/transport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ing  C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26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U.S. J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I Re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3 GP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[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 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events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A.1.1.1 Reporting CA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(from  T1P1/2000-99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Pending FCC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Report and Ord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Commonali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Fundamental differences in ETSI and T1-TIA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based on packe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GPRS</a:t>
                      </a: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 ev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CC: not address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CDC: </a:t>
                      </a:r>
                      <a:r>
                        <a:rPr b="1" lang="en-US" sz="12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SIP signal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Content delivery  (QOS/transport issu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spcBef>
                          <a:spcPts val="300"/>
                        </a:spcBef>
                        <a:buClr>
                          <a:srgbClr val="ff33cc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cc"/>
                          </a:solidFill>
                          <a:latin typeface="Times New Roman"/>
                        </a:rPr>
                        <a:t>IRI/CRI Repor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96" name=""/>
          <p:cNvSpPr/>
          <p:nvPr/>
        </p:nvSpPr>
        <p:spPr>
          <a:xfrm>
            <a:off x="2673360" y="380880"/>
            <a:ext cx="379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UMTS LI Capabilities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3GPP/ETSI and T1-TIA CAL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"/>
          <p:cNvSpPr/>
          <p:nvPr/>
        </p:nvSpPr>
        <p:spPr>
          <a:xfrm>
            <a:off x="2128320" y="1752480"/>
            <a:ext cx="4444920" cy="30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Times New Roman"/>
              </a:rPr>
              <a:t>The End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3G UMTS LI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1P1.SA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pril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1823400" y="1981080"/>
            <a:ext cx="5444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MTS Release 9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acket Dom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LI Architecture and Capa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914400" y="342900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UTR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981800" y="2819520"/>
            <a:ext cx="32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29743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3582360" y="4648320"/>
            <a:ext cx="38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066680" y="5232240"/>
            <a:ext cx="685800" cy="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066680" y="546084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30600" y="5105520"/>
            <a:ext cx="76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gnal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f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374120" y="1295280"/>
            <a:ext cx="201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Add 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411880" y="464832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4345920" y="3809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G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828800" y="3657600"/>
            <a:ext cx="83808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2438280" y="4419720"/>
            <a:ext cx="7621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3276720" y="457200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267080" y="4419720"/>
            <a:ext cx="8384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GS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819520" y="2666880"/>
            <a:ext cx="1066680" cy="91440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flipH="1">
            <a:off x="3962160" y="2743200"/>
            <a:ext cx="990360" cy="83808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3962520" y="3581280"/>
            <a:ext cx="6858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 flipH="1">
            <a:off x="2971800" y="3581280"/>
            <a:ext cx="914400" cy="762120"/>
          </a:xfrm>
          <a:prstGeom prst="line">
            <a:avLst/>
          </a:prstGeom>
          <a:ln w="19080">
            <a:solidFill>
              <a:srgbClr val="00cc9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867280" y="41911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830600" y="41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5181480" y="45720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3505320" y="3429000"/>
            <a:ext cx="8380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HL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 flipV="1">
            <a:off x="1828800" y="2666880"/>
            <a:ext cx="83808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2590920" y="2209680"/>
            <a:ext cx="838080" cy="6858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3505320" y="2514600"/>
            <a:ext cx="1218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495680" y="2209680"/>
            <a:ext cx="9144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486400" y="25146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6095880" y="2133720"/>
            <a:ext cx="16002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PSTN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Legacy, Exter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cc"/>
                </a:solidFill>
                <a:latin typeface="Times New Roman"/>
              </a:rPr>
              <a:t>Networ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430440" y="29718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572000" y="2971800"/>
            <a:ext cx="29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820800" y="4430880"/>
            <a:ext cx="131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759600" y="220968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Circuit-Switch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3333cc"/>
                </a:solidFill>
                <a:latin typeface="Times New Roman"/>
              </a:rPr>
              <a:t>Doma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0" name=""/>
          <p:cNvGraphicFramePr/>
          <p:nvPr/>
        </p:nvGraphicFramePr>
        <p:xfrm>
          <a:off x="1828800" y="2209680"/>
          <a:ext cx="48290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48290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2" name=""/>
          <p:cNvSpPr/>
          <p:nvPr/>
        </p:nvSpPr>
        <p:spPr>
          <a:xfrm>
            <a:off x="1077840" y="1371600"/>
            <a:ext cx="596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1974240" y="5105520"/>
            <a:ext cx="406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MSC Circui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095880" y="3276720"/>
            <a:ext cx="1447920" cy="380880"/>
          </a:xfrm>
          <a:prstGeom prst="wedgeRoundRectCallout">
            <a:avLst>
              <a:gd name="adj1" fmla="val -47259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M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"/>
          <p:cNvSpPr/>
          <p:nvPr/>
        </p:nvSpPr>
        <p:spPr>
          <a:xfrm>
            <a:off x="685800" y="2895480"/>
            <a:ext cx="2438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1981080" y="34290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1143000" y="411480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523880" y="5410080"/>
            <a:ext cx="83844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1257480" y="2666880"/>
            <a:ext cx="144756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144792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49364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2135520" y="358128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990360" y="2057400"/>
            <a:ext cx="198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Content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114800" y="2895480"/>
            <a:ext cx="2133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5486400" y="34290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648320" y="4114800"/>
            <a:ext cx="16761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029200" y="5410080"/>
            <a:ext cx="83808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762440" y="2666880"/>
            <a:ext cx="144792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MSC, G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952880" y="3581280"/>
            <a:ext cx="45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998960" y="48006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725360" y="2057400"/>
            <a:ext cx="163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MSC IRI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57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688680" y="2971800"/>
            <a:ext cx="54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312408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3886200" y="274320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16600" y="2971800"/>
            <a:ext cx="646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000800" y="1371600"/>
            <a:ext cx="59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819520" y="4800600"/>
            <a:ext cx="1447560" cy="4777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ontent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ircuit-Switched TD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35520" y="4800600"/>
            <a:ext cx="535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TD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705720" y="3962520"/>
            <a:ext cx="1752480" cy="20980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- Call Establish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Ans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pplementary 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Hando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cc"/>
                </a:solidFill>
                <a:latin typeface="Times New Roman"/>
              </a:rPr>
              <a:t>Non-Call Related Event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Location 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buClr>
                <a:srgbClr val="33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Subscriber Controlled 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5639760" y="48006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IS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2209680" y="3048120"/>
            <a:ext cx="2895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3505320" y="358128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2666880" y="4267080"/>
            <a:ext cx="167652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Delivery Fun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3048120" y="5562720"/>
            <a:ext cx="8380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LE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2781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3G MS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2895480" y="3733920"/>
            <a:ext cx="53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X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973240" y="49528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HI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2514600" y="2133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cc"/>
                </a:solidFill>
                <a:uFillTx/>
                <a:latin typeface="Times New Roman"/>
              </a:rPr>
              <a:t>3G MSC SMS Interc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1981080" y="2895480"/>
            <a:ext cx="228600" cy="304920"/>
          </a:xfrm>
          <a:prstGeom prst="rect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2209680" y="32004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749160" y="1447920"/>
            <a:ext cx="76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*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o impact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on 3G MSC SMS LI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Architecture or Capabilities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(Circuit-Switched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067360" y="2819520"/>
            <a:ext cx="144792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Service Cen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3736080" y="4952880"/>
            <a:ext cx="108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MS 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"/>
          <p:cNvSpPr/>
          <p:nvPr/>
        </p:nvSpPr>
        <p:spPr>
          <a:xfrm>
            <a:off x="3708720" y="409680"/>
            <a:ext cx="172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Release 99 U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Times New Roman"/>
              </a:rPr>
              <a:t>Packet Do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8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4829040" cy="2743200"/>
          </a:xfrm>
          <a:prstGeom prst="rect">
            <a:avLst/>
          </a:prstGeom>
          <a:ln w="0">
            <a:noFill/>
          </a:ln>
        </p:spPr>
      </p:pic>
      <p:sp>
        <p:nvSpPr>
          <p:cNvPr id="1189" name=""/>
          <p:cNvSpPr/>
          <p:nvPr/>
        </p:nvSpPr>
        <p:spPr>
          <a:xfrm>
            <a:off x="1302840" y="1447920"/>
            <a:ext cx="54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ff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New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3G GSN Data LI</a:t>
            </a:r>
            <a:r>
              <a:rPr b="1" i="1" lang="en-US" sz="1600" spc="-1" strike="noStrike" u="sng">
                <a:solidFill>
                  <a:srgbClr val="ff3399"/>
                </a:solidFill>
                <a:uFillTx/>
                <a:latin typeface="Times New Roman"/>
              </a:rPr>
              <a:t> Architecture</a:t>
            </a:r>
            <a:r>
              <a:rPr b="1" i="1" lang="en-US" sz="1600" spc="-1" strike="noStrike">
                <a:solidFill>
                  <a:srgbClr val="ff3399"/>
                </a:solidFill>
                <a:latin typeface="Times New Roman"/>
              </a:rPr>
              <a:t> for R99 (Packet Doma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126520" y="5105520"/>
            <a:ext cx="35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G Packet-Switched Intercept Configu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6095880" y="3276720"/>
            <a:ext cx="1600200" cy="380880"/>
          </a:xfrm>
          <a:prstGeom prst="wedgeRoundRectCallout">
            <a:avLst>
              <a:gd name="adj1" fmla="val -47518"/>
              <a:gd name="adj2" fmla="val 164583"/>
              <a:gd name="adj3" fmla="val 16667"/>
            </a:avLst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cc99"/>
                </a:solidFill>
                <a:latin typeface="Times New Roman"/>
              </a:rPr>
              <a:t>GSN Data 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19:14:42Z</dcterms:created>
  <dc:creator>Ronald D. (Ron) Ryan</dc:creator>
  <dc:description/>
  <dc:language>en-US</dc:language>
  <cp:lastModifiedBy>Superuser</cp:lastModifiedBy>
  <dcterms:modified xsi:type="dcterms:W3CDTF">2001-09-03T10:57:12Z</dcterms:modified>
  <cp:revision>148</cp:revision>
  <dc:subject>Lawful Intercept</dc:subject>
  <dc:title>Overview of 3G UMTS LI Capabilities</dc:title>
</cp:coreProperties>
</file>