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ABBC5-EBEF-4FB9-9775-924F302D11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5C85-882D-489A-98C6-EBE8C93C9A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47653-220F-45D0-8FF7-7541C12D0E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7724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8360" y="232236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0612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7724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8360" y="4183200"/>
            <a:ext cx="244836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0B497-C9CC-4791-B8F4-B6D3BE6912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8A38B-5222-4B90-A955-31AC95A6579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CB951-79A4-4244-946C-38F14A9BF7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81DEC-A6E5-46CA-9775-7FE13A57C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229F1-CA24-459E-822F-4CE2AD0EC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1160" y="173160"/>
            <a:ext cx="7599600" cy="733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47E90-76CE-4892-B543-A2854B3AAB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45FB1-FDCE-4FD5-8B05-8C572A9EC1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2760" y="418320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822FD-6787-426C-8B10-161B1B0574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0612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2760" y="2322360"/>
            <a:ext cx="37108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06120" y="4183200"/>
            <a:ext cx="7604280" cy="1699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A7916-6C56-42F8-BEE0-34A0220F41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36614C9-6635-4321-805F-6C11241091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906120" y="2322360"/>
            <a:ext cx="7604280" cy="356256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 indent="0">
              <a:lnSpc>
                <a:spcPts val="25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1" marL="287280" indent="-172800">
              <a:lnSpc>
                <a:spcPts val="2500"/>
              </a:lnSpc>
              <a:buClr>
                <a:srgbClr val="ffffff"/>
              </a:buClr>
              <a:buSzPct val="68000"/>
              <a:buFont typeface="Wingdings" charset="2"/>
              <a:buChar char="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3" marL="16002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4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5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6" marL="2057400" indent="-228600">
              <a:lnSpc>
                <a:spcPts val="2500"/>
              </a:lnSpc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ele-GroteskUl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le-Antiqu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" name=""/>
          <p:cNvSpPr/>
          <p:nvPr/>
        </p:nvSpPr>
        <p:spPr>
          <a:xfrm>
            <a:off x="-271800" y="6232680"/>
            <a:ext cx="3420360" cy="6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====!</a:t>
            </a:r>
            <a:r>
              <a:rPr b="0" lang="de-DE" sz="3500" spc="-1" strike="noStrike">
                <a:solidFill>
                  <a:srgbClr val="f00580"/>
                </a:solidFill>
                <a:latin typeface="TeleLogo"/>
              </a:rPr>
              <a:t>"</a:t>
            </a:r>
            <a:r>
              <a:rPr b="0" lang="de-DE" sz="3500" spc="-1" strike="noStrike">
                <a:solidFill>
                  <a:srgbClr val="ffffff"/>
                </a:solidFill>
                <a:latin typeface="TeleLogo"/>
              </a:rPr>
              <a:t>§=!Nova§</a:t>
            </a:r>
            <a:endParaRPr b="0" lang="en-US" sz="35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 algn="ctr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 </a:t>
            </a: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EU-Project SHAMAN</a:t>
            </a:r>
            <a:br>
              <a:rPr sz="4400"/>
            </a:br>
            <a:r>
              <a:rPr b="0" lang="de-DE" sz="3200" spc="-1" strike="noStrike">
                <a:solidFill>
                  <a:srgbClr val="ffffff"/>
                </a:solidFill>
                <a:latin typeface="Tele-Antiqua"/>
              </a:rPr>
              <a:t>Security for Heterogeneous Access in Mobile Applications and Network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ele-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109000" cy="356220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 fontScale="79000"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SHAMAN is the successor of the EU-Projects ASPeCT (Advanced Security for Personal Communications Technologies, ACTS 095) and USECA (UMTS Security Architecture, ACTS 336)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Both projects delivered valuable input for the UMTS-standardisation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Involved parties in the USECA-Project: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erator: Vodafo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nufactures: Siemens, Panasonic, Giesecke &amp; Devr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902880" indent="-18036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Katholieke Universiteit Leuve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040" y="11430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spcAft>
                <a:spcPts val="601"/>
              </a:spcAft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1 – Security for global roaming in IP-based mobile      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	</a:t>
            </a: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networks with heterogeneous access network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secure protocols for heterogeneous IP-based access networks, e.g. Wireless LANs, Bluetooth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ts val="2500"/>
              </a:lnSpc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2 – Unified Security architecture for future mobile terminals and applications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velopment of an Security-architecture for mobile terminals as well as for the service and application enviro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f177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1160" y="173160"/>
            <a:ext cx="7599600" cy="158112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Autofit/>
          </a:bodyPr>
          <a:p>
            <a:pPr indent="0">
              <a:lnSpc>
                <a:spcPts val="4099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ele-Antiqua"/>
              </a:rPr>
              <a:t>SHAMAN Workpackages</a:t>
            </a:r>
            <a:endParaRPr b="0" lang="en-US" sz="4400" spc="-1" strike="noStrike">
              <a:solidFill>
                <a:srgbClr val="ffffff"/>
              </a:solidFill>
              <a:latin typeface="Tele-Antiqu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400" y="685800"/>
            <a:ext cx="8229600" cy="5921280"/>
          </a:xfrm>
          <a:prstGeom prst="rect">
            <a:avLst/>
          </a:prstGeom>
          <a:noFill/>
          <a:ln w="0">
            <a:noFill/>
          </a:ln>
        </p:spPr>
        <p:txBody>
          <a:bodyPr lIns="76320" rIns="76320" tIns="38160" bIns="38160" anchor="t">
            <a:normAutofit/>
          </a:bodyPr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3 - Public Key Infrastructure for next generation mobile telecommunication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finition of Interoperability Requirements for PKIs in future heterogeneous networ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rvey of usage possibilities of PKI in mobile networks, e.g. for Core Network Sec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4 – Security module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dentification of components in mobile terminals, which need physical and cryptographic protection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5 – Prototypes and demonstrators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  <a:p>
            <a:pPr>
              <a:lnSpc>
                <a:spcPts val="2500"/>
              </a:lnSpc>
              <a:buClr>
                <a:srgbClr val="ffffff"/>
              </a:buClr>
              <a:buFont typeface="Tele-GroteskUlt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WP6 – External relations and liaison with standards bodies </a:t>
            </a:r>
            <a:br>
              <a:rPr sz="2600"/>
            </a:br>
            <a:r>
              <a:rPr b="0" lang="en-GB" sz="2600" spc="-1" strike="noStrike">
                <a:solidFill>
                  <a:srgbClr val="ffffff"/>
                </a:solidFill>
                <a:latin typeface="Tele-GroteskUlt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ele-GroteskU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9T12:03:46Z</dcterms:created>
  <dc:creator>Bernd Adams</dc:creator>
  <dc:description/>
  <dc:language>en-US</dc:language>
  <cp:lastModifiedBy>Bernd Adams</cp:lastModifiedBy>
  <cp:lastPrinted>2000-05-29T14:30:08Z</cp:lastPrinted>
  <dcterms:modified xsi:type="dcterms:W3CDTF">2001-03-07T13:53:07Z</dcterms:modified>
  <cp:revision>6</cp:revision>
  <dc:subject/>
  <dc:title>Das EU-Projekt SHAMAN Security for heterogeneous access in mobile applications and networks </dc:title>
</cp:coreProperties>
</file>