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png" ContentType="image/png"/>
  <Override PartName="/ppt/media/image11.wmf" ContentType="image/x-wmf"/>
  <Override PartName="/ppt/media/image17.jpeg" ContentType="image/jpeg"/>
  <Override PartName="/ppt/media/image6.wmf" ContentType="image/x-wmf"/>
  <Override PartName="/ppt/media/image19.jpeg" ContentType="image/jpeg"/>
  <Override PartName="/ppt/media/image20.jpeg" ContentType="image/jpeg"/>
  <Override PartName="/ppt/media/image18.jpeg" ContentType="image/jpeg"/>
  <Override PartName="/ppt/media/image16.wmf" ContentType="image/x-wmf"/>
  <Override PartName="/ppt/media/image14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5.wmf" ContentType="image/x-wmf"/>
  <Override PartName="/ppt/media/image7.jpeg" ContentType="image/jpeg"/>
  <Override PartName="/ppt/media/image4.jpeg" ContentType="image/jpeg"/>
  <Override PartName="/ppt/media/image2.png" ContentType="image/png"/>
  <Override PartName="/ppt/media/image10.wmf" ContentType="image/x-wmf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defRPr>
            </a:lvl1pPr>
          </a:lstStyle>
          <a:p>
            <a:pPr marL="216000" indent="0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  <a:ea typeface="Times New Roman (Hebrew)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 rtl="1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362B62C-19C9-4807-8F18-17F0B9275A0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st to Co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wo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a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y play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ach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Coordin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9.png"/><Relationship Id="rId7" Type="http://schemas.openxmlformats.org/officeDocument/2006/relationships/image" Target="../media/image10.wmf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990000"/>
            <a:ext cx="777240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Tahoma"/>
              </a:rPr>
              <a:t>Total LI Compliance using Turn-key Applications and Solution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114800" y="4010760"/>
            <a:ext cx="5029200" cy="19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ami Mittelma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V.P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466e"/>
                </a:solidFill>
                <a:latin typeface="Arial"/>
              </a:rPr>
              <a:t>Product Market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RELIAN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5" name="RELIANT" descr=""/>
          <p:cNvPicPr/>
          <p:nvPr/>
        </p:nvPicPr>
        <p:blipFill>
          <a:blip r:embed="rId1"/>
          <a:stretch/>
        </p:blipFill>
        <p:spPr>
          <a:xfrm>
            <a:off x="1371600" y="1143000"/>
            <a:ext cx="6934320" cy="519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 - Monitoring Cen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</a:t>
            </a: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pic>
        <p:nvPicPr>
          <p:cNvPr id="117" name="Reliant_Closeup" descr=""/>
          <p:cNvPicPr/>
          <p:nvPr/>
        </p:nvPicPr>
        <p:blipFill>
          <a:blip r:embed="rId1"/>
          <a:stretch/>
        </p:blipFill>
        <p:spPr>
          <a:xfrm>
            <a:off x="1905120" y="1219320"/>
            <a:ext cx="6807240" cy="51051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00920" y="1136160"/>
            <a:ext cx="120168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Coll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199440" y="2066400"/>
            <a:ext cx="2199600" cy="45828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Con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565560" y="2824560"/>
            <a:ext cx="1863000" cy="134244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an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t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93240" y="4803480"/>
            <a:ext cx="2132640" cy="1784520"/>
          </a:xfr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Revie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Tran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rt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rehensive Collec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twork (node) based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Enhanced delivery interfa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ine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runk tapp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565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ine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PST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DN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SzPct val="11565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S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DMA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APMS, DAMP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M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4100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SzPct val="11565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Packet data networks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ISP 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GPR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1XRTT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Wireless 3G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EDGE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UMT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SzPct val="11565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466e"/>
                </a:solidFill>
                <a:latin typeface="Arial"/>
              </a:rPr>
              <a:t>Microphone</a:t>
            </a:r>
            <a:endParaRPr b="1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4572000" y="4191120"/>
            <a:ext cx="644400" cy="16002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321760" y="5867280"/>
            <a:ext cx="822240" cy="6192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8"/>
          <a:stretch/>
        </p:blipFill>
        <p:spPr>
          <a:xfrm>
            <a:off x="4038480" y="2133720"/>
            <a:ext cx="1189080" cy="97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ll Communication Typ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oic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ephon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icrophon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csimil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5029200" y="2514600"/>
            <a:ext cx="82224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Open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295280"/>
            <a:ext cx="7620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y with Standard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E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Architectur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Open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eb Based - API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nnection appl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oSys (push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formation Management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523520" y="1218960"/>
            <a:ext cx="76201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Target Management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Hierarchical User Manage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User’s Access right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targ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er Oper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4724280" y="1819080"/>
            <a:ext cx="3810240" cy="2403360"/>
            <a:chOff x="4724280" y="1819080"/>
            <a:chExt cx="3810240" cy="2403360"/>
          </a:xfrm>
        </p:grpSpPr>
        <p:pic>
          <p:nvPicPr>
            <p:cNvPr id="139" name="matzeget" descr=""/>
            <p:cNvPicPr/>
            <p:nvPr/>
          </p:nvPicPr>
          <p:blipFill>
            <a:blip r:embed="rId4"/>
            <a:stretch/>
          </p:blipFill>
          <p:spPr>
            <a:xfrm>
              <a:off x="4724280" y="1991160"/>
              <a:ext cx="3810240" cy="223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 rot="18718800">
              <a:off x="5138280" y="18900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ffc65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18718800">
              <a:off x="6370920" y="192456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e-IL" sz="800" spc="-1" strike="noStrike">
                  <a:solidFill>
                    <a:srgbClr val="00cc99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18718800">
              <a:off x="7661160" y="1900800"/>
              <a:ext cx="2872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e-IL" sz="800" spc="-1" strike="noStrike">
                  <a:solidFill>
                    <a:srgbClr val="990033"/>
                  </a:solidFill>
                  <a:latin typeface="Arial"/>
                </a:rPr>
                <a:t>™</a:t>
              </a:r>
              <a:endParaRPr b="0" lang="en-US" sz="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6858000" y="4876920"/>
            <a:ext cx="155412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3520" y="3049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3520" y="1371600"/>
            <a:ext cx="7620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4Dat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 &amp; Data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rchive Serv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ong term storag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urt evidence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ystem Manag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aintenance &amp; Fault managemen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rchive Server (ARCS)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Jukebox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Media management polic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mple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Conten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all Data (CRI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ranscrip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ourt Evidence &amp; Playback St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48" name="jukebox" descr=""/>
          <p:cNvPicPr/>
          <p:nvPr/>
        </p:nvPicPr>
        <p:blipFill>
          <a:blip r:embed="rId5"/>
          <a:stretch/>
        </p:blipFill>
        <p:spPr>
          <a:xfrm>
            <a:off x="6095880" y="2666880"/>
            <a:ext cx="2379960" cy="24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Growth Products - Cont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xpoSy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formation distribu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Databas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RELIANT Visual Analys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ocation Trac Station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subscriber lo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y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Comply with the la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Delivery Verifica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LEA need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s i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f you know 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catch the ball you know h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</a:t>
            </a:r>
            <a:r>
              <a:rPr b="1" lang="en-GB" sz="3600" spc="-1" strike="noStrike">
                <a:solidFill>
                  <a:srgbClr val="2a466e"/>
                </a:solidFill>
                <a:latin typeface="Arial"/>
              </a:rPr>
              <a:t>w to throw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Security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AAA &amp; Penetration protec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thoriza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udi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Anti Viru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Network Level Securit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urn Key Solution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94920" y="9140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RealGate: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LIANT Enhanced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delivery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Store &amp; Forwar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Reliability: ammuns from network disconnection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Compress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27920" indent="-280080" algn="ctr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3200" spc="-1" strike="noStrike">
                <a:solidFill>
                  <a:srgbClr val="2a466e"/>
                </a:solidFill>
                <a:latin typeface="Arial"/>
              </a:rPr>
              <a:t>Save Communication cos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Target Administration by LEA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2640" y="1519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Country wide solu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520" y="1066680"/>
            <a:ext cx="762012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47920" y="1069920"/>
          <a:ext cx="7315200" cy="5178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069920"/>
                    <a:ext cx="7315200" cy="517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Network optimization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371600" y="1371600"/>
          <a:ext cx="7543800" cy="471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371600"/>
                    <a:ext cx="7543800" cy="47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End to End experie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nce 1984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based on AudioDisk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all investment of 870 man-years in R&amp;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50 installed system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ver 50 countries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520" y="304560"/>
            <a:ext cx="7620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compliance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520" y="144792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e winning team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duct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67" name="Kobe-Bryant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2539800" cy="20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523880" y="4114800"/>
            <a:ext cx="762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Score more points</a:t>
            </a:r>
            <a:br>
              <a:rPr sz="36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 Win more gam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33526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1523880" y="2666880"/>
            <a:ext cx="76201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" name="PhilJackson-stand" descr=""/>
          <p:cNvPicPr/>
          <p:nvPr/>
        </p:nvPicPr>
        <p:blipFill>
          <a:blip r:embed="rId4"/>
          <a:stretch/>
        </p:blipFill>
        <p:spPr>
          <a:xfrm>
            <a:off x="6095880" y="1905120"/>
            <a:ext cx="2482920" cy="2482560"/>
          </a:xfrm>
          <a:prstGeom prst="rect">
            <a:avLst/>
          </a:prstGeom>
          <a:ln w="0">
            <a:noFill/>
          </a:ln>
        </p:spPr>
      </p:pic>
      <p:pic>
        <p:nvPicPr>
          <p:cNvPr id="172" name="david_stern" descr=""/>
          <p:cNvPicPr/>
          <p:nvPr/>
        </p:nvPicPr>
        <p:blipFill>
          <a:blip r:embed="rId5"/>
          <a:stretch/>
        </p:blipFill>
        <p:spPr>
          <a:xfrm>
            <a:off x="6324480" y="2666880"/>
            <a:ext cx="2324160" cy="3048120"/>
          </a:xfrm>
          <a:prstGeom prst="rect">
            <a:avLst/>
          </a:prstGeom>
          <a:ln w="0">
            <a:noFill/>
          </a:ln>
        </p:spPr>
      </p:pic>
      <p:pic>
        <p:nvPicPr>
          <p:cNvPr id="173" name="bryant_dunk" descr=""/>
          <p:cNvPicPr/>
          <p:nvPr/>
        </p:nvPicPr>
        <p:blipFill>
          <a:blip r:embed="rId6"/>
          <a:stretch/>
        </p:blipFill>
        <p:spPr>
          <a:xfrm>
            <a:off x="6477120" y="3657600"/>
            <a:ext cx="248256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15192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Total LI solution - What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 ?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TAR-GATE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ull Network coverag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0f1e"/>
                </a:solidFill>
                <a:latin typeface="Arial"/>
              </a:rPr>
              <a:t>SAS:</a:t>
            </a: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 Same Administration &amp; Maint.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Monitor Cent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RELIANT4Data: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 Protocol 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90f1e"/>
                </a:solidFill>
                <a:latin typeface="Arial"/>
              </a:rPr>
              <a:t>System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urity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Network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Protocol Decoding Challenge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5280" y="1066320"/>
            <a:ext cx="78487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ver-expanding communication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fferent access mod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Dial-up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Cable modem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xDS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, Internet, 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1074240" indent="-214560">
              <a:spcBef>
                <a:spcPts val="700"/>
              </a:spcBef>
              <a:buClr>
                <a:srgbClr val="00cc99"/>
              </a:buClr>
              <a:buSzPct val="80000"/>
              <a:buFont typeface="Wingdings" charset="2"/>
              <a:buChar char="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New versions, applications, protocols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Needs for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rocess various protocol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Passive processing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66cc"/>
                </a:solidFill>
                <a:latin typeface="Arial"/>
              </a:rPr>
              <a:t>RELIANT4Data: all protocol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520" y="1371240"/>
            <a:ext cx="7620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ecoding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ax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ial-up mod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bile Data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Viewing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867280" y="1600200"/>
          <a:ext cx="2548080" cy="2362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54808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mplete Solution: Interne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371600"/>
            <a:ext cx="3200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rne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WW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E-mai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FT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Telne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VoIP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hat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24280" y="4038480"/>
            <a:ext cx="41148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Mobile Intern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W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1600200"/>
            <a:ext cx="4419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  <a:ea typeface="Times New Roman (Hebrew)"/>
              </a:rPr>
              <a:t>ISP Acce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AOL 5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ComuServe 200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Data Flow - Independent Conf.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828800" y="1219320"/>
          <a:ext cx="7086600" cy="545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7086600" cy="545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Integration with other system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n Solu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tandard Input / Output interface 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ntegration with...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Delivery system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Line tapping probes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Monitoring Center (MC)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ast deploymen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ost-to-Cost vs. Team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5T19:31:41Z</dcterms:created>
  <dc:creator>Infosys</dc:creator>
  <dc:description/>
  <cp:keywords>Reliant TND</cp:keywords>
  <dc:language>en-US</dc:language>
  <cp:lastModifiedBy>Infosys</cp:lastModifiedBy>
  <cp:lastPrinted>2001-05-31T19:21:20Z</cp:lastPrinted>
  <dcterms:modified xsi:type="dcterms:W3CDTF">2001-06-04T13:47:31Z</dcterms:modified>
  <cp:revision>18</cp:revision>
  <dc:subject/>
  <dc:title>Total LI Compliance using Turn-key Applications and Solutions</dc:title>
</cp:coreProperties>
</file>