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E04CB48-C796-40FB-8FAC-2A01EE32B0BD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</a:t>
              </a: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-doi@olug.gr.jp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脱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B-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開発事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沖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U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土居俊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 Toshihi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-doi@olug.gr.j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log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pher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等のプーリングを利用するこ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業務ロジックの実行の為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ーバが必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ストしづら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独自のプーリ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あれば良いので、テストが容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単純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コーディングレスで発行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動的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自分でコーディ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解消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3718080"/>
            <a:ext cx="6705360" cy="2702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name=“fooSelectHandler"        class="org.seasar.extension.jdbc.impl.BasicSelectHandler"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sq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"SELECT column1, column2 FROM ATABLE WHERE column1 = ?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property name="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"org.seasar.extension.jdbc.impl.BeanResultSetHandler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rg&gt;@org.t_doi.db.Foo@class&lt;/ar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データを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テスト終了後に勝手にロールバッ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3352680"/>
            <a:ext cx="6705720" cy="12045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void testSearchTx(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adXlsAllReplaceDb("./testdata/foo-info.xls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 result = search.search("902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sertEquals(902, foo.getId(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962520"/>
            <a:ext cx="2057400" cy="990360"/>
          </a:xfrm>
          <a:prstGeom prst="wedgeRoundRectCallout">
            <a:avLst>
              <a:gd name="adj1" fmla="val -100541"/>
              <a:gd name="adj2" fmla="val -6650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l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にテストデータを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へ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適用も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クラス（業務ロジック）のインスタンス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設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753000"/>
            <a:ext cx="6705360" cy="26517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class FooAction extends Action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ivate FooLogic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FooAction (FooLogic fooLogic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. fooLogic = foo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ublic ActionForward execute(…)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oLogic.foo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4495680"/>
            <a:ext cx="2057400" cy="990720"/>
          </a:xfrm>
          <a:prstGeom prst="wedgeRoundRectCallout">
            <a:avLst>
              <a:gd name="adj1" fmla="val -92824"/>
              <a:gd name="adj2" fmla="val -5256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se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から設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画面（プレゼンテーション）と業務ロジックを個別に開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tsTest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仕様変更時には全テストを再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生産ステップ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step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予定は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st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が楽しい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9320" y="2590920"/>
            <a:ext cx="2133360" cy="21333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4191120"/>
            <a:ext cx="3733560" cy="220968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5105520"/>
            <a:ext cx="1905120" cy="685800"/>
          </a:xfrm>
          <a:prstGeom prst="leftArrow">
            <a:avLst>
              <a:gd name="adj1" fmla="val 50000"/>
              <a:gd name="adj2" fmla="val 69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某社向けテレビ会議システ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j0223504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633600" cy="738360"/>
          </a:xfrm>
          <a:prstGeom prst="rect">
            <a:avLst/>
          </a:prstGeom>
          <a:ln w="0">
            <a:noFill/>
          </a:ln>
        </p:spPr>
      </p:pic>
      <p:pic>
        <p:nvPicPr>
          <p:cNvPr id="96" name="j0223506" descr=""/>
          <p:cNvPicPr/>
          <p:nvPr/>
        </p:nvPicPr>
        <p:blipFill>
          <a:blip r:embed="rId2"/>
          <a:stretch/>
        </p:blipFill>
        <p:spPr>
          <a:xfrm>
            <a:off x="4876920" y="4856040"/>
            <a:ext cx="1292040" cy="1163880"/>
          </a:xfrm>
          <a:prstGeom prst="rect">
            <a:avLst/>
          </a:prstGeom>
          <a:ln w="0">
            <a:noFill/>
          </a:ln>
        </p:spPr>
      </p:pic>
      <p:pic>
        <p:nvPicPr>
          <p:cNvPr id="97" name="j0223506" descr=""/>
          <p:cNvPicPr/>
          <p:nvPr/>
        </p:nvPicPr>
        <p:blipFill>
          <a:blip r:embed="rId3"/>
          <a:stretch/>
        </p:blipFill>
        <p:spPr>
          <a:xfrm>
            <a:off x="4952880" y="2819520"/>
            <a:ext cx="1292400" cy="1163520"/>
          </a:xfrm>
          <a:prstGeom prst="rect">
            <a:avLst/>
          </a:prstGeom>
          <a:ln w="0">
            <a:noFill/>
          </a:ln>
        </p:spPr>
      </p:pic>
      <p:pic>
        <p:nvPicPr>
          <p:cNvPr id="98" name="j0223504" descr=""/>
          <p:cNvPicPr/>
          <p:nvPr/>
        </p:nvPicPr>
        <p:blipFill>
          <a:blip r:embed="rId4"/>
          <a:stretch/>
        </p:blipFill>
        <p:spPr>
          <a:xfrm>
            <a:off x="1219320" y="3352680"/>
            <a:ext cx="633240" cy="738360"/>
          </a:xfrm>
          <a:prstGeom prst="rect">
            <a:avLst/>
          </a:prstGeom>
          <a:ln w="0">
            <a:noFill/>
          </a:ln>
        </p:spPr>
      </p:pic>
      <p:pic>
        <p:nvPicPr>
          <p:cNvPr id="99" name="j0223504" descr=""/>
          <p:cNvPicPr/>
          <p:nvPr/>
        </p:nvPicPr>
        <p:blipFill>
          <a:blip r:embed="rId5"/>
          <a:stretch/>
        </p:blipFill>
        <p:spPr>
          <a:xfrm>
            <a:off x="1905120" y="3986280"/>
            <a:ext cx="633240" cy="73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19520" y="32767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67000" y="4152240"/>
            <a:ext cx="762120" cy="533520"/>
          </a:xfrm>
          <a:prstGeom prst="leftArrow">
            <a:avLst>
              <a:gd name="adj1" fmla="val 50000"/>
              <a:gd name="adj2" fmla="val 35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j0223504" descr=""/>
          <p:cNvPicPr/>
          <p:nvPr/>
        </p:nvPicPr>
        <p:blipFill>
          <a:blip r:embed="rId6"/>
          <a:stretch/>
        </p:blipFill>
        <p:spPr>
          <a:xfrm>
            <a:off x="1981080" y="5181480"/>
            <a:ext cx="633600" cy="73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767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録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4114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情報登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視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3886200"/>
            <a:ext cx="1523880" cy="914400"/>
          </a:xfrm>
          <a:prstGeom prst="wedgeEllipseCallout">
            <a:avLst>
              <a:gd name="adj1" fmla="val -66875"/>
              <a:gd name="adj2" fmla="val 6423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41148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s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適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会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レームワークとし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予定規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/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工程は詳細設計から結合テストま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期間は約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ヶ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ーディング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開発要員は４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業務ロジックをどう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特にトランザクション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オリジナルフレームワークの採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利用？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er Managed Trans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サーバは高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どは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採用するほどのシステム規模では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採用　その理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ンセプトが良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解体と再構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易しさと優し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本語ドキュメントが充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指向（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DD(Test Driven Developmen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C(Design by Contract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沖縄在住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が使ってみたかっ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グラマを楽しくさせる何かがそこに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2209680"/>
            <a:ext cx="32767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ラーフレームワークの予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198108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プレゼンテーショ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2209680"/>
            <a:ext cx="35053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198108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業務ロジ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2819520"/>
            <a:ext cx="198144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30481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？？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4495680"/>
            <a:ext cx="121896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572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pe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4952880"/>
            <a:ext cx="121896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50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4572000"/>
            <a:ext cx="121932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46623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7698600">
            <a:off x="1409760" y="3885840"/>
            <a:ext cx="838080" cy="457200"/>
          </a:xfrm>
          <a:prstGeom prst="leftArrow">
            <a:avLst>
              <a:gd name="adj1" fmla="val 50000"/>
              <a:gd name="adj2" fmla="val 4582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rot="13901400">
            <a:off x="2933280" y="3847680"/>
            <a:ext cx="838080" cy="457560"/>
          </a:xfrm>
          <a:prstGeom prst="leftArrow">
            <a:avLst>
              <a:gd name="adj1" fmla="val 50000"/>
              <a:gd name="adj2" fmla="val 4579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3886200"/>
            <a:ext cx="457200" cy="914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2819520"/>
            <a:ext cx="198108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？？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4710240"/>
            <a:ext cx="1219320" cy="609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48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ＥＪ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7698600">
            <a:off x="5219280" y="4000320"/>
            <a:ext cx="838440" cy="457200"/>
          </a:xfrm>
          <a:prstGeom prst="leftArrow">
            <a:avLst>
              <a:gd name="adj1" fmla="val 50000"/>
              <a:gd name="adj2" fmla="val 4584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629400" y="3758400"/>
            <a:ext cx="1981080" cy="1880280"/>
            <a:chOff x="6629400" y="3758400"/>
            <a:chExt cx="1981080" cy="1880280"/>
          </a:xfrm>
        </p:grpSpPr>
        <p:grpSp>
          <p:nvGrpSpPr>
            <p:cNvPr id="137" name=""/>
            <p:cNvGrpSpPr/>
            <p:nvPr/>
          </p:nvGrpSpPr>
          <p:grpSpPr>
            <a:xfrm>
              <a:off x="6629400" y="4710240"/>
              <a:ext cx="1981080" cy="928440"/>
              <a:chOff x="6629400" y="4710240"/>
              <a:chExt cx="1981080" cy="928440"/>
            </a:xfrm>
          </p:grpSpPr>
          <p:sp>
            <p:nvSpPr>
              <p:cNvPr id="138" name=""/>
              <p:cNvSpPr/>
              <p:nvPr/>
            </p:nvSpPr>
            <p:spPr>
              <a:xfrm>
                <a:off x="6629400" y="4710240"/>
                <a:ext cx="1600200" cy="9284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81680" y="4906800"/>
                <a:ext cx="1828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Sease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 rot="13901400">
              <a:off x="6743520" y="4000320"/>
              <a:ext cx="838440" cy="456840"/>
            </a:xfrm>
            <a:prstGeom prst="leftArrow">
              <a:avLst>
                <a:gd name="adj1" fmla="val 50000"/>
                <a:gd name="adj2" fmla="val 45883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219320" y="571500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比較的多い選択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(Aspect Oriented Program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プーリ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J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わなかった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Hiber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ape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ランザクションの自動制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(Plain Old Java Objec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トランザクション制御を付加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する対象のトランザクション制御を気にしなくて良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429000"/>
            <a:ext cx="7238880" cy="24998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onent class=“org.t_doi.db.impl.Foo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db.impl.BarDao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Hoge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3581280"/>
            <a:ext cx="2362320" cy="1067040"/>
          </a:xfrm>
          <a:prstGeom prst="wedgeRoundRectCallout">
            <a:avLst>
              <a:gd name="adj1" fmla="val -89314"/>
              <a:gd name="adj2" fmla="val -3214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データアクセ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モデル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4800600"/>
            <a:ext cx="2133720" cy="914400"/>
          </a:xfrm>
          <a:prstGeom prst="wedgeRoundRectCallout">
            <a:avLst>
              <a:gd name="adj1" fmla="val -106250"/>
              <a:gd name="adj2" fmla="val 1493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業務ロジックを実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pect Oriented Program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ログ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TraceIntercepto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を利用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(</a:t>
            </a:r>
            <a:r>
              <a:rPr b="0" lang="en-US" sz="2800" spc="-1" strike="noStrike">
                <a:solidFill>
                  <a:srgbClr val="333333"/>
                </a:solidFill>
                <a:latin typeface="ＭＳ Ｐゴシック"/>
              </a:rPr>
              <a:t>Seaser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に標準添付</a:t>
            </a:r>
            <a:r>
              <a:rPr b="0" lang="ja-JP" sz="2800" spc="-1" strike="noStrike">
                <a:solidFill>
                  <a:srgbClr val="333333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行時間計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3767040"/>
            <a:ext cx="7238880" cy="1666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name="processTimeInterceptor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ass=“org.t_doi.aop.ProcessTimeInterceptor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component class=“org.t_doi.logic.impl.FooLogicImpl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j2ee.requiredTx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aspect&gt;processTimeInterceptor&lt;/aspec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/component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3962520"/>
            <a:ext cx="1828800" cy="914400"/>
          </a:xfrm>
          <a:prstGeom prst="wedgeRoundRectCallout">
            <a:avLst>
              <a:gd name="adj1" fmla="val -114842"/>
              <a:gd name="adj2" fmla="val -3281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時間計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</cp:lastModifiedBy>
  <dcterms:modified xsi:type="dcterms:W3CDTF">2004-06-05T15:34:18Z</dcterms:modified>
  <cp:revision>19</cp:revision>
  <dc:subject/>
  <dc:title>PowerPoint Presentation</dc:title>
</cp:coreProperties>
</file>