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DB18-A9C7-4F46-B012-CE54DB735CA4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9FE5-9F92-43B3-9BBD-18831971B29D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Trickle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的軽量ワークフローエンジ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吉原　日出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吉原　日出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会社：有限会社ヌーラボ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ttp://www.nulab.co.jp/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800" spc="-1" strike="noStrike">
                <a:solidFill>
                  <a:srgbClr val="e6c7b3"/>
                </a:solidFill>
                <a:latin typeface="Arial"/>
              </a:rPr>
              <a:t>ぬーベージュ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#E6C7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http://trickle.oscj.net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てなんです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利用した軽量ワークフローエンジ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を利用しているの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利用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との親和性も高い（は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は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拡張タグでワークフローを制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4941720"/>
            <a:ext cx="7345440" cy="1440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ところで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』の意味は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「滴」で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滴がポタッポタッと規則正しく落ちるさまが、まるでフロー制御を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彷彿させて、キュート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某課題管理システムの開発現場に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状態毎の振分け処理は、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State Pattern 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使ってもあまり気持良いもんじゃないですよ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ですです、サービスで処理するのか、アクションで処理するの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それに、前状態の検証とか必要だろう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承認や、アクセス制限の要望も出そうですよ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状態遷移も色々変えたくなりますよ、きっ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ワークフローエンジンですかね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J▲R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も、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OSW☆rk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㌶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low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使ってるみたいです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♂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SWor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㊨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flo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ゥは、複雑で、ちょっと重すぎますね。（；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´д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｀ 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じゃあ作っちゃいましょう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 ・・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 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対応で、設定ファイルも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dicon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みたいに書けたら素敵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処理フローはステップと呼ばれる作業単位に分割され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ローの条件分岐を制御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63640" y="2276640"/>
            <a:ext cx="4918320" cy="641520"/>
          </a:xfrm>
          <a:prstGeom prst="rect">
            <a:avLst/>
          </a:prstGeom>
          <a:solidFill>
            <a:srgbClr val="99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ctivity step="1" status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　　　　　　　　　　・・・省略・・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activ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35280" y="4387680"/>
            <a:ext cx="4917960" cy="1554120"/>
          </a:xfrm>
          <a:prstGeom prst="rect">
            <a:avLst/>
          </a:prstGeom>
          <a:solidFill>
            <a:srgbClr val="99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ctivity step="1" status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ransition id="2" name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次は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・・・省略・・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trans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ransition id="3" name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次は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・・・省略・・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trans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activ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状態固有の処理を行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結果によって、次に遷移するステップが確定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や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検証とし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を設ける事ができます。用途は、ユーザ認証や、ステップの同期等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3789360"/>
            <a:ext cx="6912000" cy="2466720"/>
          </a:xfrm>
          <a:prstGeom prst="rect">
            <a:avLst/>
          </a:prstGeom>
          <a:solidFill>
            <a:srgbClr val="99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activity step="1" status="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cond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componentclass="org.seasa.trickle.restriction.ConforManceCondition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property name="step"&gt;"*"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cond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transition id="2" name="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次は２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action&gt;defalutAction&lt;/a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results name="success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result step="2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result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trans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activ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デモンストレ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アプリケーションと連携したデモを当日までに、間に合えば用意したい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orkflow Patter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も対応した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is.tm.tue.nl/research/pattern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解析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やらせたり、反則技を使ったり、と問題ありなのでぜひぜひたたき上げて欲し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ワークフローを教え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素敵なデザインツールが欲しいなあ。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もね、「これくらいが、丁度良い」で十分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は、軽量ワークフローエンジン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欲しかったから作ってみましたが、正直用途があるのかは、わかりませ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「これくらいが丁度良い」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羽生　章洋</dc:creator>
  <dc:description/>
  <dc:language>en-US</dc:language>
  <cp:lastModifiedBy>羽生　章洋</cp:lastModifiedBy>
  <dcterms:modified xsi:type="dcterms:W3CDTF">2005-07-14T02:54:51Z</dcterms:modified>
  <cp:revision>627</cp:revision>
  <dc:subject/>
  <dc:title>くーす本の内容を先取り！ DI時代の業務システム構築技法 ～業務分析からシステム設計・開発までを一気に突っ走る～</dc:title>
</cp:coreProperties>
</file>