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6FEA-BD67-4E72-B0A7-C2ACA353C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32F2-B7F8-4365-947A-F5649E51E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BBB6-3965-41D8-AF54-2DBFF4447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95B8-0360-4907-9887-CF479FB12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D8F2-F84D-4051-A0B7-F13DA12FA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9130-2202-4EE2-BA54-B405DBD82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43E0-7467-4BCF-8716-BB19881A5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B2B0-ACC2-482A-B223-F6CB7186A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4AFE-8A36-4A6B-837C-36B02028C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BA12-DF3A-4A4B-B1B3-E4C5CE4FA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D2EC-57A8-4AB3-B427-61EA3906D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2FA1-23E8-4095-B51F-87D646027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13929-186E-4954-9AAD-2956CE4D25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疑似端末のしく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928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a Te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69228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340000" y="69228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6836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42920" y="1341360"/>
            <a:ext cx="122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27280" y="1844640"/>
            <a:ext cx="1079640" cy="289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dev/pty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95640" y="1844640"/>
            <a:ext cx="1079640" cy="289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dev/tty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132000" y="1341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19640" y="134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19640" y="1557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00720" y="155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08360" y="836640"/>
            <a:ext cx="1008000" cy="576360"/>
          </a:xfrm>
          <a:prstGeom prst="wedgeRoundRectCallout">
            <a:avLst>
              <a:gd name="adj1" fmla="val -43384"/>
              <a:gd name="adj2" fmla="val 706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penpty(3)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で疑似端末を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050920" y="2565360"/>
            <a:ext cx="669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547640" y="549360"/>
            <a:ext cx="0" cy="5904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47640" y="1052640"/>
            <a:ext cx="72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/2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9640" y="227664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空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79640" y="2637000"/>
            <a:ext cx="100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カーネル空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84360" y="2997360"/>
            <a:ext cx="115272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マスターデバイ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ドライ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ty_mast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067280" y="2997360"/>
            <a:ext cx="115236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スレーブデバイ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ドライ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ty_slav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67280" y="4221000"/>
            <a:ext cx="115236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端末ライ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ィシプリ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N_TT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03640" y="2133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2133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635280" y="3357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716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86728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843280" y="692280"/>
            <a:ext cx="3457440" cy="433080"/>
          </a:xfrm>
          <a:custGeom>
            <a:avLst/>
            <a:gdLst/>
            <a:ahLst/>
            <a:rect l="l" t="t" r="r" b="b"/>
            <a:pathLst>
              <a:path w="2178" h="273">
                <a:moveTo>
                  <a:pt x="91" y="273"/>
                </a:moveTo>
                <a:cubicBezTo>
                  <a:pt x="45" y="182"/>
                  <a:pt x="0" y="91"/>
                  <a:pt x="136" y="46"/>
                </a:cubicBezTo>
                <a:cubicBezTo>
                  <a:pt x="272" y="1"/>
                  <a:pt x="606" y="0"/>
                  <a:pt x="908" y="0"/>
                </a:cubicBezTo>
                <a:cubicBezTo>
                  <a:pt x="1210" y="0"/>
                  <a:pt x="1739" y="1"/>
                  <a:pt x="1951" y="46"/>
                </a:cubicBezTo>
                <a:cubicBezTo>
                  <a:pt x="2163" y="91"/>
                  <a:pt x="2170" y="182"/>
                  <a:pt x="2178" y="2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43640" y="260280"/>
            <a:ext cx="1152720" cy="576360"/>
          </a:xfrm>
          <a:prstGeom prst="wedgeRoundRectCallout">
            <a:avLst>
              <a:gd name="adj1" fmla="val -73689"/>
              <a:gd name="adj2" fmla="val 4531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子プロセスとして起動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580000" y="1844640"/>
            <a:ext cx="79236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intf(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80000" y="2276640"/>
            <a:ext cx="79236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rite(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012000" y="155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012000" y="20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580000" y="2708280"/>
            <a:ext cx="792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12000" y="2492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651640" y="4005360"/>
            <a:ext cx="2520720" cy="115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 c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219640" y="450864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724360" y="4076640"/>
            <a:ext cx="79236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580000" y="3357720"/>
            <a:ext cx="2521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F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771640" y="1557360"/>
            <a:ext cx="144720" cy="28728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003280" y="1484280"/>
            <a:ext cx="863640" cy="36036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012000" y="3068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12000" y="371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1844640"/>
            <a:ext cx="792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anf(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093080" y="2276640"/>
            <a:ext cx="79200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d(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32720" y="134136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24720" y="134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524720" y="20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524720" y="2492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093080" y="2708280"/>
            <a:ext cx="79200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_rea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524720" y="3068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24720" y="371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64360" y="4076640"/>
            <a:ext cx="79236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_rea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71640" y="5734080"/>
            <a:ext cx="1368360" cy="214200"/>
          </a:xfrm>
          <a:prstGeom prst="leftRightArrow">
            <a:avLst>
              <a:gd name="adj1" fmla="val 50000"/>
              <a:gd name="adj2" fmla="val 12717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71640" y="602136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ウィンドウサイズ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8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067280" y="5661000"/>
            <a:ext cx="1152360" cy="214200"/>
          </a:xfrm>
          <a:prstGeom prst="leftRightArrow">
            <a:avLst>
              <a:gd name="adj1" fmla="val 50000"/>
              <a:gd name="adj2" fmla="val 10709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95640" y="602136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ウィンドウサイズ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9-07T11:23:16Z</dcterms:modified>
  <cp:revision>412</cp:revision>
  <dc:subject/>
  <dc:title>DDEのしくみ</dc:title>
</cp:coreProperties>
</file>