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132200" y="2669040"/>
            <a:ext cx="3795480" cy="89532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Telecom Networks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0440" y="1904760"/>
            <a:ext cx="50007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verse Infosy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14800" y="2562480"/>
            <a:ext cx="42228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ir Sperl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Presid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elecom Network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lobal Commitme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1676520" cy="29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76320" y="3352680"/>
            <a:ext cx="1552680" cy="227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0200" y="1219320"/>
            <a:ext cx="73152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20000"/>
              </a:lnSpc>
              <a:spcAft>
                <a:spcPts val="125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peration with switch vend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20000"/>
              </a:lnSpc>
              <a:spcAft>
                <a:spcPts val="1125"/>
              </a:spcAft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20000"/>
              </a:lnSpc>
              <a:spcAft>
                <a:spcPts val="1125"/>
              </a:spcAft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20000"/>
              </a:lnSpc>
              <a:spcAft>
                <a:spcPts val="1125"/>
              </a:spcAft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20000"/>
              </a:lnSpc>
              <a:spcAft>
                <a:spcPts val="1125"/>
              </a:spcAft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20000"/>
              </a:lnSpc>
              <a:spcAft>
                <a:spcPts val="1125"/>
              </a:spcAft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20000"/>
              </a:lnSpc>
              <a:spcAft>
                <a:spcPts val="125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in international standard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20000"/>
              </a:lnSpc>
              <a:spcAft>
                <a:spcPts val="125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etsy" descr=""/>
          <p:cNvPicPr/>
          <p:nvPr/>
        </p:nvPicPr>
        <p:blipFill>
          <a:blip r:embed="rId3"/>
          <a:stretch/>
        </p:blipFill>
        <p:spPr>
          <a:xfrm>
            <a:off x="1828800" y="4648320"/>
            <a:ext cx="1523880" cy="460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4340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AL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583160" y="2590920"/>
            <a:ext cx="826920" cy="338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828800" y="2652840"/>
            <a:ext cx="1600200" cy="24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827760" y="3352680"/>
            <a:ext cx="1401840" cy="300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057400" y="1981080"/>
            <a:ext cx="1130400" cy="228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553080" y="1816200"/>
            <a:ext cx="180180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7086600" y="2590920"/>
          <a:ext cx="7142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2590920"/>
                    <a:ext cx="714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>
            <a:off x="4343400" y="3200400"/>
            <a:ext cx="1368360" cy="345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76520" y="3962520"/>
            <a:ext cx="6553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5334120"/>
            <a:ext cx="6553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final" descr=""/>
          <p:cNvPicPr/>
          <p:nvPr/>
        </p:nvPicPr>
        <p:blipFill>
          <a:blip r:embed="rId1">
            <a:lum bright="70000" contrast="-70000"/>
          </a:blip>
          <a:srcRect l="4124" t="0" r="0" b="4118"/>
          <a:stretch/>
        </p:blipFill>
        <p:spPr>
          <a:xfrm>
            <a:off x="1600200" y="0"/>
            <a:ext cx="7543800" cy="6723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ustomer Car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12952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Full range of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1200" indent="-304920">
              <a:lnSpc>
                <a:spcPct val="100000"/>
              </a:lnSpc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  <a:ea typeface="Arial"/>
              </a:rPr>
              <a:t>Program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1200" indent="-304920">
              <a:lnSpc>
                <a:spcPct val="100000"/>
              </a:lnSpc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  <a:ea typeface="Arial"/>
              </a:rPr>
              <a:t>Professional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1200" indent="-304920">
              <a:lnSpc>
                <a:spcPct val="100000"/>
              </a:lnSpc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  <a:ea typeface="Arial"/>
              </a:rPr>
              <a:t>Training, including on-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1200" indent="-304920">
              <a:lnSpc>
                <a:spcPct val="100000"/>
              </a:lnSpc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  <a:ea typeface="Arial"/>
              </a:rPr>
              <a:t>3 levels of Maintenance &amp;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Local Support Off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orld-wide Partnersh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949400" y="5286240"/>
            <a:ext cx="1285920" cy="104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TopType Soncino"/>
              </a:rPr>
              <a:t>U.S.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TopType Soncino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TopType Soncino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4965840"/>
            <a:ext cx="2895480" cy="136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Tahoma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Tahoma"/>
              </a:rPr>
              <a:t>Netherl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Tahoma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Tahoma"/>
              </a:rPr>
              <a:t>Isra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5286240"/>
            <a:ext cx="2895480" cy="104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Tahoma"/>
              </a:rPr>
              <a:t>Hong Ko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Tahoma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Verdana"/>
                <a:ea typeface="Tahoma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2133360"/>
            <a:ext cx="60199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Leading Recording Solutions </a:t>
            </a:r>
            <a:br>
              <a:rPr sz="4400"/>
            </a:b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for Voice and Data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31" name="logo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486400" cy="1371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66680" y="5075280"/>
            <a:ext cx="6934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www.cominfosy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A Comverse Tech. Company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6096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2a466e"/>
                </a:solidFill>
                <a:latin typeface="Arial"/>
              </a:rPr>
              <a:t>A Comverse Technology Company </a:t>
            </a:r>
            <a:r>
              <a:rPr b="1" lang="he-IL" sz="2400" spc="-1" strike="noStrike">
                <a:solidFill>
                  <a:srgbClr val="2a466e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2a466e"/>
                </a:solidFill>
                <a:latin typeface="Arial"/>
              </a:rPr>
              <a:t>NASDAQ:CMVT)</a:t>
            </a: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2a466e"/>
                </a:solidFill>
                <a:latin typeface="Arial"/>
              </a:rPr>
              <a:t>US $1.2 Billion Revenu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2a466e"/>
                </a:solidFill>
                <a:latin typeface="Arial"/>
              </a:rPr>
              <a:t>S&amp;P 500 Index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2a466e"/>
                </a:solidFill>
                <a:latin typeface="Arial"/>
              </a:rPr>
              <a:t>NASDAQ Top 100 Company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2a466e"/>
                </a:solidFill>
                <a:latin typeface="Arial"/>
              </a:rPr>
              <a:t>Ranked 10th by Wall Street Journal in 10 year returns (13.477%)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27 Consecutive Quarters – Meeting or Beating analysts expectation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6345360" y="4734000"/>
            <a:ext cx="1104840" cy="1028520"/>
          </a:xfrm>
          <a:custGeom>
            <a:avLst/>
            <a:gdLst>
              <a:gd name="textAreaLeft" fmla="*/ 66600 w 1104840"/>
              <a:gd name="textAreaRight" fmla="*/ 1038240 w 1104840"/>
              <a:gd name="textAreaTop" fmla="*/ 66600 h 1028520"/>
              <a:gd name="textAreaBottom" fmla="*/ 961920 h 102852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S&amp;Plogo" descr=""/>
          <p:cNvPicPr/>
          <p:nvPr/>
        </p:nvPicPr>
        <p:blipFill>
          <a:blip r:embed="rId3"/>
          <a:stretch/>
        </p:blipFill>
        <p:spPr>
          <a:xfrm>
            <a:off x="7429680" y="1978200"/>
            <a:ext cx="1409400" cy="65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224840" y="3809880"/>
            <a:ext cx="1614240" cy="308160"/>
          </a:xfrm>
          <a:prstGeom prst="rect">
            <a:avLst/>
          </a:prstGeom>
          <a:ln w="0">
            <a:noFill/>
          </a:ln>
        </p:spPr>
      </p:pic>
      <p:pic>
        <p:nvPicPr>
          <p:cNvPr id="89" name="wsjlogo" descr=""/>
          <p:cNvPicPr/>
          <p:nvPr/>
        </p:nvPicPr>
        <p:blipFill>
          <a:blip r:embed="rId5"/>
          <a:stretch/>
        </p:blipFill>
        <p:spPr>
          <a:xfrm>
            <a:off x="6516720" y="3056040"/>
            <a:ext cx="2322360" cy="372960"/>
          </a:xfrm>
          <a:prstGeom prst="rect">
            <a:avLst/>
          </a:prstGeom>
          <a:ln w="0">
            <a:noFill/>
          </a:ln>
        </p:spPr>
      </p:pic>
      <p:pic>
        <p:nvPicPr>
          <p:cNvPr id="90" name="fortune" descr=""/>
          <p:cNvPicPr/>
          <p:nvPr/>
        </p:nvPicPr>
        <p:blipFill>
          <a:blip r:embed="rId6"/>
          <a:stretch/>
        </p:blipFill>
        <p:spPr>
          <a:xfrm>
            <a:off x="6829560" y="1265400"/>
            <a:ext cx="2009520" cy="3333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6781680" y="4495680"/>
            <a:ext cx="2205000" cy="1478160"/>
            <a:chOff x="6781680" y="4495680"/>
            <a:chExt cx="2205000" cy="1478160"/>
          </a:xfrm>
        </p:grpSpPr>
        <p:pic>
          <p:nvPicPr>
            <p:cNvPr id="92" name="bw50logo_2" descr=""/>
            <p:cNvPicPr/>
            <p:nvPr/>
          </p:nvPicPr>
          <p:blipFill>
            <a:blip r:embed="rId7"/>
            <a:stretch/>
          </p:blipFill>
          <p:spPr>
            <a:xfrm>
              <a:off x="7029360" y="4495680"/>
              <a:ext cx="1581120" cy="12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8"/>
            <a:stretch/>
          </p:blipFill>
          <p:spPr>
            <a:xfrm>
              <a:off x="6781680" y="5635800"/>
              <a:ext cx="2205000" cy="338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verse Infosys Fa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ntelligent Recording Solu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$140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 yearly revenues </a:t>
            </a:r>
            <a:r>
              <a:rPr b="1" lang="en-US" sz="2400" spc="-1" strike="noStrike">
                <a:solidFill>
                  <a:srgbClr val="2a466e"/>
                </a:solidFill>
                <a:latin typeface="Arial"/>
              </a:rPr>
              <a:t>(y2000)</a:t>
            </a: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850 employees worldwid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14 Global office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50 countries with our produc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2,000 satisfied customer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37% employees dedicated to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Telecom Networks Miss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liver Intelligent Recording Solutions to Law Enforcement Agencies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Provide Telecom Network Operators and ISPs with access and delivery solutions for lawful interception compliance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Market Leadership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monitor Research Ranks Comverse Infosys Market Leader*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17 years experien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EAs, ISPs, Operator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rst GPRS Delivery Syste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rst CALEA Delivery Syste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rst GSM Delivery Syste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466e"/>
                </a:solidFill>
                <a:latin typeface="Arial"/>
              </a:rPr>
              <a:t>*S</a:t>
            </a:r>
            <a:r>
              <a:rPr b="1" lang="en-US" sz="1800" spc="-1" strike="noStrike">
                <a:solidFill>
                  <a:srgbClr val="2a466e"/>
                </a:solidFill>
                <a:latin typeface="Arial"/>
              </a:rPr>
              <a:t>ource: Datamonitor April 2001</a:t>
            </a:r>
            <a:endParaRPr b="1" lang="en-US" sz="1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Market Leadership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Western Europ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0 accounts in Germany, Luxembourg, Netherland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astern Europe - 50% of mark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orth America - U.S., Canad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sia Pacific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8 accounts including Japan, Australi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entral/Latin Americ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7 accounts, Office in Brazi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New Era for LI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gulations/Standards for Lawful Intercep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 communications (web, fax, email, mobile data)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rators and ISPs have a major role in this aren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Telecom Network’s Role in the New Era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Based - Country Wid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stablish and Promote International regulations (ETSI, CALEA)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liver Operators regulation compliant solu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upport Packet Data Solu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Telecom Network’s Solution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ultiple Network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ultiple Switche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iance with all Regul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iance with all International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ne administration for all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nd-to-en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08:53:00Z</dcterms:created>
  <dc:creator>infosys</dc:creator>
  <dc:description/>
  <cp:keywords>Reliant TND</cp:keywords>
  <dc:language>en-US</dc:language>
  <cp:lastModifiedBy>infosys</cp:lastModifiedBy>
  <cp:lastPrinted>2001-06-04T06:19:49Z</cp:lastPrinted>
  <dcterms:modified xsi:type="dcterms:W3CDTF">2001-06-04T19:00:33Z</dcterms:modified>
  <cp:revision>85</cp:revision>
  <dc:subject/>
  <dc:title>Comverse Infosys</dc:title>
</cp:coreProperties>
</file>